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1AEC-BB28-4C05-8EAA-205A1A768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E86E-8114-4365-BC1C-28D1857B5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4EDA-B1D0-428B-B61B-68D85438A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A972-BF9F-4543-AA61-2AACAE93E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00F61-CC08-4E30-9823-811BAD77D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74B00-8B91-44EC-808F-449E46612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75E1B-6129-43A2-AA16-75A798E21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BFFC6-B788-4187-B56A-1B7D0D035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C5E98-49F3-495F-916E-72803E3DC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92F1A-382A-41C0-9975-C717E3044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37554-B881-4C69-A3B1-3BC89A33A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EC63-78B8-430E-B095-96674F3E2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0DE10-992D-4385-9282-66FBD3CED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65776-0944-4F3A-87B6-77EF0A5A9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6A32A-7212-492D-8787-A87040790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9FFEA-3399-4EA1-BDE1-BC301696E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2532D-2BC4-4217-B011-FB969DBE6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937B-6649-4B9D-9939-26CA7249A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255C-5027-41F7-ABCF-37ED62DA0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045B-EAD0-4113-8939-8BC3621FB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7DAC-55FE-40B8-A223-83DADC02F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A20E-5CAF-496E-8AF0-480AB8429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80B3-22C9-4145-A06B-01035A5DA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6783-6F1E-4836-AFD1-36D138749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8097B-F23F-4C1C-A9A9-D172DE94D79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0807F-5CDA-46AB-9E30-67077CD69B4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kp.ru/daily/25633.5/799078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БЕШЕНСТВО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строе инфекционное заболевание, вызываемое вирусом поражающим центральную нервную систем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 rot="10834200">
            <a:off x="1401480" y="916920"/>
            <a:ext cx="591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(К)ОУ Брединская СОШ № 9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читель биологии и химии Титова Марина Сергеев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54520" y="476280"/>
            <a:ext cx="89586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Челябинской области введен  карантин по бешенству в 7 район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2011 году от укусов животных пострадали почти 12 тысяч челов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 2011 год лабораторно подтверждено 147 случаев опасного заболе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 начала 2012 года выявлено 11 случаев опасного заболе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благоприятные пункты зарегистрированы в Брединском, Агаповском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шинском, Еткульском и Чебаркульском районах, а также в города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уса и Златоу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187280" y="3500280"/>
            <a:ext cx="220536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11280" y="544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51920" y="619200"/>
            <a:ext cx="34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СТОЧНИКИ ВИРУ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203640" y="1844640"/>
            <a:ext cx="1873080" cy="15843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6732720" y="4508640"/>
            <a:ext cx="2077920" cy="16570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3419640" y="4221000"/>
            <a:ext cx="2230200" cy="16574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468360" y="4437000"/>
            <a:ext cx="2016000" cy="16560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6804000" y="1700280"/>
            <a:ext cx="1933560" cy="17272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6"/>
          <a:stretch/>
        </p:blipFill>
        <p:spPr>
          <a:xfrm>
            <a:off x="250920" y="1989000"/>
            <a:ext cx="1428480" cy="13338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395280" y="342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БА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637800" y="3573360"/>
            <a:ext cx="86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И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383240" y="3500280"/>
            <a:ext cx="95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ОЛ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4360" y="6165720"/>
            <a:ext cx="136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Н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070160" y="5950080"/>
            <a:ext cx="99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Ш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734520" y="6237360"/>
            <a:ext cx="20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ЕТУЧИЕ МЫШ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ПУТИ ЗАРАЖЕНИЯ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 rot="10800000">
            <a:off x="755640" y="1915920"/>
            <a:ext cx="7996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ражение человека обычно происходит при укусах, реже – при ослюнении больными бешенством животными. Фактор передачи – слюна больного животного, с которой вирус проникает в кожу, а затем по периферическим нервам достигает ЦН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084720" y="3789360"/>
            <a:ext cx="265140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8000"/>
                </a:solidFill>
                <a:latin typeface="Times New Roman"/>
              </a:rPr>
              <a:t>БЕШЕНСТВО – СИМПТОМЫ ЗАБОЛЕВАНИЯ</a:t>
            </a:r>
            <a:endParaRPr b="0" lang="en-US" sz="33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40360" y="1700280"/>
            <a:ext cx="31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1 ФАЗА -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en-US" sz="2400" spc="-1" strike="noStrike" u="sng">
                <a:solidFill>
                  <a:srgbClr val="990033"/>
                </a:solidFill>
                <a:uFillTx/>
                <a:latin typeface="Arial"/>
              </a:rPr>
              <a:t>началь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108440" y="2565360"/>
            <a:ext cx="69778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Появляются первые признаки бешенства в местах укуса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зу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бо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припухание и покрасн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головная бо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нехватка воздух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поднимается температу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бессонница, кошмары, беспричинный стр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324000" y="811080"/>
            <a:ext cx="8716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2 фаза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период возбуждения, наступает спустя 2 – 3 дн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после появления первых призна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56680" y="2205000"/>
            <a:ext cx="8863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8000"/>
                </a:solidFill>
                <a:uFillTx/>
                <a:latin typeface="Arial"/>
              </a:rPr>
              <a:t>СИМПТОМ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ОЛЕЗНЕННЫЕ СПАЗМЫ МЫШЦ ТЕ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ГРЕССИВНОСТЬ (больные кричат, рвут на себе одежду, ломают мебель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ЯВЛЕНИЕ СЛУХОВЫХ И ЗРИТЕЛЬНЫХ ГАЛЛЮЦИНАЦ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ЫРАЖЕННАЯ ТАХИКАРД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ВЫШЕННАЯ ПОТЛИВ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СИЛЕННОЕ СЛЮНООТДЕ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ИСТУПЫ ВОДОБОЯЗ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435640" y="3716280"/>
            <a:ext cx="273528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169640" y="423720"/>
            <a:ext cx="454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3 ФАЗА -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en-US" sz="2400" spc="-1" strike="noStrike" u="sng">
                <a:solidFill>
                  <a:srgbClr val="990033"/>
                </a:solidFill>
                <a:uFillTx/>
                <a:latin typeface="Arial"/>
              </a:rPr>
              <a:t>ПАРАЛИТИЧЕ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332000" y="1916280"/>
            <a:ext cx="6665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ПАРАЛИЧИ КОНЕЧНОС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ПОРАЖЕНИЕ ЧЕРЕПНО – МОЗГОВЫХ НЕРВ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ПСИХОМОТОРНОЕ ВОЗБУЖДЕНИЕ ОСЛАБЕВА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ЧЕЛОВЕК СПОКОЕН, МОЖЕТ САМОСТОЯТЕЛЬНО Е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ПОВЫШАЕТСЯ ТЕМПЕРАТУРА ДО 40 – 42 ГРАДУ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СМЕРТЬ НАСТУПАЕТ ОТ ОСТАНОВКИ ДЫХ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ИЛИ ОСТАНОВКИ СЕРД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50920" y="4724280"/>
            <a:ext cx="822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ПРОДОЛЖИТЕЛЬНОСТЬ ЗАБОЛЕВАНИЯ РЕДКО ПРЕВЫШАЕТ НЕДЕЛЮ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8000"/>
                </a:solidFill>
                <a:latin typeface="Times New Roman"/>
              </a:rPr>
              <a:t>ЕСЛИ ВАС УКУСИЛ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32000" y="1916280"/>
            <a:ext cx="55450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9900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Промыть с мылом место уку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900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Обратиться в ближайший травмпунк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900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Провести курс прививок, назначенных врач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900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Проходя курс вакцинации от бешенства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ельзя      переохлаждаться, перегреваться, переутомлять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877080" y="4005360"/>
            <a:ext cx="208908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0033"/>
                </a:solidFill>
                <a:uFillTx/>
                <a:latin typeface="Arial"/>
                <a:hlinkClick r:id="rId1"/>
              </a:rPr>
              <a:t>http://kp.ru/daily/25633.5/799078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oxota.ho.ua/index.php?subaction=showcomments&amp;id=1290628398&amp;archive=&amp;cnshow=news&amp;start_from=&amp;ucat=4&amp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tiras.ru/zdorove/page/8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medinfa.ru/02/beshenst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www.mediazavod.ru/articles/11147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8T13:49:34Z</dcterms:created>
  <dc:creator>User</dc:creator>
  <dc:description/>
  <dc:language>en-US</dc:language>
  <cp:lastModifiedBy>КарМаН</cp:lastModifiedBy>
  <dcterms:modified xsi:type="dcterms:W3CDTF">2012-02-28T08:11:10Z</dcterms:modified>
  <cp:revision>12</cp:revision>
  <dc:subject/>
  <dc:title>БЕШЕНСТВО</dc:title>
</cp:coreProperties>
</file>