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44.jpeg" ContentType="image/jpeg"/>
  <Override PartName="/ppt/media/image45.jpeg" ContentType="image/jpeg"/>
  <Override PartName="/ppt/media/image13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4.jpeg" ContentType="image/jpeg"/>
  <Override PartName="/ppt/media/image40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2B9D-C6F8-4DE2-A445-19511DD0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502B-7B67-4F95-929A-F2589237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0EC9-5BBB-4840-A231-68AD68261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2DF0-40E3-41E5-B0DB-C5906A556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D800-3555-4FEE-89BC-599FBECF4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282B-3F40-4E6C-B24F-A6DFF938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85E9-45A0-4480-8193-4E546D78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24C8-AB0A-48B4-B9D9-4CF7F475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04FF-C11B-42AD-A208-600DF34F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C635-1564-40E8-BE14-98E38917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6D42-6225-436A-A1E3-672EB1DE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1F81-7189-47B7-9DA4-AC26DC9A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19A2-549C-4659-9008-56C7AAED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18DB-05AC-45CE-88BF-59C7336B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16AE-94D5-4564-B8FA-02D8B211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A1CA-9BF1-4655-9127-7320C9F5D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ACFC-C1B8-4450-9A05-D56CB5327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7937-2F2D-4140-8EA7-CC279064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B1FB-7975-4AA4-8B43-B8303DB1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8B96-1EBB-4976-B83F-D4E7DD5B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B155-F891-4630-AD39-D8AB8362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5291-58FE-456F-9C9B-A723D4D0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C0AB-C204-406C-A1DD-8C885B7F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DDAB-C5CB-42F5-BEF7-9B443086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4F31-2323-4F67-9389-10D0F343D4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83C6-4471-4836-B4D8-6D38817FED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http://www.nikblo.ru/NOW/now0050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ruklinok.info/_uploads/_pics/2011/004/Article_00003.jpg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www.calorizator.ru/sites/default/files/product/pepper-2.jpg" TargetMode="External"/><Relationship Id="rId8" Type="http://schemas.openxmlformats.org/officeDocument/2006/relationships/image" Target="../media/image14.jpeg"/><Relationship Id="rId9" Type="http://schemas.openxmlformats.org/officeDocument/2006/relationships/slide" Target="slide6.xml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3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hyperlink" Target="http://detivislame.ru/wp-content/uploads/2009/12/vitamin.jpg" TargetMode="External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ust-blog.info/wp-content/uploads/2010/09/b1_11.gif" TargetMode="External"/><Relationship Id="rId3" Type="http://schemas.openxmlformats.org/officeDocument/2006/relationships/image" Target="../media/image16.png"/><Relationship Id="rId4" Type="http://schemas.openxmlformats.org/officeDocument/2006/relationships/slide" Target="slide12.xm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7/72/Beriberi_USNLM.jpg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viptur.wellnet.me/attachments/Image/Flora/vitamin/B1_s.jpg" TargetMode="External"/><Relationship Id="rId5" Type="http://schemas.openxmlformats.org/officeDocument/2006/relationships/image" Target="../media/image18.jpeg"/><Relationship Id="rId6" Type="http://schemas.openxmlformats.org/officeDocument/2006/relationships/slide" Target="slide12.xml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hop.med-post.ru/img/products/product_846_img_1.jpg" TargetMode="External"/><Relationship Id="rId3" Type="http://schemas.openxmlformats.org/officeDocument/2006/relationships/image" Target="../media/image19.jpeg"/><Relationship Id="rId4" Type="http://schemas.openxmlformats.org/officeDocument/2006/relationships/hyperlink" Target="http://geo.1september.ru/2001/19/4_4.jpg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img.lady.ru/images/assets/site/2009/08/Vkusno/18/bobovie_main.jpg" TargetMode="External"/><Relationship Id="rId7" Type="http://schemas.openxmlformats.org/officeDocument/2006/relationships/image" Target="../media/image21.jpeg"/><Relationship Id="rId8" Type="http://schemas.openxmlformats.org/officeDocument/2006/relationships/hyperlink" Target="http://www.foragro.ru/images/krupa/1_pchenichnaya/krupa_1_pchenichnaya_1_h_orig.jpeg" TargetMode="External"/><Relationship Id="rId9" Type="http://schemas.openxmlformats.org/officeDocument/2006/relationships/image" Target="../media/image22.jpeg"/><Relationship Id="rId10" Type="http://schemas.openxmlformats.org/officeDocument/2006/relationships/slide" Target="slide12.xml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" Target="slide19.xml"/><Relationship Id="rId6" Type="http://schemas.openxmlformats.org/officeDocument/2006/relationships/slide" Target="slide20.xml"/><Relationship Id="rId7" Type="http://schemas.openxmlformats.org/officeDocument/2006/relationships/slide" Target="slide21.xml"/><Relationship Id="rId8" Type="http://schemas.openxmlformats.org/officeDocument/2006/relationships/slide" Target="slide22.xml"/><Relationship Id="rId9" Type="http://schemas.openxmlformats.org/officeDocument/2006/relationships/slide" Target="slide23.xml"/><Relationship Id="rId10" Type="http://schemas.openxmlformats.org/officeDocument/2006/relationships/hyperlink" Target="http://www.your-eye.ru/wp-content/uploads/2009/11/vitamin-A-i-zdorovje-glaz.jpg" TargetMode="External"/><Relationship Id="rId11" Type="http://schemas.openxmlformats.org/officeDocument/2006/relationships/image" Target="../media/image23.jpeg"/><Relationship Id="rId1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nbeauty.ru/imager.php/getnews/158/1360151891_104988_jpg" TargetMode="External"/><Relationship Id="rId3" Type="http://schemas.openxmlformats.org/officeDocument/2006/relationships/image" Target="../media/image24.jpeg"/><Relationship Id="rId4" Type="http://schemas.openxmlformats.org/officeDocument/2006/relationships/slide" Target="slide18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itaminn.ru/wp-content/themes/vitamin/images/header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leri.ru/wp-content/uploads/2010/12/a1-300x225.jpg" TargetMode="External"/><Relationship Id="rId3" Type="http://schemas.openxmlformats.org/officeDocument/2006/relationships/image" Target="../media/image25.jpeg"/><Relationship Id="rId4" Type="http://schemas.openxmlformats.org/officeDocument/2006/relationships/slide" Target="slide18.xml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leri.ru/wp-content/uploads/2010/12/a1-300x225.jpg" TargetMode="External"/><Relationship Id="rId3" Type="http://schemas.openxmlformats.org/officeDocument/2006/relationships/image" Target="../media/image26.jpeg"/><Relationship Id="rId4" Type="http://schemas.openxmlformats.org/officeDocument/2006/relationships/slide" Target="slide18.xml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36on.ru/uploads/Image/livestyle/0000094.jpg" TargetMode="External"/><Relationship Id="rId3" Type="http://schemas.openxmlformats.org/officeDocument/2006/relationships/image" Target="../media/image27.jpeg"/><Relationship Id="rId4" Type="http://schemas.openxmlformats.org/officeDocument/2006/relationships/slide" Target="slide18.xm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ady.ua/storage/images/kulinariya/kulinarnye-recepty/2010-01-17-recepty-moleculiarnoi-kuhni/kurinoe-yajco-kulinarnoe-chudo/584-1-rus-RU/Kurinoe-yajco-kulinarnoe-chudo_full.jpg" TargetMode="External"/><Relationship Id="rId3" Type="http://schemas.openxmlformats.org/officeDocument/2006/relationships/image" Target="../media/image28.jpeg"/><Relationship Id="rId4" Type="http://schemas.openxmlformats.org/officeDocument/2006/relationships/hyperlink" Target="http://www.ovochi.com/admin/bindata/_0000741_foto.ico2.jpg" TargetMode="External"/><Relationship Id="rId5" Type="http://schemas.openxmlformats.org/officeDocument/2006/relationships/image" Target="../media/image29.jpeg"/><Relationship Id="rId6" Type="http://schemas.openxmlformats.org/officeDocument/2006/relationships/hyperlink" Target="http://inmoment.ru/img/properties-parsley1.jpg" TargetMode="External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slide" Target="slide18.xml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6.xml"/><Relationship Id="rId3" Type="http://schemas.openxmlformats.org/officeDocument/2006/relationships/slide" Target="slide25.xml"/><Relationship Id="rId4" Type="http://schemas.openxmlformats.org/officeDocument/2006/relationships/slide" Target="slide27.xml"/><Relationship Id="rId5" Type="http://schemas.openxmlformats.org/officeDocument/2006/relationships/slide" Target="slide28.xml"/><Relationship Id="rId6" Type="http://schemas.openxmlformats.org/officeDocument/2006/relationships/slide" Target="slide29.xml"/><Relationship Id="rId7" Type="http://schemas.openxmlformats.org/officeDocument/2006/relationships/hyperlink" Target="http://mirsovetov.ru/images/1391/4.jpg" TargetMode="External"/><Relationship Id="rId8" Type="http://schemas.openxmlformats.org/officeDocument/2006/relationships/image" Target="../media/image32.jpeg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" Target="slide24.xm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zhivie-recepti.ru/wp-content/uploads/2011/04/vitamin-d-500x300.jpg" TargetMode="External"/><Relationship Id="rId3" Type="http://schemas.openxmlformats.org/officeDocument/2006/relationships/image" Target="../media/image34.jpeg"/><Relationship Id="rId4" Type="http://schemas.openxmlformats.org/officeDocument/2006/relationships/slide" Target="slide24.xml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etivislame.ru/wp-content/uploads/2010/01/rahit_priznak.jpg" TargetMode="External"/><Relationship Id="rId3" Type="http://schemas.openxmlformats.org/officeDocument/2006/relationships/image" Target="../media/image35.jpeg"/><Relationship Id="rId4" Type="http://schemas.openxmlformats.org/officeDocument/2006/relationships/hyperlink" Target="http://www.medikforum.ru/news/uploads/posts/2010-11/thumbs/1289649750_1.jpg" TargetMode="External"/><Relationship Id="rId5" Type="http://schemas.openxmlformats.org/officeDocument/2006/relationships/image" Target="../media/image36.jpeg"/><Relationship Id="rId6" Type="http://schemas.openxmlformats.org/officeDocument/2006/relationships/hyperlink" Target="http://endocrinolog.narod.ru/images/osteoporosis_04.jpg" TargetMode="External"/><Relationship Id="rId7" Type="http://schemas.openxmlformats.org/officeDocument/2006/relationships/image" Target="../media/image37.jpeg"/><Relationship Id="rId8" Type="http://schemas.openxmlformats.org/officeDocument/2006/relationships/slide" Target="slide24.xml"/><Relationship Id="rId9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irsovetov.ru/images/1391/3.jpg" TargetMode="External"/><Relationship Id="rId3" Type="http://schemas.openxmlformats.org/officeDocument/2006/relationships/image" Target="../media/image38.png"/><Relationship Id="rId4" Type="http://schemas.openxmlformats.org/officeDocument/2006/relationships/slide" Target="slide24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-woman.ru/wp-content/uploads/2010/04/vitamin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" Target="slide35.xml"/><Relationship Id="rId7" Type="http://schemas.openxmlformats.org/officeDocument/2006/relationships/hyperlink" Target="http://www.jv.ru/i/indoc/90/enc_entry_26260_1273070301.jpg" TargetMode="External"/><Relationship Id="rId8" Type="http://schemas.openxmlformats.org/officeDocument/2006/relationships/image" Target="../media/image39.jpeg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40.png"/><Relationship Id="rId4" Type="http://schemas.openxmlformats.org/officeDocument/2006/relationships/slide" Target="slide30.xml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isseva.ru/wp-content/uploads/2010/09/suhaya-kozha-litsa-foto.jpg" TargetMode="External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hyperlink" Target="http://www.cosmomir.ru/imgr/lt-facial-pigmentation-before-l.jpg" TargetMode="External"/><Relationship Id="rId6" Type="http://schemas.openxmlformats.org/officeDocument/2006/relationships/image" Target="../media/image44.jpeg"/><Relationship Id="rId7" Type="http://schemas.openxmlformats.org/officeDocument/2006/relationships/slide" Target="slide30.xml"/><Relationship Id="rId8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ust-blog.info/wp-content/uploads/2010/09/vitamine1.jpg" TargetMode="External"/><Relationship Id="rId3" Type="http://schemas.openxmlformats.org/officeDocument/2006/relationships/image" Target="../media/image45.jpeg"/><Relationship Id="rId4" Type="http://schemas.openxmlformats.org/officeDocument/2006/relationships/slide" Target="slide30.xml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" Target="slide30.xml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-pitanie.ru/pic/vitamini/vitamini.gif" TargetMode="External"/><Relationship Id="rId3" Type="http://schemas.openxmlformats.org/officeDocument/2006/relationships/image" Target="../media/image5.png"/><Relationship Id="rId4" Type="http://schemas.openxmlformats.org/officeDocument/2006/relationships/hyperlink" Target="http://getway.info/uploads/vitamini.jpg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hyperlink" Target="http://www.travniku.ru/store/image/zdch/vitamin_c.jpg" TargetMode="External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100vitaminov.ru/pic/cinga.jpg" TargetMode="External"/><Relationship Id="rId3" Type="http://schemas.openxmlformats.org/officeDocument/2006/relationships/image" Target="../media/image10.jpeg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332000" y="2492280"/>
            <a:ext cx="6481800" cy="22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ВИТАМИНЫ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804000" y="4724280"/>
            <a:ext cx="2340000" cy="2133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35120" y="33336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ТИТОВА МАРИНА СЕРГЕ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УЧИТЕЛЬ БИОЛОГИИ МКОУ СОШ № 9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Гипер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иаре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етеор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оли в области живо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ошно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во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чечные кам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ПРОДУК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шиповник (сухой) 120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черная смородина 20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петрушка 19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перец зеленый 100 м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Экстракт шиповника с содержанием аскорбиновой кислоты не менее 5%"/>
          <p:cNvPicPr/>
          <p:nvPr/>
        </p:nvPicPr>
        <p:blipFill>
          <a:blip r:embed="rId2"/>
          <a:stretch/>
        </p:blipFill>
        <p:spPr>
          <a:xfrm>
            <a:off x="250920" y="4941720"/>
            <a:ext cx="1619280" cy="1582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40000" y="4653000"/>
            <a:ext cx="2232000" cy="1944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3640" y="4653000"/>
            <a:ext cx="2305080" cy="2016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32720" y="2133720"/>
            <a:ext cx="2233440" cy="223344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rId9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ВИТАМИН В</a:t>
            </a:r>
            <a:r>
              <a:rPr b="0" lang="en-US" sz="4400" spc="-1" strike="noStrike" u="sng" baseline="-25000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1 </a:t>
            </a:r>
            <a:r>
              <a:rPr b="0" lang="en-US" sz="4400" spc="-1" strike="noStrike" u="sng" baseline="-25000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(тиамин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Суточная потреб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Гипер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7" action="ppaction://hlinksldjump"/>
              </a:rPr>
              <a:t>Проду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286160" y="2997360"/>
            <a:ext cx="485784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Суточная потреб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, 5 – 2, 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вышенные дозы витамина необходимы во время болезней и в период выздоровления, при высоких физических нагрузках, людям с гиперфункцией щитовидной железы, а также детям и пожилым людя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Знач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частвует в углеводном,  энергетическом, жировом, белковом и водно-солевом обме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казывает регулирующее воздействие на деятельность нервной систем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лучшает умственные способности и настро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птимизирует работу мозг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казывает положительное воздействие на рос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ормализует аппети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лучшает способность к обучению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247840" cy="228600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А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ри – бери (полиневрит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Файл:Beriberi USNLM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2852640"/>
            <a:ext cx="3038400" cy="3791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054920" y="0"/>
            <a:ext cx="2089080" cy="208764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rId6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Гипер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зможны аллергические реакции, спаз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жа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нижение артериального давл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ногда бывает индивидуальная непереносимость витамина В1 – появляется крапивница и кожный зуд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лительное применение в больших дозах может привести к нарушению работы печени и почек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одук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рожжи пивные 10000 – 1700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рахис 75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ухие стручковые овощи – 45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рупа пшеничная  45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724280"/>
            <a:ext cx="2124000" cy="1857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24000" y="4365720"/>
            <a:ext cx="2425680" cy="2055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00720" y="4892760"/>
            <a:ext cx="2085840" cy="1965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620040" y="4149720"/>
            <a:ext cx="2523960" cy="168588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rId10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Витамин А (</a:t>
            </a:r>
            <a:r>
              <a:rPr b="0" lang="ru-RU" sz="4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ретинол</a:t>
            </a:r>
            <a:r>
              <a:rPr b="0" lang="ru-RU" sz="44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Суточная потреб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7" action="ppaction://hlinksldjump"/>
              </a:rPr>
              <a:t>А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8" action="ppaction://hlinksldjump"/>
              </a:rPr>
              <a:t>Гипер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9" action="ppaction://hlinksldjump"/>
              </a:rPr>
              <a:t>Проду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356000" y="2492280"/>
            <a:ext cx="42116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Суточная потреб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уточная потребность в ретиноле составляет  1 мг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я нормального усвоения витамина необходимо употребление достаточного количества жиро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3357720"/>
            <a:ext cx="4489200" cy="299232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7360" y="981000"/>
            <a:ext cx="90266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ВИТАМИН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лат.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ita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» -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знь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, «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min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» -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держащий азот)  - это органические соединения, которые в небольших количествах постоянно требуются для протекания биохимических реакций в организм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50920" y="2060640"/>
            <a:ext cx="51865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Знач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казывает влияние на рост человека улучшает состояние кож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особствует сопротивлению организма инфек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еспечивает рост и развитие эпителиальных клет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ходит в состав зрительного пигмента палочек сетчатки глаза - родопсина и зрительного пигмента колбочек - йодопсина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77080" y="0"/>
            <a:ext cx="2266920" cy="170028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А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Сухость во рту и сухость кожи могут говорить о дефиците витамина 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Самое яркое проявление авитаминоза А – проявление «куриной слепоты», то есть невозможность видеть в темнот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&quot;Куриная слепота&quot; - самое яркое проявление авитаминоза 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84360" y="3284640"/>
            <a:ext cx="4572000" cy="3141720"/>
          </a:xfrm>
          <a:prstGeom prst="rect">
            <a:avLst/>
          </a:prstGeom>
          <a:ln w="0">
            <a:noFill/>
          </a:ln>
        </p:spPr>
      </p:pic>
      <p:sp>
        <p:nvSpPr>
          <p:cNvPr id="165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Гипер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збыток витамина А у беременных приводит к врожденным уродствам у новорожденных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Передозировка витаминных комплексов с витамином А может привести к печеночной недостаточности и даже смерти. </a:t>
            </a:r>
            <a:br>
              <a:rPr sz="24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24360" y="3933720"/>
            <a:ext cx="2287800" cy="2924280"/>
          </a:xfrm>
          <a:prstGeom prst="rect">
            <a:avLst/>
          </a:prstGeom>
          <a:ln w="0">
            <a:noFill/>
          </a:ln>
        </p:spPr>
      </p:pic>
      <p:sp>
        <p:nvSpPr>
          <p:cNvPr id="169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Продук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чен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труш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Фрукты и овощи красного, или оранжевого цвета (Например, морковь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Яйц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7640" y="3789360"/>
            <a:ext cx="2525760" cy="1682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067280" y="4724280"/>
            <a:ext cx="2160360" cy="1800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124000" y="3284640"/>
            <a:ext cx="1905120" cy="15429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Печень"/>
          <p:cNvPicPr/>
          <p:nvPr/>
        </p:nvPicPr>
        <p:blipFill>
          <a:blip r:embed="rId8"/>
          <a:stretch/>
        </p:blipFill>
        <p:spPr>
          <a:xfrm>
            <a:off x="250920" y="4724280"/>
            <a:ext cx="2303280" cy="1800360"/>
          </a:xfrm>
          <a:prstGeom prst="rect">
            <a:avLst/>
          </a:prstGeom>
          <a:ln w="0">
            <a:noFill/>
          </a:ln>
        </p:spPr>
      </p:pic>
      <p:sp>
        <p:nvSpPr>
          <p:cNvPr id="176" name="">
            <a:hlinkClick r:id="rId9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итамин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 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(кальциферол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Суточная потреб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А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Гипер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Проду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76720" y="4437000"/>
            <a:ext cx="238104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Знач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ажен для усвоения  кальция в организме´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могает поддерживать кости и зубы в здоровом состоян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ажен для иммунной систе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Для чего нужен витамин Д?"/>
          <p:cNvPicPr/>
          <p:nvPr/>
        </p:nvPicPr>
        <p:blipFill>
          <a:blip r:embed="rId2"/>
          <a:stretch/>
        </p:blipFill>
        <p:spPr>
          <a:xfrm>
            <a:off x="4140360" y="4734000"/>
            <a:ext cx="2628720" cy="2124000"/>
          </a:xfrm>
          <a:prstGeom prst="rect">
            <a:avLst/>
          </a:prstGeom>
          <a:ln w="0">
            <a:noFill/>
          </a:ln>
        </p:spPr>
      </p:pic>
      <p:sp>
        <p:nvSpPr>
          <p:cNvPr id="183" name="">
            <a:hlinkClick r:id="rId3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Суточная потреб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ля взрослых 2,5 - 5,0 мкг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ля детей, в зависимости от возраста и пола 2,5 - 10,0 мкг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ля грудных детей 7,5 - 10,0 мк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вышена потребность в витамине D выше у людей, испытывающих недостаток ультрафиолетового облучен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живающих в высоких широтах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жителей регионов с повышенной загрязненностью атмосферы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ботающих в ночную смену или просто ведущих ночной образ жизн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ежачим больных, не бывающим на открытом воздух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 людей с темной кожей (негроидная раса, загорелые люди) синтез витамина D в коже снижает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692280"/>
            <a:ext cx="1547640" cy="1317600"/>
          </a:xfrm>
          <a:prstGeom prst="rect">
            <a:avLst/>
          </a:prstGeom>
          <a:ln w="0">
            <a:noFill/>
          </a:ln>
        </p:spPr>
      </p:pic>
      <p:sp>
        <p:nvSpPr>
          <p:cNvPr id="187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А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2852640"/>
            <a:ext cx="2481480" cy="2665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43280" y="2924280"/>
            <a:ext cx="2160360" cy="26636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796000" y="2852640"/>
            <a:ext cx="2952720" cy="25210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50920" y="1916280"/>
            <a:ext cx="47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 детей рахит, деформация позвоночни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держка в росте и развит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15400" y="1989000"/>
            <a:ext cx="38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 взрослых развитие остеопоро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>
            <a:hlinkClick r:id="rId8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Гипер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быточное потребление витамин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может привести к избыточной концентрации кальция. При этом кальций может проникать в стенки сосудов и провоцировать образование атеросклеротических бляшек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Продук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сновной источник получения Витамина D – это  непосредственное нахождение под солнцем. Наша кожа производит данный витамин, когда солнце воздействует на не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Жирная рыб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Яичный желто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ыбий жи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19640" y="3843360"/>
            <a:ext cx="4464000" cy="301464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5280" y="1125360"/>
            <a:ext cx="3745080" cy="1151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ВИТАМ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7640" y="1700280"/>
            <a:ext cx="129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1125360"/>
            <a:ext cx="3024360" cy="1151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ФЕРМЕН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КАТАЛИЗАТОР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80" y="3068640"/>
            <a:ext cx="91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ФЕРМЕНТ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ЭТО БЕЛКОВЫЕ КАТАЛИЗАТОРЫ БИОХИМИЧЕСКИХ РЕАК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3645000"/>
            <a:ext cx="288000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итамин Е (токоферол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Суточная потреб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А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Гипер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Проду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643280" y="3933720"/>
            <a:ext cx="30243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Суточная потреб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зрослый человек в день должен потреблять около 10 мг витамина Е.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требность в витамине Е возрастает при беременности, интенсивной физической работе и в пожилом возрас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580000" y="4724280"/>
            <a:ext cx="2232000" cy="181476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Знач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итамин E является антиоксидантом, который помогает защитить клетки от повреждения свободными радикалами кислород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лико значение витамина для половой системы, поэтому его часто называют «витамином размножения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81200" cy="33336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А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Основные признаки его недостатка – апатия, сухость кожи и ломкость волос. Кроме того, на коже появляются мелкие морщины и пигментные пятна, могут появиться и обостриться кожные заболевания, например, экзема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3500280"/>
            <a:ext cx="2828880" cy="29815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3203640" y="3645000"/>
            <a:ext cx="2592360" cy="3024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86680" y="3500280"/>
            <a:ext cx="2857320" cy="2143440"/>
          </a:xfrm>
          <a:prstGeom prst="rect">
            <a:avLst/>
          </a:prstGeom>
          <a:ln w="0">
            <a:noFill/>
          </a:ln>
        </p:spPr>
      </p:pic>
      <p:sp>
        <p:nvSpPr>
          <p:cNvPr id="219" name="">
            <a:hlinkClick r:id="rId7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Гипер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итамин Е практически безопасен и нетоксичен. Но прием больших доз витамина может вызвать тошноту, расстройство желуд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4005360"/>
            <a:ext cx="3810240" cy="2476440"/>
          </a:xfrm>
          <a:prstGeom prst="rect">
            <a:avLst/>
          </a:prstGeom>
          <a:ln w="0">
            <a:noFill/>
          </a:ln>
        </p:spPr>
      </p:pic>
      <p:sp>
        <p:nvSpPr>
          <p:cNvPr id="223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Продук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тительные масл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рехи и зер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Яичный желто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которые  сорта жирной  рыб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348000" y="4362480"/>
            <a:ext cx="3333960" cy="249552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rId3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640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ЛИТЕРАТУР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3545640" y="3151440"/>
            <a:ext cx="6012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36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8360" y="1700280"/>
            <a:ext cx="712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ru.wikipedia.or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hnb.com.ua/articles/s-zdorovie-vitamin_c_askorbinovaya_kislota-3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medfox.ru/archives/146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sunduk.ru/encycl/chemfood/c015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ladytoday.ru/gde-soderzhitsya-vitamin-d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59280" y="692280"/>
            <a:ext cx="3600360" cy="1584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Broadway"/>
              </a:rPr>
              <a:t>ВИТАМ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556000" y="2133720"/>
            <a:ext cx="1224000" cy="1582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2060640"/>
            <a:ext cx="93528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3860640"/>
            <a:ext cx="3095640" cy="2448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9900"/>
                </a:solidFill>
                <a:uFillTx/>
                <a:latin typeface="Arial"/>
              </a:rPr>
              <a:t>ВОДОРАСТВОРИМ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ИТАМИНЫ ГРУППЫ 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С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, РР, 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08720" y="3789360"/>
            <a:ext cx="3024000" cy="2592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9900"/>
                </a:solidFill>
                <a:uFillTx/>
                <a:latin typeface="Arial"/>
              </a:rPr>
              <a:t>ЖИРОРАСТВОРИМ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ИТАМИНЫ А, Д, Е, 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253368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04000" y="189000"/>
            <a:ext cx="234000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Заполните таблицу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1280" y="1628640"/>
          <a:ext cx="8208720" cy="5043600"/>
        </p:xfrm>
        <a:graphic>
          <a:graphicData uri="http://schemas.openxmlformats.org/drawingml/2006/table">
            <a:tbl>
              <a:tblPr/>
              <a:tblGrid>
                <a:gridCol w="1800000"/>
                <a:gridCol w="1440000"/>
                <a:gridCol w="1800360"/>
                <a:gridCol w="1728720"/>
                <a:gridCol w="1439640"/>
              </a:tblGrid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Название витам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Суточ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доз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Название заболевания, вызванного авитаминоз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Название заболевания, вызванного гипервитаминоз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Продукты, богатые витамин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5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ccff"/>
                </a:solidFill>
                <a:uFillTx/>
                <a:latin typeface="Arial Black"/>
                <a:hlinkClick r:id="rId2" action="ppaction://hlinksldjump"/>
              </a:rPr>
              <a:t>ВИТАМИН С</a:t>
            </a:r>
            <a:r>
              <a:rPr b="0" lang="en-US" sz="4000" spc="-1" strike="noStrike" u="sng">
                <a:solidFill>
                  <a:srgbClr val="00ccff"/>
                </a:solidFill>
                <a:uFillTx/>
                <a:latin typeface="Arial Black"/>
                <a:hlinkClick r:id="rId3" action="ppaction://hlinksldjump"/>
              </a:rPr>
              <a:t>_x000b_</a:t>
            </a:r>
            <a:r>
              <a:rPr b="0" i="1" lang="en-US" sz="4000" spc="-1" strike="noStrike">
                <a:solidFill>
                  <a:srgbClr val="ffcc00"/>
                </a:solidFill>
                <a:latin typeface="Tahoma"/>
              </a:rPr>
              <a:t>(аскорбиновая кислота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СУТОЧНАЯ ПОТРЕБНОС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А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7" action="ppaction://hlinksldjump"/>
              </a:rPr>
              <a:t>ГИПЕР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8" action="ppaction://hlinksldjump"/>
              </a:rPr>
              <a:t>ПРОДУ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292720" y="2781360"/>
            <a:ext cx="3635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ahoma"/>
              </a:rPr>
              <a:t>СУТОЧНАЯ ПОТРЕБ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0 - 10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 ВРЕМЯ ПРОСТУДЫ ИЛИ БОЛЕЗНИ  150 – 20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урильщики и престарелые люди имеют повышенную потребность в витамине С (одна выкуренная сигарета разрушает 25 мг С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700360" y="5191200"/>
            <a:ext cx="2303280" cy="166680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ЗНАЧ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Способствует заживлению ра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Противодействует инфекция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Повышает усвоение желе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Обладает ярко выраженными антиоксидантными свойств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Играет важную роль в поддержании нормального формирования сердечно – сосудистой системы, печени и других орган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Витамин C"/>
          <p:cNvPicPr/>
          <p:nvPr/>
        </p:nvPicPr>
        <p:blipFill>
          <a:blip r:embed="rId2"/>
          <a:stretch/>
        </p:blipFill>
        <p:spPr>
          <a:xfrm>
            <a:off x="0" y="115920"/>
            <a:ext cx="1195560" cy="148428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ahoma"/>
              </a:rPr>
              <a:t>А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ЦИНГА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- 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Болезнь , вызываемая недостатком витамина  С в организме и проявляющаяся в разрыхлении и кровоточности слизистой оболочки десен, в мышечно-сосудистых болях, слаб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3141720"/>
            <a:ext cx="2714760" cy="190512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4:44:50Z</dcterms:created>
  <dc:creator>User</dc:creator>
  <dc:description/>
  <dc:language>en-US</dc:language>
  <cp:lastModifiedBy>Василий</cp:lastModifiedBy>
  <dcterms:modified xsi:type="dcterms:W3CDTF">2012-03-14T17:26:50Z</dcterms:modified>
  <cp:revision>13</cp:revision>
  <dc:subject/>
  <dc:title>Слайд 1</dc:title>
</cp:coreProperties>
</file>