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4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234-4C7B-471C-8675-712395DC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6E9-6D72-4696-A91F-7A465D48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8A8-86E0-4BBC-B98C-5D7646DA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E82-AC2E-4880-8049-114CD90A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A2D1-16D7-455A-AAF5-3AB18DBE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9D0B-93F5-4F21-AA82-C325C6B7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2DF9-B6A1-47AF-A55F-C69DE806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E5D8-D1C6-4071-B97D-3C864D4D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143D-BF98-438B-985C-15549087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70A3-4D8C-4A3C-9F29-82C5D00D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1B11-A7C1-4DF0-B405-021BAC01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DEE-7675-41F1-8AE3-4A39D4FD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B255-EC52-4E9F-A745-78EB13EA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2F62-F757-482D-887C-21FA40C9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282D-8B44-4E20-849D-B79F4B4C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A806-6D60-44FB-8969-E08E3ACB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673A-0FC8-4F91-BA3F-23E7B023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F74-577B-4725-A409-8D8D78D1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517-3D87-4314-AE63-0AA5C6FD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EE3-193F-4C40-BEB4-39FB7E4C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DD8-D5B6-45A3-8179-E6B3CA39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58F-D2A7-454E-9C13-FB41B1E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1C0-9163-4268-865F-08CBAF87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38D-4CEE-423B-AE6E-F4343EBB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764D-C1CE-4D5D-A8A0-BCA3EBA7E8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0181-F74D-4665-BB80-D0151284AC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nikblo.ru/NOW/now0050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ruklinok.info/_uploads/_pics/2011/004/Article_00003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calorizator.ru/sites/default/files/product/pepper-2.jpg" TargetMode="External"/><Relationship Id="rId8" Type="http://schemas.openxmlformats.org/officeDocument/2006/relationships/image" Target="../media/image1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hyperlink" Target="http://detivislame.ru/wp-content/uploads/2009/12/vitamin.jpg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b1_11.gif" TargetMode="External"/><Relationship Id="rId3" Type="http://schemas.openxmlformats.org/officeDocument/2006/relationships/image" Target="../media/image16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2/Beriberi_USNLM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viptur.wellnet.me/attachments/Image/Flora/vitamin/B1_s.jpg" TargetMode="External"/><Relationship Id="rId5" Type="http://schemas.openxmlformats.org/officeDocument/2006/relationships/image" Target="../media/image18.jpeg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.med-post.ru/img/products/product_846_img_1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geo.1september.ru/2001/19/4_4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.lady.ru/images/assets/site/2009/08/Vkusno/18/bobovie_main.jp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www.foragro.ru/images/krupa/1_pchenichnaya/krupa_1_pchenichnaya_1_h_orig.jpeg" TargetMode="External"/><Relationship Id="rId9" Type="http://schemas.openxmlformats.org/officeDocument/2006/relationships/image" Target="../media/image22.jpeg"/><Relationship Id="rId10" Type="http://schemas.openxmlformats.org/officeDocument/2006/relationships/slide" Target="slide12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hyperlink" Target="http://www.your-eye.ru/wp-content/uploads/2009/11/vitamin-A-i-zdorovje-glaz.jpg" TargetMode="External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nbeauty.ru/imager.php/getnews/158/1360151891_104988_jpg" TargetMode="External"/><Relationship Id="rId3" Type="http://schemas.openxmlformats.org/officeDocument/2006/relationships/image" Target="../media/image24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taminn.ru/wp-content/themes/vitamin/images/header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5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6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6on.ru/uploads/Image/livestyle/0000094.jpg" TargetMode="External"/><Relationship Id="rId3" Type="http://schemas.openxmlformats.org/officeDocument/2006/relationships/image" Target="../media/image27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dy.ua/storage/images/kulinariya/kulinarnye-recepty/2010-01-17-recepty-moleculiarnoi-kuhni/kurinoe-yajco-kulinarnoe-chudo/584-1-rus-RU/Kurinoe-yajco-kulinarnoe-chudo_full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ovochi.com/admin/bindata/_0000741_foto.ico2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nmoment.ru/img/properties-parsley1.jpg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hyperlink" Target="http://mirsovetov.ru/images/1391/4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hivie-recepti.ru/wp-content/uploads/2011/04/vitamin-d-500x300.jpg" TargetMode="External"/><Relationship Id="rId3" Type="http://schemas.openxmlformats.org/officeDocument/2006/relationships/image" Target="../media/image34.jpe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tivislame.ru/wp-content/uploads/2010/01/rahit_priznak.jpg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www.medikforum.ru/news/uploads/posts/2010-11/thumbs/1289649750_1.jpg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endocrinolog.narod.ru/images/osteoporosis_04.jpg" TargetMode="External"/><Relationship Id="rId7" Type="http://schemas.openxmlformats.org/officeDocument/2006/relationships/image" Target="../media/image37.jpeg"/><Relationship Id="rId8" Type="http://schemas.openxmlformats.org/officeDocument/2006/relationships/slide" Target="slide24.xml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sovetov.ru/images/1391/3.jpg" TargetMode="External"/><Relationship Id="rId3" Type="http://schemas.openxmlformats.org/officeDocument/2006/relationships/image" Target="../media/image38.pn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-woman.ru/wp-content/uploads/2010/04/vitami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hyperlink" Target="http://www.jv.ru/i/indoc/90/enc_entry_26260_1273070301.jpg" TargetMode="External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0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sseva.ru/wp-content/uploads/2010/09/suhaya-kozha-litsa-foto.jpg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hyperlink" Target="http://www.cosmomir.ru/imgr/lt-facial-pigmentation-before-l.jpg" TargetMode="External"/><Relationship Id="rId6" Type="http://schemas.openxmlformats.org/officeDocument/2006/relationships/image" Target="../media/image44.jpeg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vitamine1.jpg" TargetMode="External"/><Relationship Id="rId3" Type="http://schemas.openxmlformats.org/officeDocument/2006/relationships/image" Target="../media/image45.jpe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" Target="slide30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-pitanie.ru/pic/vitamini/vitamini.gif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getway.info/uploads/vitamini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http://www.travniku.ru/store/image/zdch/vitamin_c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00vitaminov.ru/pic/cinga.jpg" TargetMode="External"/><Relationship Id="rId3" Type="http://schemas.openxmlformats.org/officeDocument/2006/relationships/image" Target="../media/image10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2492280"/>
            <a:ext cx="648180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ВИТАМИН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234000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35120" y="33336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ИТОВА МАРИНА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УЧИТЕЛЬ БИОЛОГИИ МКОУ СОШ № 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р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еор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и в области жи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шн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чные кам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шиповник (сухой) 1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черная смородина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етрушка 19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ерец зеленый 10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Экстракт шиповника с содержанием аскорбиновой кислоты не менее 5%"/>
          <p:cNvPicPr/>
          <p:nvPr/>
        </p:nvPicPr>
        <p:blipFill>
          <a:blip r:embed="rId2"/>
          <a:stretch/>
        </p:blipFill>
        <p:spPr>
          <a:xfrm>
            <a:off x="250920" y="4941720"/>
            <a:ext cx="1619280" cy="15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4653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65300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2133720"/>
            <a:ext cx="2233440" cy="22334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В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1 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(тиамин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6160" y="2997360"/>
            <a:ext cx="48578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5 – 2, 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ные дозы витамина необходимы во время болезней и в период выздоровления, при высоких физических нагрузках, людям с гиперфункцией щитовидной железы, а также детям и пожилым люд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аствует в углеводном,  энергетическом, жировом, белковом и водно-солевом обме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регулирующее воздействие на деятельность нервной систе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умственные способности и настро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тимизирует работу моз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положительное воздействие на р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рмализует аппет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способность к обучен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4784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и – бери (полиневри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Файл:Beriberi USNL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852640"/>
            <a:ext cx="3038400" cy="379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можны аллергические реакции, спаз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артериального да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огда бывает индивидуальная непереносимость витамина В1 – появляется крапивница и кожный зу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ительное применение в больших дозах может привести к нарушению работы печени и поч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ожжи пивные 10000 – 170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рахис 7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хие стручковые овощи –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упа пшеничная 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24280"/>
            <a:ext cx="2124000" cy="18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4365720"/>
            <a:ext cx="2425680" cy="205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4892760"/>
            <a:ext cx="2085840" cy="1965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0040" y="4149720"/>
            <a:ext cx="2523960" cy="16858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А (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ретинол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56000" y="2492280"/>
            <a:ext cx="4211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точная потребность в ретиноле составляет  1 м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нормального усвоения витамина необходимо употребление достаточного количества жир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3357720"/>
            <a:ext cx="4489200" cy="299232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7360" y="981000"/>
            <a:ext cx="9026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ИТАМИ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лат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t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min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й азот)  - это органические соединения, которые в небольших количествах постоянно требуются для протекания биохимических реакций в организ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2060640"/>
            <a:ext cx="518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ывает влияние на рост человека улучшает состояние ко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ствует сопротивлению организма инфе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вает рост и развитие эпителиальных кле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ходит в состав зрительного пигмента палочек сетчатки глаза - родопсина и зрительного пигмента колбочек - йодопсин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Сухость во рту и сухость кожи могут говорить о дефиците витамина 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Самое яркое проявление авитаминоза А – проявление «куриной слепоты», то есть невозможность видеть в темно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&quot;Куриная слепота&quot; - самое яркое проявление авитаминоза 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быток витамина А у беременных приводит к врожденным уродствам у новорожденных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ередозировка витаминных комплексов с витамином А может привести к печеночной недостаточности и даже смерти. </a:t>
            </a: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3933720"/>
            <a:ext cx="228780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чен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р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Фрукты и овощи красного, или оранжевого цвета (Например, морковь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й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789360"/>
            <a:ext cx="2525760" cy="1682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472428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24000" y="328464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Печень"/>
          <p:cNvPicPr/>
          <p:nvPr/>
        </p:nvPicPr>
        <p:blipFill>
          <a:blip r:embed="rId8"/>
          <a:stretch/>
        </p:blipFill>
        <p:spPr>
          <a:xfrm>
            <a:off x="250920" y="4724280"/>
            <a:ext cx="2303280" cy="18003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тамин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(кальци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4437000"/>
            <a:ext cx="23810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усвоения  кальция в организме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гает поддерживать кости и зубы в здоровом состоя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иммунн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Для чего нужен витамин Д?"/>
          <p:cNvPicPr/>
          <p:nvPr/>
        </p:nvPicPr>
        <p:blipFill>
          <a:blip r:embed="rId2"/>
          <a:stretch/>
        </p:blipFill>
        <p:spPr>
          <a:xfrm>
            <a:off x="4140360" y="4734000"/>
            <a:ext cx="2628720" cy="212400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взрослых 2,5 - 5,0 мкг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детей, в зависимости от возраста и пола 2,5 - 10,0 мк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грудных детей 7,5 - 10,0 мк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ышена потребность в витамине D выше у людей, испытывающих недостаток ультрафиолетового облуч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живающих в высоких широта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телей регионов с повышенной загрязненностью атмосфер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ющих в ночную смену или просто ведущих ночной образ жиз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жачим больных, не бывающим на открытом воздух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людей с темной кожей (негроидная раса, загорелые люди) синтез витамина D в коже сниж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692280"/>
            <a:ext cx="1547640" cy="13176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852640"/>
            <a:ext cx="2481480" cy="2665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24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6000" y="2852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19162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детей рахит, деформация позвоночн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ржка в росте и разви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15400" y="198900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взрослых развитие остеопор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ыточное потребление витами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ожет привести к избыточной концентрации кальция. При этом кальций может проникать в стенки сосудов и провоцировать образование атеросклеротических бляш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сновной источник получения Витамина D – это  непосредственное нахождение под солнцем. Наша кожа производит данный витамин, когда солнце воздействует на н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рная рыб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ичный жел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ыбий жи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843360"/>
            <a:ext cx="4464000" cy="30146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125360"/>
            <a:ext cx="37450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70028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125360"/>
            <a:ext cx="302436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АТАЛИЗАТОР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" y="3068640"/>
            <a:ext cx="91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ТО БЕЛКОВЫЕ КАТАЛИЗАТОРЫ БИОХИМИЧЕСКИХ 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3645000"/>
            <a:ext cx="2880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тамин Е (токо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933720"/>
            <a:ext cx="3024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зрослый человек в день должен потреблять около 10 мг витамина Е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ребность в витамине Е возрастает при беременности, интенсивной физической работе и в пожилом возра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80000" y="4724280"/>
            <a:ext cx="2232000" cy="181476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тамин E является антиоксидантом, который помогает защитить клетки от повреждения свободными радикалами кислор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лико значение витамина для половой системы, поэтому его часто называют «витамином размножени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3333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сновные признаки его недостатка – апатия, сухость кожи и ломкость волос. Кроме того, на коже появляются мелкие морщины и пигментные пятна, могут появиться и обостриться кожные заболевания, например, экзем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500280"/>
            <a:ext cx="2828880" cy="2981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203640" y="3645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86680" y="3500280"/>
            <a:ext cx="2857320" cy="214344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тамин Е практически безопасен и нетоксичен. Но прием больших доз витамина может вызвать тошноту, расстройство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00536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тительные мас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ехи и зер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ичный желто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торые  сорта жирной 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348000" y="436248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40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ЛИТЕРАТУ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545640" y="3151440"/>
            <a:ext cx="601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3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70028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ru.wikip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hnb.com.ua/articles/s-zdorovie-vitamin_c_askorbinovaya_kislota-3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edfox.ru/archives/14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unduk.ru/encycl/chemfood/c015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ladytoday.ru/gde-soderzhitsya-vitamin-d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59280" y="692280"/>
            <a:ext cx="360036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Broadway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56000" y="2133720"/>
            <a:ext cx="1224000" cy="158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060640"/>
            <a:ext cx="9352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860640"/>
            <a:ext cx="3095640" cy="24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ВОД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ГРУППЫ 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С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, РР, 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3789360"/>
            <a:ext cx="3024000" cy="25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ЖИР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А, Д, Е, 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189000"/>
            <a:ext cx="2340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аполните таблиц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628640"/>
          <a:ext cx="8208720" cy="5043600"/>
        </p:xfrm>
        <a:graphic>
          <a:graphicData uri="http://schemas.openxmlformats.org/drawingml/2006/table">
            <a:tbl>
              <a:tblPr/>
              <a:tblGrid>
                <a:gridCol w="1800000"/>
                <a:gridCol w="1440000"/>
                <a:gridCol w="1800360"/>
                <a:gridCol w="1728720"/>
                <a:gridCol w="143964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витам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Суточ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д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а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гипер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Продукты, богатые витамин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2" action="ppaction://hlinksldjump"/>
              </a:rPr>
              <a:t>ВИТАМИН С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3" action="ppaction://hlinksldjump"/>
              </a:rPr>
              <a:t>_x000b_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(аскорбиновая кислот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СУТОЧНАЯ ПОТРЕБ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2781360"/>
            <a:ext cx="3635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 - 1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 ВРЕМЯ ПРОСТУДЫ ИЛИ БОЛЕЗНИ  150 –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рильщики и престарелые люди имеют повышенную потребность в витамине С (одна выкуренная сигарета разрушает 25 мг С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00360" y="5191200"/>
            <a:ext cx="2303280" cy="16668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Способствует заживлению 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ротиводействует инфекц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вышает усвоение желе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Обладает ярко выраженными антиоксидантными свой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Играет важную роль в поддержании нормального формирования сердечно – сосудистой системы, печени и других орг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Витамин C"/>
          <p:cNvPicPr/>
          <p:nvPr/>
        </p:nvPicPr>
        <p:blipFill>
          <a:blip r:embed="rId2"/>
          <a:stretch/>
        </p:blipFill>
        <p:spPr>
          <a:xfrm>
            <a:off x="0" y="115920"/>
            <a:ext cx="119556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ЦИНГА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Болезнь , вызываемая недостатком витамина  С в организме и проявляющаяся в разрыхлении и кровоточности слизистой оболочки десен, в мышечно-сосудистых болях, слаб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141720"/>
            <a:ext cx="271476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44:50Z</dcterms:created>
  <dc:creator>User</dc:creator>
  <dc:description/>
  <dc:language>en-US</dc:language>
  <cp:lastModifiedBy>Василий</cp:lastModifiedBy>
  <dcterms:modified xsi:type="dcterms:W3CDTF">2012-03-14T17:26:50Z</dcterms:modified>
  <cp:revision>13</cp:revision>
  <dc:subject/>
  <dc:title>Слайд 1</dc:title>
</cp:coreProperties>
</file>