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4.jpeg" ContentType="image/jpeg"/>
  <Override PartName="/ppt/media/image45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E19-DE46-4945-8403-585C596B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545-0DCC-4603-8546-F3D33860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D86-1135-4837-A8D5-AE403E6B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13F-7884-4BBD-97CC-5B0083D8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72E2-1B6A-4A02-A19C-2500D22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3DBB-65AE-4E0A-A146-527292AB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7BA5-5182-4DAE-9292-9B45CC1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13FD-F88F-4DB7-9DAB-73F783C8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802-B06D-47D3-B488-7F1C6779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6184-C39C-4540-9213-7D24908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E78E-3063-4A61-9B88-870FD3E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087-00ED-4CC1-956E-180C9143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9899-14D0-4408-89CA-0523B77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5E8B-4697-4B6D-BDF2-F9A1E1D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9D0F-D618-495F-9733-D0009C20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035-3BAC-4EF0-9034-9B6AE61E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A71E-049D-4E02-B699-A644C342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59E-A5C3-422A-8E49-5177733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316-F20C-4F60-9907-A368EB7A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AC5-FF99-4177-9211-B7AE033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B9A-7104-4668-841E-35B96977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EB4-966E-46C2-B6EF-FA019BE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1CA-8F30-4963-A3C8-05F54EC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03F-1129-42A3-951D-778DB1E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774-A5B8-4075-B58A-D77D4C9982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EB69-6F9C-4B53-AD36-9918FD01BB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nikblo.ru/NOW/now0050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klinok.info/_uploads/_pics/2011/004/Article_0000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calorizator.ru/sites/default/files/product/pepper-2.jpg" TargetMode="External"/><Relationship Id="rId8" Type="http://schemas.openxmlformats.org/officeDocument/2006/relationships/image" Target="../media/image1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hyperlink" Target="http://detivislame.ru/wp-content/uploads/2009/12/vitamin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b1_11.gif" TargetMode="Externa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2/Beriberi_USNLM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viptur.wellnet.me/attachments/Image/Flora/vitamin/B1_s.jpg" TargetMode="External"/><Relationship Id="rId5" Type="http://schemas.openxmlformats.org/officeDocument/2006/relationships/image" Target="../media/image18.jpeg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.med-post.ru/img/products/product_846_img_1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geo.1september.ru/2001/19/4_4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g.lady.ru/images/assets/site/2009/08/Vkusno/18/bobovie_main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www.foragro.ru/images/krupa/1_pchenichnaya/krupa_1_pchenichnaya_1_h_orig.jpeg" TargetMode="External"/><Relationship Id="rId9" Type="http://schemas.openxmlformats.org/officeDocument/2006/relationships/image" Target="../media/image22.jpe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hyperlink" Target="http://www.your-eye.ru/wp-content/uploads/2009/11/vitamin-A-i-zdorovje-glaz.jpg" TargetMode="External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beauty.ru/imager.php/getnews/158/1360151891_104988_jpg" TargetMode="External"/><Relationship Id="rId3" Type="http://schemas.openxmlformats.org/officeDocument/2006/relationships/image" Target="../media/image24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taminn.ru/wp-content/themes/vitamin/images/header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5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ri.ru/wp-content/uploads/2010/12/a1-300x225.jpg" TargetMode="External"/><Relationship Id="rId3" Type="http://schemas.openxmlformats.org/officeDocument/2006/relationships/image" Target="../media/image26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6on.ru/uploads/Image/livestyle/0000094.jpg" TargetMode="External"/><Relationship Id="rId3" Type="http://schemas.openxmlformats.org/officeDocument/2006/relationships/image" Target="../media/image27.jpeg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dy.ua/storage/images/kulinariya/kulinarnye-recepty/2010-01-17-recepty-moleculiarnoi-kuhni/kurinoe-yajco-kulinarnoe-chudo/584-1-rus-RU/Kurinoe-yajco-kulinarnoe-chudo_full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vochi.com/admin/bindata/_0000741_foto.ico2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nmoment.ru/img/properties-parsley1.jpg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" Target="slide18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hyperlink" Target="http://mirsovetov.ru/images/1391/4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hivie-recepti.ru/wp-content/uploads/2011/04/vitamin-d-500x300.jpg" TargetMode="External"/><Relationship Id="rId3" Type="http://schemas.openxmlformats.org/officeDocument/2006/relationships/image" Target="../media/image34.jpe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ivislame.ru/wp-content/uploads/2010/01/rahit_priznak.jpg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www.medikforum.ru/news/uploads/posts/2010-11/thumbs/1289649750_1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endocrinolog.narod.ru/images/osteoporosis_04.jpg" TargetMode="External"/><Relationship Id="rId7" Type="http://schemas.openxmlformats.org/officeDocument/2006/relationships/image" Target="../media/image37.jpeg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sovetov.ru/images/1391/3.jpg" TargetMode="External"/><Relationship Id="rId3" Type="http://schemas.openxmlformats.org/officeDocument/2006/relationships/image" Target="../media/image38.png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-woman.ru/wp-content/uploads/2010/04/vitam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hyperlink" Target="http://www.jv.ru/i/indoc/90/enc_entry_26260_1273070301.jpg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0.pn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seva.ru/wp-content/uploads/2010/09/suhaya-kozha-litsa-foto.jpg" TargetMode="External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hyperlink" Target="http://www.cosmomir.ru/imgr/lt-facial-pigmentation-before-l.jpg" TargetMode="External"/><Relationship Id="rId6" Type="http://schemas.openxmlformats.org/officeDocument/2006/relationships/image" Target="../media/image44.jpeg"/><Relationship Id="rId7" Type="http://schemas.openxmlformats.org/officeDocument/2006/relationships/slide" Target="slide30.xml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ust-blog.info/wp-content/uploads/2010/09/vitamine1.jpg" TargetMode="External"/><Relationship Id="rId3" Type="http://schemas.openxmlformats.org/officeDocument/2006/relationships/image" Target="../media/image45.jpeg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" Target="slide30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pitanie.ru/pic/vitamini/vitamini.gif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getway.info/uploads/vitamini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http://www.travniku.ru/store/image/zdch/vitamin_c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00vitaminov.ru/pic/cinga.jpg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2492280"/>
            <a:ext cx="64818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ВИТАМИН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23400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35120" y="33336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ИТОВА МАРИНА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УЧИТЕЛЬ БИОЛОГИИ МКОУ СОШ № 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и в области жи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шн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чные кам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шиповник (сухой) 1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черная смородина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етрушка 19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ерец зеленый 1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Экстракт шиповника с содержанием аскорбиновой кислоты не менее 5%"/>
          <p:cNvPicPr/>
          <p:nvPr/>
        </p:nvPicPr>
        <p:blipFill>
          <a:blip r:embed="rId2"/>
          <a:stretch/>
        </p:blipFill>
        <p:spPr>
          <a:xfrm>
            <a:off x="250920" y="4941720"/>
            <a:ext cx="161928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653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653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133720"/>
            <a:ext cx="2233440" cy="22334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В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1 </a:t>
            </a:r>
            <a:r>
              <a:rPr b="0" lang="en-US" sz="4400" spc="-1" strike="noStrike" u="sng" baseline="-25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(тиамин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2997360"/>
            <a:ext cx="48578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 5 – 2, 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ные дозы витамина необходимы во время болезней и в период выздоровления, при высоких физических нагрузках, людям с гиперфункцией щитовидной железы, а также детям и пожилым люд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аствует в углеводном,  энергетическом, жировом, белковом и водно-солевом обм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регулирующее воздействие на деятельность нервно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умственные способности и настро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тимизирует работу моз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казывает положительное воздействие на р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лизует аппет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учшает способность к обуч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 – бери (полиневри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Файл:Beriberi USNL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852640"/>
            <a:ext cx="303840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можны аллергические реакции, спаз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артериального д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огда бывает индивидуальная непереносимость витамина В1 – появляется крапивница и кожный з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е применение в больших дозах может привести к нарушению работы печени и поч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жжи пивные 10000 – 170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хис 7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хие стручковые овощи –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упа пшеничная  45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212400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24000" y="4365720"/>
            <a:ext cx="2425680" cy="2055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892760"/>
            <a:ext cx="2085840" cy="1965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0040" y="4149720"/>
            <a:ext cx="2523960" cy="168588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10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итамин А (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ретинол</a:t>
            </a:r>
            <a:r>
              <a:rPr b="0" lang="ru-RU" sz="44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2492280"/>
            <a:ext cx="4211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очная потребность в ретиноле составляет  1 м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нормального усвоения витамина необходимо употребление достаточного количества жир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3357720"/>
            <a:ext cx="4489200" cy="29923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7360" y="981000"/>
            <a:ext cx="9026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ИТАМИ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лат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«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in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й азот)  - это органические соединения, которые в небольших количествах постоянно требуются для протекания биохимических реакций в организ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0920" y="2060640"/>
            <a:ext cx="518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влияние на рост человека улучшает состояние ко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ует сопротивлению организма инфе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ивает рост и развитие эпителиальных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ходит в состав зрительного пигмента палочек сетчатки глаза - родопсина и зрительного пигмента колбочек - йодопсин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Сухость во рту и сухость кожи могут говорить о дефиците витамина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амое яркое проявление авитаминоза А – проявление «куриной слепоты», то есть невозможность видеть в темнот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&quot;Куриная слепота&quot; - самое яркое проявление авитаминоза 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быток витамина А у беременных приводит к врожденным уродствам у новорожденных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ередозировка витаминных комплексов с витамином А может привести к печеночной недостаточности и даже смерти. </a:t>
            </a: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933720"/>
            <a:ext cx="228780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р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рукты и овощи красного, или оранжевого цвета (Например, морковь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789360"/>
            <a:ext cx="2525760" cy="1682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72428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328464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Печень"/>
          <p:cNvPicPr/>
          <p:nvPr/>
        </p:nvPicPr>
        <p:blipFill>
          <a:blip r:embed="rId8"/>
          <a:stretch/>
        </p:blipFill>
        <p:spPr>
          <a:xfrm>
            <a:off x="250920" y="4724280"/>
            <a:ext cx="2303280" cy="1800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тамин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(кальци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437000"/>
            <a:ext cx="2381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усвоения  кальция в организме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ет поддерживать кости и зубы в здоровом состоя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ен для иммунной сист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Для чего нужен витамин Д?"/>
          <p:cNvPicPr/>
          <p:nvPr/>
        </p:nvPicPr>
        <p:blipFill>
          <a:blip r:embed="rId2"/>
          <a:stretch/>
        </p:blipFill>
        <p:spPr>
          <a:xfrm>
            <a:off x="4140360" y="4734000"/>
            <a:ext cx="2628720" cy="212400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взрослых 2,5 - 5,0 мкг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детей, в зависимости от возраста и пола 2,5 - 10,0 мк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грудных детей 7,5 - 10,0 мк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вышена потребность в витамине D выше у людей, испытывающих недостаток ультрафиолетового облуч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живающих в высоких широта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телей регионов с повышенной загрязненностью атмосфер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ющих в ночную смену или просто ведущих ночной образ жиз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жачим больных, не бывающим на открытом воздух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людей с темной кожей (негроидная раса, загорелые люди) синтез витамина D в коже сниж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317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52640"/>
            <a:ext cx="2481480" cy="2665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24280"/>
            <a:ext cx="2160360" cy="266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852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19162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детей рахит, деформация позвоночни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ржка в росте и разви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5400" y="198900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зрослых развитие остеопор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ыточное потребление витам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жет привести к избыточной концентрации кальция. При этом кальций может проникать в стенки сосудов и провоцировать образование атеросклеротических бляш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сновной источник получения Витамина D – это  непосредственное нахождение под солнцем. Наша кожа производит данный витамин, когда солнце воздействует на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рная ры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Яичный жел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ыбий ж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843360"/>
            <a:ext cx="4464000" cy="30146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125360"/>
            <a:ext cx="374508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70028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125360"/>
            <a:ext cx="3024360" cy="115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АТАЛИЗАТО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" y="3068640"/>
            <a:ext cx="91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ФЕР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ТО БЕЛКОВЫЕ КАТАЛИЗАТОРЫ БИОХИМИЧЕСКИХ 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645000"/>
            <a:ext cx="2880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тамин Е (токоферол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уточная потреб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93372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зрослый человек в день должен потреблять около 10 мг витамина Е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ность в витамине Е возрастает при беременности, интенсивной физической работе и в пожилом возра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580000" y="4724280"/>
            <a:ext cx="2232000" cy="18147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тамин E является антиоксидантом, который помогает защитить клетки от повреждения свободными радикалами кислор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лико значение витамина для половой системы, поэтому его часто называют «витамином размножен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сновные признаки его недостатка – апатия, сухость кожи и ломкость волос. Кроме того, на коже появляются мелкие морщины и пигментные пятна, могут появиться и обостриться кожные заболевания, например, экзем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00280"/>
            <a:ext cx="2828880" cy="2981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86680" y="3500280"/>
            <a:ext cx="2857320" cy="21434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ипер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амин Е практически безопасен и нетоксичен. Но прием больших доз витамина может вызвать тошноту, расстройство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005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роду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е ма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ехи и зер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ичный желто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торые  сорта жирной 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348000" y="436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ЛИТЕРАТУР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45640" y="3151440"/>
            <a:ext cx="601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3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70028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hnb.com.ua/articles/s-zdorovie-vitamin_c_askorbinovaya_kislota-3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edfox.ru/archives/14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unduk.ru/encycl/chemfood/c015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ladytoday.ru/gde-soderzhitsya-vitamin-d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59280" y="692280"/>
            <a:ext cx="360036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Broadway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2133720"/>
            <a:ext cx="1224000" cy="158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060640"/>
            <a:ext cx="9352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860640"/>
            <a:ext cx="3095640" cy="244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ВОД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ГРУППЫ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С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, РР, 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3789360"/>
            <a:ext cx="3024000" cy="25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ЖИРОРАСТВОРИ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ТАМИНЫ А, Д, Е,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189000"/>
            <a:ext cx="234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Заполните таблиц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628640"/>
          <a:ext cx="8208720" cy="5043600"/>
        </p:xfrm>
        <a:graphic>
          <a:graphicData uri="http://schemas.openxmlformats.org/drawingml/2006/table">
            <a:tbl>
              <a:tblPr/>
              <a:tblGrid>
                <a:gridCol w="1800000"/>
                <a:gridCol w="1440000"/>
                <a:gridCol w="1800360"/>
                <a:gridCol w="1728720"/>
                <a:gridCol w="143964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витам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Суточ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д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а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Название заболевания, вызванного гипервитамино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Продукты, богатые витамин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2" action="ppaction://hlinksldjump"/>
              </a:rPr>
              <a:t>ВИТАМИН С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 Black"/>
                <a:hlinkClick r:id="rId3" action="ppaction://hlinksldjump"/>
              </a:rPr>
              <a:t>_x000b_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(аскорбиновая кислот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СУТОЧНАЯ ПОТРЕБ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А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ГИПЕРВИТАМИН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ПРОДУ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2781360"/>
            <a:ext cx="3635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УТОЧНАЯ ПОТРЕБ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 - 1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ВРЕМЯ ПРОСТУДЫ ИЛИ БОЛЕЗНИ  150 – 20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рильщики и престарелые люди имеют повышенную потребность в витамине С (одна выкуренная сигарета разрушает 25 мг С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5191200"/>
            <a:ext cx="2303280" cy="1666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НА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Способствует заживлению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ротиводействует инфекц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вышает усвоение желе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Обладает ярко выраженными антиоксидантными свойств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Играет важную роль в поддержании нормального формирования сердечно – сосудистой системы, печени и друг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Витамин C"/>
          <p:cNvPicPr/>
          <p:nvPr/>
        </p:nvPicPr>
        <p:blipFill>
          <a:blip r:embed="rId2"/>
          <a:stretch/>
        </p:blipFill>
        <p:spPr>
          <a:xfrm>
            <a:off x="0" y="115920"/>
            <a:ext cx="119556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АВИТАМИНО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ЦИНГ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-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Болезнь , вызываемая недостатком витамина  С в организме и проявляющаяся в разрыхлении и кровоточности слизистой оболочки десен, в мышечно-сосудистых болях, слаб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141720"/>
            <a:ext cx="271476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44:50Z</dcterms:created>
  <dc:creator>User</dc:creator>
  <dc:description/>
  <dc:language>en-US</dc:language>
  <cp:lastModifiedBy>Василий</cp:lastModifiedBy>
  <dcterms:modified xsi:type="dcterms:W3CDTF">2012-03-14T17:26:50Z</dcterms:modified>
  <cp:revision>13</cp:revision>
  <dc:subject/>
  <dc:title>Слайд 1</dc:title>
</cp:coreProperties>
</file>