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BDA-0E02-4E73-B15F-201C8B4C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F42-051A-4A63-8FF5-2EE7F613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5AF-0288-458E-81F0-A8292B9E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5EF-357B-4929-81F1-7E002876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4C89-D292-4ADF-A625-26255520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4D2D-906D-4400-88CA-815EE308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2672-670F-48D4-B912-C2928E34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0946-6092-4495-8C6B-13B00D87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8405-D5E2-4BF6-B7A6-F920B984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897C-DF64-40EB-8652-70A4EE5F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DF89-2063-4369-AADF-1C47AC25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CAF-123D-4155-968D-0946B872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DBA5-F9A9-4322-8C61-E077272A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FB71-27D7-4DEE-BF1E-E8CB45CE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0911-A1BD-42FE-966D-7A046369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915-2D21-43B4-9569-CF7A30DB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FB00-27FF-4BE8-92CD-10CF786F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1B1-BC1C-4F54-91C0-99C3BDA5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135-F318-4D53-8D07-31675814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61E-8948-4C43-9CFF-CF041B1A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5CF-B6EA-4AD9-B0D9-3A6D7A5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EA2-EDDA-4D50-9484-0A91194D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4B9-076C-4FA1-B786-3DD0ABE8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6FC-EE8A-4D29-9034-FEA9DA4F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A64-40DB-40FF-93E2-20F57EA723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F46D-6506-46E9-B922-3482822C9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nikblo.ru/NOW/now0050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ruklinok.info/_uploads/_pics/2011/004/Article_00003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calorizator.ru/sites/default/files/product/pepper-2.jpg" TargetMode="External"/><Relationship Id="rId8" Type="http://schemas.openxmlformats.org/officeDocument/2006/relationships/image" Target="../media/image1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hyperlink" Target="http://detivislame.ru/wp-content/uploads/2009/12/vitamin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b1_11.gif" TargetMode="External"/><Relationship Id="rId3" Type="http://schemas.openxmlformats.org/officeDocument/2006/relationships/image" Target="../media/image16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2/Beriberi_USNLM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viptur.wellnet.me/attachments/Image/Flora/vitamin/B1_s.jpg" TargetMode="External"/><Relationship Id="rId5" Type="http://schemas.openxmlformats.org/officeDocument/2006/relationships/image" Target="../media/image18.jpeg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.med-post.ru/img/products/product_846_img_1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eo.1september.ru/2001/19/4_4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.lady.ru/images/assets/site/2009/08/Vkusno/18/bobovie_main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www.foragro.ru/images/krupa/1_pchenichnaya/krupa_1_pchenichnaya_1_h_orig.jpeg" TargetMode="External"/><Relationship Id="rId9" Type="http://schemas.openxmlformats.org/officeDocument/2006/relationships/image" Target="../media/image22.jpeg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hyperlink" Target="http://www.your-eye.ru/wp-content/uploads/2009/11/vitamin-A-i-zdorovje-glaz.jpg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beauty.ru/imager.php/getnews/158/1360151891_104988_jpg" TargetMode="External"/><Relationship Id="rId3" Type="http://schemas.openxmlformats.org/officeDocument/2006/relationships/image" Target="../media/image24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taminn.ru/wp-content/themes/vitamin/images/header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5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6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6on.ru/uploads/Image/livestyle/0000094.jpg" TargetMode="External"/><Relationship Id="rId3" Type="http://schemas.openxmlformats.org/officeDocument/2006/relationships/image" Target="../media/image2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dy.ua/storage/images/kulinariya/kulinarnye-recepty/2010-01-17-recepty-moleculiarnoi-kuhni/kurinoe-yajco-kulinarnoe-chudo/584-1-rus-RU/Kurinoe-yajco-kulinarnoe-chudo_full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ovochi.com/admin/bindata/_0000741_foto.ico2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nmoment.ru/img/properties-parsley1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hyperlink" Target="http://mirsovetov.ru/images/1391/4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hivie-recepti.ru/wp-content/uploads/2011/04/vitamin-d-500x300.jpg" TargetMode="External"/><Relationship Id="rId3" Type="http://schemas.openxmlformats.org/officeDocument/2006/relationships/image" Target="../media/image34.jpe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vislame.ru/wp-content/uploads/2010/01/rahit_priznak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medikforum.ru/news/uploads/posts/2010-11/thumbs/1289649750_1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endocrinolog.narod.ru/images/osteoporosis_04.jpg" TargetMode="External"/><Relationship Id="rId7" Type="http://schemas.openxmlformats.org/officeDocument/2006/relationships/image" Target="../media/image37.jpeg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sovetov.ru/images/1391/3.jpg" TargetMode="External"/><Relationship Id="rId3" Type="http://schemas.openxmlformats.org/officeDocument/2006/relationships/image" Target="../media/image38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-woman.ru/wp-content/uploads/2010/04/vitam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hyperlink" Target="http://www.jv.ru/i/indoc/90/enc_entry_26260_1273070301.jpg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seva.ru/wp-content/uploads/2010/09/suhaya-kozha-litsa-foto.jpg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hyperlink" Target="http://www.cosmomir.ru/imgr/lt-facial-pigmentation-before-l.jpg" TargetMode="External"/><Relationship Id="rId6" Type="http://schemas.openxmlformats.org/officeDocument/2006/relationships/image" Target="../media/image44.jpeg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vitamine1.jpg" TargetMode="External"/><Relationship Id="rId3" Type="http://schemas.openxmlformats.org/officeDocument/2006/relationships/image" Target="../media/image45.jpe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" Target="slide30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pitanie.ru/pic/vitamini/vitamini.gif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getway.info/uploads/vitamini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http://www.travniku.ru/store/image/zdch/vitamin_c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00vitaminov.ru/pic/cinga.jpg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2492280"/>
            <a:ext cx="64818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ИТАМИН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23400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35120" y="33336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УЧИТЕЛЬ БИОЛОГИИ МКОУ СОШ № 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р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и в области жи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шн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чные кам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шиповник (сухой) 1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черная смородина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етрушка 19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ерец зеленый 1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Экстракт шиповника с содержанием аскорбиновой кислоты не менее 5%"/>
          <p:cNvPicPr/>
          <p:nvPr/>
        </p:nvPicPr>
        <p:blipFill>
          <a:blip r:embed="rId2"/>
          <a:stretch/>
        </p:blipFill>
        <p:spPr>
          <a:xfrm>
            <a:off x="250920" y="4941720"/>
            <a:ext cx="1619280" cy="15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65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653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133720"/>
            <a:ext cx="2233440" cy="22334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В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1 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(тиамин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2997360"/>
            <a:ext cx="48578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5 – 2, 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ные дозы витамина необходимы во время болезней и в период выздоровления, при высоких физических нагрузках, людям с гиперфункцией щитовидной железы, а также детям и пожилым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вует в углеводном,  энергетическом, жировом, белковом и водно-солевом обм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регулирующее воздействие на деятельность нервно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умственные способности и настро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тимизирует работу моз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положительное воздействие на р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лизует аппет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способность к обуч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478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 – бери (полиневри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Файл:Beriberi USNL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852640"/>
            <a:ext cx="3038400" cy="379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ы аллергические реакции, спаз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артериального да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огда бывает индивидуальная непереносимость витамина В1 – появляется крапивница и кожный з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е применение в больших дозах может привести к нарушению работы печени и поч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жжи пивные 10000 – 170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хис 7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хие стручковые овощи –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упа пшеничная 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212400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4365720"/>
            <a:ext cx="2425680" cy="20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892760"/>
            <a:ext cx="2085840" cy="19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0040" y="4149720"/>
            <a:ext cx="2523960" cy="16858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А (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ретинол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2492280"/>
            <a:ext cx="4211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точная потребность в ретиноле составляет  1 м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ормального усвоения витамина необходимо употребление достаточного количества жир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3357720"/>
            <a:ext cx="4489200" cy="29923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7360" y="981000"/>
            <a:ext cx="902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ИТАМИ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лат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й азот)  - это органические соединения, которые в небольших количествах постоянно требуются для протекания биохимических реакций в организ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060640"/>
            <a:ext cx="518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ывает влияние на рост человека улучшает состояние ко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ует сопротивлению организма инф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 рост и развитие эпителиальных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ходит в состав зрительного пигмента палочек сетчатки глаза - родопсина и зрительного пигмента колбочек - йодопсин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ухость во рту и сухость кожи могут говорить о дефиците витамина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амое яркое проявление авитаминоза А – проявление «куриной слепоты», то есть невозможность видеть в темно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&quot;Куриная слепота&quot; - самое яркое проявление авитаминоза 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быток витамина А у беременных приводит к врожденным уродствам у новорожденных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ередозировка витаминных комплексов с витамином А может привести к печеночной недостаточности и даже смерти. 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933720"/>
            <a:ext cx="228780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р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рукты и овощи красного, или оранжевого цвета (Например, морковь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й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789360"/>
            <a:ext cx="2525760" cy="168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72428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328464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Печень"/>
          <p:cNvPicPr/>
          <p:nvPr/>
        </p:nvPicPr>
        <p:blipFill>
          <a:blip r:embed="rId8"/>
          <a:stretch/>
        </p:blipFill>
        <p:spPr>
          <a:xfrm>
            <a:off x="250920" y="4724280"/>
            <a:ext cx="2303280" cy="1800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тамин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(кальци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4437000"/>
            <a:ext cx="2381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усвоения  кальция в организме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ет поддерживать кости и зубы в здоровом состоя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иммун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Для чего нужен витамин Д?"/>
          <p:cNvPicPr/>
          <p:nvPr/>
        </p:nvPicPr>
        <p:blipFill>
          <a:blip r:embed="rId2"/>
          <a:stretch/>
        </p:blipFill>
        <p:spPr>
          <a:xfrm>
            <a:off x="4140360" y="4734000"/>
            <a:ext cx="2628720" cy="2124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взрослых 2,5 - 5,0 мкг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детей, в зависимости от возраста и пола 2,5 - 10,0 мк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грудных детей 7,5 - 10,0 мк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а потребность в витамине D выше у людей, испытывающих недостаток ультрафиолетового облуч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живающих в высоких широта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телей регионов с повышенной загрязненностью атмосфер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ющих в ночную смену или просто ведущих ночной образ жиз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жачим больных, не бывающим на открытом воздух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людей с темной кожей (негроидная раса, загорелые люди) синтез витамина D в коже сниж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317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852640"/>
            <a:ext cx="2481480" cy="2665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24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852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19162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детей рахит, деформация позвоночн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ржка в росте и разви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5400" y="19890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зрослых развитие остеопор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ыточное потребление витам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жет привести к избыточной концентрации кальция. При этом кальций может проникать в стенки сосудов и провоцировать образование атеросклеротических бляш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новной источник получения Витамина D – это  непосредственное нахождение под солнцем. Наша кожа производит данный витамин, когда солнце воздействует на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рная ры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ичный жел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ыбий ж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843360"/>
            <a:ext cx="4464000" cy="30146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125360"/>
            <a:ext cx="37450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70028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125360"/>
            <a:ext cx="302436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АТАЛИЗАТОР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" y="3068640"/>
            <a:ext cx="91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БЕЛКОВЫЕ КАТАЛИЗАТОРЫ БИОХИМИЧЕСКИХ 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645000"/>
            <a:ext cx="2880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тамин Е (токо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93372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зрослый человек в день должен потреблять около 10 мг витамина Е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ность в витамине Е возрастает при беременности, интенсивной физической работе и в пожилом возра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80000" y="4724280"/>
            <a:ext cx="2232000" cy="18147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тамин E является антиоксидантом, который помогает защитить клетки от повреждения свободными радикалами кислор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лико значение витамина для половой системы, поэтому его часто называют «витамином размножен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сновные признаки его недостатка – апатия, сухость кожи и ломкость волос. Кроме того, на коже появляются мелкие морщины и пигментные пятна, могут появиться и обостриться кожные заболевания, например, экзем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00280"/>
            <a:ext cx="2828880" cy="298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6680" y="3500280"/>
            <a:ext cx="2857320" cy="21434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амин Е практически безопасен и нетоксичен. Но прием больших доз витамина может вызвать тошноту, расстройство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005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е ма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ехи и зер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ичный желто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  сорта жирной 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48000" y="436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ЛИТЕРАТУ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45640" y="3151440"/>
            <a:ext cx="601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3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700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hnb.com.ua/articles/s-zdorovie-vitamin_c_askorbinovaya_kislota-3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edfox.ru/archives/14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unduk.ru/encycl/chemfood/c015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ladytoday.ru/gde-soderzhitsya-vitamin-d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9280" y="692280"/>
            <a:ext cx="360036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Broadway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2133720"/>
            <a:ext cx="1224000" cy="158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060640"/>
            <a:ext cx="9352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860640"/>
            <a:ext cx="3095640" cy="24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ВОД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ГРУППЫ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С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, РР, 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3789360"/>
            <a:ext cx="302400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ЖИР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А, Д, Е,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189000"/>
            <a:ext cx="234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аполните таблиц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628640"/>
          <a:ext cx="8208720" cy="5043600"/>
        </p:xfrm>
        <a:graphic>
          <a:graphicData uri="http://schemas.openxmlformats.org/drawingml/2006/table">
            <a:tbl>
              <a:tblPr/>
              <a:tblGrid>
                <a:gridCol w="1800000"/>
                <a:gridCol w="1440000"/>
                <a:gridCol w="1800360"/>
                <a:gridCol w="172872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витам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Суто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д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а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гипер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Продукты, богатые витамин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2" action="ppaction://hlinksldjump"/>
              </a:rPr>
              <a:t>ВИТАМИН С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3" action="ppaction://hlinksldjump"/>
              </a:rPr>
              <a:t>_x000b_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(аскорбиновая кислот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СУТОЧНАЯ ПОТРЕБ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781360"/>
            <a:ext cx="3635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 - 1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ВРЕМЯ ПРОСТУДЫ ИЛИ БОЛЕЗНИ  150 –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ильщики и престарелые люди имеют повышенную потребность в витамине С (одна выкуренная сигарета разрушает 25 мг С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5191200"/>
            <a:ext cx="2303280" cy="1666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пособствует заживлению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ротиводействует инфекц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вышает усвоение жел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Обладает ярко выраженными антиоксидантными свой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Играет важную роль в поддержании нормального формирования сердечно – сосудистой системы, печени и других орг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Витамин C"/>
          <p:cNvPicPr/>
          <p:nvPr/>
        </p:nvPicPr>
        <p:blipFill>
          <a:blip r:embed="rId2"/>
          <a:stretch/>
        </p:blipFill>
        <p:spPr>
          <a:xfrm>
            <a:off x="0" y="115920"/>
            <a:ext cx="119556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ЦИНГА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Болезнь , вызываемая недостатком витамина  С в организме и проявляющаяся в разрыхлении и кровоточности слизистой оболочки десен, в мышечно-сосудистых болях, слаб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141720"/>
            <a:ext cx="271476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44:50Z</dcterms:created>
  <dc:creator>User</dc:creator>
  <dc:description/>
  <dc:language>en-US</dc:language>
  <cp:lastModifiedBy>Василий</cp:lastModifiedBy>
  <dcterms:modified xsi:type="dcterms:W3CDTF">2012-03-14T17:26:50Z</dcterms:modified>
  <cp:revision>13</cp:revision>
  <dc:subject/>
  <dc:title>Слайд 1</dc:title>
</cp:coreProperties>
</file>