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871B-3200-406A-B8A9-F914A1236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47DE-2164-4F16-8E3A-4B2B45D60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7E97F-E519-4FBD-920E-0A89987DC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469F-5391-4515-90FB-3273250BF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54BE-DB3D-466B-A84C-59DE15496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DABF6-B5CE-4BC2-B453-3B4C0371E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22E4E-DA1E-4746-9F9B-4D29A5C77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F905-98C9-4786-B775-81D154F7E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9A38C-86F2-44F4-BCE1-10E450A7E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685D-3518-4B0D-B269-D7BDE2668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49C0-6B62-4483-8277-685D50A1D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D0BA-EE82-4135-9B93-3075E436D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AC07-AC10-47D1-89EE-8D67ED1BBC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eviantart.com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   </a:t>
            </a: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Тайны долголе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6483240"/>
            <a:ext cx="8940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Arial"/>
              </a:rPr>
              <a:t>Работа учителя биологии Красносельской школы-интерната </a:t>
            </a:r>
            <a:r>
              <a:rPr b="0" lang="en-US" sz="1600" spc="-1" strike="noStrike">
                <a:solidFill>
                  <a:srgbClr val="336600"/>
                </a:solidFill>
                <a:latin typeface="Arial Bold"/>
              </a:rPr>
              <a:t>Мысковой О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«Спасительный остров»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21300000">
            <a:off x="450360" y="1590480"/>
            <a:ext cx="3810240" cy="2627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95280" y="4343400"/>
            <a:ext cx="9399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Раз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971800" y="3276720"/>
            <a:ext cx="3505320" cy="2582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67080" y="58672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анци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3809880"/>
            <a:ext cx="787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Я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239400">
            <a:off x="5415120" y="1530360"/>
            <a:ext cx="3319200" cy="22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Подальше от вра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3352680"/>
            <a:ext cx="93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В неб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5410080"/>
            <a:ext cx="1244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од зем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9528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На д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99400">
            <a:off x="4336560" y="1512360"/>
            <a:ext cx="3365640" cy="2248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 rot="21240000">
            <a:off x="1220760" y="167652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581280" y="373392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ообществ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5181480" cy="3454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5253120"/>
            <a:ext cx="65023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Социальные насекомые живут в несколько раз дольше, чем одиночки: сообщество защищает, греет и кормит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36640"/>
            <a:ext cx="229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Срок жизни рабочих пчёл - 6 недель, а пчелиной матки - 5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Торжество хладнокров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24080" y="1600200"/>
            <a:ext cx="5486400" cy="4118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2286000"/>
            <a:ext cx="24638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Рептилии стареют особенно медле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Змеи умеют замедлять обмен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5715000"/>
            <a:ext cx="246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Зелёный древесный пит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Отв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676520"/>
            <a:ext cx="7950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Андрей Подлуц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биолог, сотрудник лаборатории Стивена Оста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«Есть некий защитный генетический механизм, который, как в случае с опоссумами, начинает действовать, когда животные оказываются в безопасно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Информация об этой защитной программе и о том, как она запускается, содержится в каждой клетке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Найдя этот защитный ген, мы сможем продлить человеческ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 Bold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Искусство жить долго // GЕО, Февраль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Проект Мафусаил // GEO, Сентябрь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Фотографии взяты с сайта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eviantart.com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Bold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просы…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097000"/>
            <a:ext cx="7873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Почему люди старею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И почему так ран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Сто с небольшим - это все, на что может надеяться человек?</a:t>
            </a:r>
            <a:r>
              <a:rPr b="0" lang="en-US" sz="4100" spc="-1" strike="noStrike">
                <a:solidFill>
                  <a:srgbClr val="333300"/>
                </a:solidFill>
                <a:latin typeface="Arial Bold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зрастные группы риск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32448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Рецепт долголет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24816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пор геронтоло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33360" y="2286000"/>
            <a:ext cx="6476760" cy="4572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Джей Ольшански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профессор Школы здравоохранения при Университете Иллинойс в Чикаг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Максимум до 130 лет. На большее ресурсов человеческого организма просто не хватит».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47920"/>
            <a:ext cx="8255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К началу XXII века будут найдены способы значительно продлить человеческую жизнь. Вопрос – на сколько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1060560" cy="1600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38280" y="4191120"/>
            <a:ext cx="6197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Стивен Остад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профессор факультета биологических наук Университета Айдах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Люди XXII века смогут доживать до 150 лет. И это еще не предел»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12808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Биологический закон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0" y="31240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Старение – неизменный биологический закон (согласно теории эволю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Живым существам полагается быть относительно здоровыми лишь до тех пор, пока они не произведут на свет потомств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Природа установила предел жизни человека – 13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0440" y="2057400"/>
            <a:ext cx="34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Джей Ольшански уверен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10605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Метод от противного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1281240" cy="1752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678400" y="2133720"/>
            <a:ext cx="310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Стивен Остад считает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3233880"/>
            <a:ext cx="58165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Учёные исследуют виды, жизнь которых коротка, вместо того, чтобы обратить внимание на виды, которые живут дольше всех, и выяснить почему это происходит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Животные-долго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Животные-жертвы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3353040" cy="2683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9480" y="4419720"/>
            <a:ext cx="12956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Опоссу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1752480"/>
            <a:ext cx="436896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слабы, медлительны и беззащитны перед хищни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быстро старею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но достигают зрелости и оставлять многочисленное потом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724280"/>
            <a:ext cx="6121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Стивен Оста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Им нет смысла расходовать энергию на мощную иммунную систему или залечивание ран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9T10:06:36Z</dcterms:modified>
  <cp:revision>1</cp:revision>
  <dc:subject/>
  <dc:title>PowerPoint Presentation</dc:title>
</cp:coreProperties>
</file>