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2E94-943A-4435-8B1C-D59E6612D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ED1C-DD30-4E66-95D4-3B8B75584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5767-811E-4FB0-BF70-591AB76A0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0545-7708-4DDD-913E-3FBA56B2A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4B3B-7C80-4621-8179-86EC09076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8CD3-B204-4860-A702-1DDD44A84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5754-5844-4849-8979-27E36D070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7976-9990-4EC9-B50A-D65236874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226D-CFEA-48B5-A3DA-B868D61FC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5FE3-A862-429C-9648-5F68E8878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5AF5-CAAA-417E-92B1-DB1517918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9D83-09E6-48C7-B41F-B8DF97064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DCC-D21E-41DA-BA9E-00F128638A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eviantart.com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   </a:t>
            </a:r>
            <a:r>
              <a:rPr b="0" lang="en-US" sz="4400" spc="-1" strike="noStrike">
                <a:solidFill>
                  <a:srgbClr val="333300"/>
                </a:solidFill>
                <a:latin typeface="Arial Bold"/>
              </a:rPr>
              <a:t>Тайны долголе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483240"/>
            <a:ext cx="8940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  <a:ea typeface="Arial"/>
              </a:rPr>
              <a:t>Работа учителя биологии Красносельской школы-интерната </a:t>
            </a:r>
            <a:r>
              <a:rPr b="0" lang="en-US" sz="1600" spc="-1" strike="noStrike">
                <a:solidFill>
                  <a:srgbClr val="336600"/>
                </a:solidFill>
                <a:latin typeface="Arial Bold"/>
              </a:rPr>
              <a:t>Мысковой О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«Спасительный остров»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rot="21300000">
            <a:off x="450360" y="1590480"/>
            <a:ext cx="381024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4343400"/>
            <a:ext cx="9399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Раз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3505320" cy="258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67080" y="58672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анци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3809880"/>
            <a:ext cx="787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239400">
            <a:off x="5415120" y="1530360"/>
            <a:ext cx="33192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Подальше от вра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96080" y="3352680"/>
            <a:ext cx="93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В не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5410080"/>
            <a:ext cx="1244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Под зем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2880"/>
            <a:ext cx="10922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На 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99400">
            <a:off x="4336560" y="1512360"/>
            <a:ext cx="3365640" cy="2248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 rot="21240000">
            <a:off x="1220760" y="167652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ообщест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5181480" cy="3454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00200" y="5253120"/>
            <a:ext cx="65023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Социальные насекомые живут в несколько раз дольше, чем одиночки: сообщество защищает, греет и кормит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36640"/>
            <a:ext cx="229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Срок жизни рабочих пчёл - 6 недель, а пчелиной матки - 5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Торжество хладнокров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124080" y="1600200"/>
            <a:ext cx="5486400" cy="4118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2286000"/>
            <a:ext cx="24638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Рептилии стареют особенно медл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Змеи умеют замедлять обмен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5715000"/>
            <a:ext cx="24638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Зелёный древесный пи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Отв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676520"/>
            <a:ext cx="795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Андрей Подлуц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биолог, сотрудник лаборатории Стивена Ост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«Есть некий защитный генетический механизм, который, как в случае с опоссумами, начинает действовать, когда животные оказываются в безопас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Информация об этой защитной программе и о том, как она запускается, содержится в каждой клетке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Найдя этот защитный ген, мы сможем продлить человеческ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Bold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Искусство жить долго // GЕО, Февраль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Ута Хеншель. Проект Мафусаил // GEO, Сентябрь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Фотографии взяты с сайт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viantart.com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Bold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    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просы…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97000"/>
            <a:ext cx="787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Почему люди стареют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И почему так ран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5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Arial Bold"/>
              </a:rPr>
              <a:t>Сто с небольшим - это все, на что может надеяться человек?</a:t>
            </a:r>
            <a:r>
              <a:rPr b="0" lang="en-US" sz="4100" spc="-1" strike="noStrike">
                <a:solidFill>
                  <a:srgbClr val="333300"/>
                </a:solidFill>
                <a:latin typeface="Arial Bold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Возрастные группы риск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Рецепт долголети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2481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Спор геронтолог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360" y="228600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Джей Ольшански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профессор Школы здравоохранения при Университете Иллинойс в Чикаг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ヒラギノ角ゴ ProN W3"/>
              </a:rPr>
              <a:t>	</a:t>
            </a: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Максимум до 130 лет. На большее ресурсов человеческого организма просто не хватит».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255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К началу XXII века будут найдены способы значительно продлить человеческую жизнь. Вопрос – на скольк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106056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38280" y="4191120"/>
            <a:ext cx="6197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Bold"/>
              </a:rPr>
              <a:t>Стивен Остад</a:t>
            </a: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профессор факультета биологических наук Университета Айдахо (США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Arial Italic"/>
              </a:rPr>
              <a:t>«Люди XXII века смогут доживать до 150 лет. И это еще не предел».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12808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Биологический закон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1240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Старение – неизменный биологический закон (согласно теории эволю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Живым существам полагается быть относительно здоровыми лишь до тех пор, пока они не произведут на свет потомств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9440" indent="-609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Природа установила предел жизни человека – 13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440" y="2057400"/>
            <a:ext cx="34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Джей Ольшански уверен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10605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   </a:t>
            </a: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Метод от противного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1281240" cy="175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678400" y="2133720"/>
            <a:ext cx="31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 Bold"/>
              </a:rPr>
              <a:t>Стивен Остад считает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233880"/>
            <a:ext cx="58165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Учёные исследуют виды, жизнь которых коротка, вместо того, чтобы обратить внимание на виды, которые живут дольше всех, и выяснить почему это происходит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6600"/>
                </a:solidFill>
                <a:latin typeface="Arial Bold"/>
              </a:rPr>
              <a:t>      </a:t>
            </a:r>
            <a:r>
              <a:rPr b="0" lang="en-US" sz="4000" spc="-1" strike="noStrike">
                <a:solidFill>
                  <a:srgbClr val="336600"/>
                </a:solidFill>
                <a:latin typeface="Arial Bold"/>
              </a:rPr>
              <a:t>Животные-долгож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Arial Bold"/>
              </a:rPr>
              <a:t>Животные-жертвы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353040" cy="26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4419720"/>
            <a:ext cx="1295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00"/>
                </a:solidFill>
                <a:latin typeface="Arial"/>
                <a:ea typeface="Arial"/>
              </a:rPr>
              <a:t>Опоссу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1752480"/>
            <a:ext cx="436896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old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лабы, медлительны и беззащитны перед хищ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и быстро старею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о достигают зрелости и оставлять многочисленное потом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724280"/>
            <a:ext cx="6121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 Bold"/>
              </a:rPr>
              <a:t>Стивен Оста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м нет смысла расходовать энергию на мощную иммунную систему или залечивание ран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9T10:06:36Z</dcterms:modified>
  <cp:revision>1</cp:revision>
  <dc:subject/>
  <dc:title>PowerPoint Presentation</dc:title>
</cp:coreProperties>
</file>