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2A65C-9D0D-4958-9F46-C9755BB83C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FBC99-8889-46AC-97DD-0FFC48CF74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7CF92-BCDE-4F9C-A58D-B99D3C4653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97BBC-2A54-4001-B2C8-BFABF669B0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8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EA7EA-1B99-466D-BB0B-EA2156F240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E41EA-00BE-4671-A1C7-81A7F4AB6D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ADFB4-D607-482A-B98A-5AF1142DD5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E2207-67CD-44C7-A66E-56A36CA983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8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D956B-4046-4642-8BEB-023DC6BD5D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BF9E5-2D26-41B9-A67B-4F90663998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5E2C0-1F73-40EC-B5BC-1A18130CEB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1EFD0-1CCF-4843-BCA1-A07AA22BD3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828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62800" y="624492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C99EE-BADC-4352-B156-55FEC8ED8A0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828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deviantart.com/" TargetMode="Externa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Arial Bold"/>
              </a:rPr>
              <a:t>   </a:t>
            </a:r>
            <a:r>
              <a:rPr b="0" lang="en-US" sz="4400" spc="-1" strike="noStrike">
                <a:solidFill>
                  <a:srgbClr val="333300"/>
                </a:solidFill>
                <a:latin typeface="Arial Bold"/>
              </a:rPr>
              <a:t>Тайны долголе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6320" y="6483240"/>
            <a:ext cx="89406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Arial"/>
                <a:ea typeface="Arial"/>
              </a:rPr>
              <a:t>Работа учителя биологии Красносельской школы-интерната </a:t>
            </a:r>
            <a:r>
              <a:rPr b="0" lang="en-US" sz="1600" spc="-1" strike="noStrike">
                <a:solidFill>
                  <a:srgbClr val="336600"/>
                </a:solidFill>
                <a:latin typeface="Arial Bold"/>
              </a:rPr>
              <a:t>Мысковой О.П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      </a:t>
            </a: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«Спасительный остров»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 rot="21300000">
            <a:off x="450360" y="1590480"/>
            <a:ext cx="3810240" cy="26272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295280" y="4343400"/>
            <a:ext cx="93996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00"/>
                </a:solidFill>
                <a:latin typeface="Arial"/>
                <a:ea typeface="Arial"/>
              </a:rPr>
              <a:t>Разм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2971800" y="3276720"/>
            <a:ext cx="3505320" cy="2582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267080" y="5867280"/>
            <a:ext cx="10922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00"/>
                </a:solidFill>
                <a:latin typeface="Arial"/>
                <a:ea typeface="Arial"/>
              </a:rPr>
              <a:t>Панцир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162920" y="3809880"/>
            <a:ext cx="7873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00"/>
                </a:solidFill>
                <a:latin typeface="Arial"/>
                <a:ea typeface="Arial"/>
              </a:rPr>
              <a:t>Я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 rot="239400">
            <a:off x="5415120" y="1530360"/>
            <a:ext cx="3319200" cy="229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 </a:t>
            </a: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Подальше от врагов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96080" y="3352680"/>
            <a:ext cx="939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00"/>
                </a:solidFill>
                <a:latin typeface="Arial"/>
                <a:ea typeface="Arial"/>
              </a:rPr>
              <a:t>В неб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10280" y="5410080"/>
            <a:ext cx="12448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00"/>
                </a:solidFill>
                <a:latin typeface="Arial"/>
                <a:ea typeface="Arial"/>
              </a:rPr>
              <a:t>Под земл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76520" y="4952880"/>
            <a:ext cx="10922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00"/>
                </a:solidFill>
                <a:latin typeface="Arial"/>
                <a:ea typeface="Arial"/>
              </a:rPr>
              <a:t>На д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 rot="299400">
            <a:off x="4336560" y="1512360"/>
            <a:ext cx="3365640" cy="22482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 rot="21240000">
            <a:off x="1220760" y="1676520"/>
            <a:ext cx="2400480" cy="32004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3581280" y="3733920"/>
            <a:ext cx="335304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           </a:t>
            </a: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Сообщества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990720" y="1676520"/>
            <a:ext cx="5181480" cy="34542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600200" y="5253120"/>
            <a:ext cx="65023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  <a:ea typeface="Arial"/>
              </a:rPr>
              <a:t>Социальные насекомые живут в несколько раз дольше, чем одиночки: сообщество защищает, греет и кормит.</a:t>
            </a:r>
            <a:r>
              <a:rPr b="0" lang="en-US" sz="1800" spc="-1" strike="noStrike">
                <a:solidFill>
                  <a:srgbClr val="3333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36640"/>
            <a:ext cx="2298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00"/>
                </a:solidFill>
                <a:latin typeface="Arial"/>
                <a:ea typeface="Arial"/>
              </a:rPr>
              <a:t>Срок жизни рабочих пчёл - 6 недель, а пчелиной матки - 5 л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        </a:t>
            </a: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Торжество хладнокровия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124080" y="1600200"/>
            <a:ext cx="5486400" cy="41180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33520" y="2286000"/>
            <a:ext cx="2463840" cy="21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2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  <a:ea typeface="Arial"/>
              </a:rPr>
              <a:t>Рептилии стареют особенно медлен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2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  <a:ea typeface="Arial"/>
              </a:rPr>
              <a:t>Змеи умеют замедлять обмен веще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172200" y="5715000"/>
            <a:ext cx="246384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00"/>
                </a:solidFill>
                <a:latin typeface="Arial"/>
                <a:ea typeface="Arial"/>
              </a:rPr>
              <a:t>Зелёный древесный пито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00"/>
                </a:solidFill>
                <a:latin typeface="Arial"/>
              </a:rPr>
              <a:t>          </a:t>
            </a:r>
            <a:r>
              <a:rPr b="0" lang="en-US" sz="4000" spc="-1" strike="noStrike">
                <a:solidFill>
                  <a:srgbClr val="336600"/>
                </a:solidFill>
                <a:latin typeface="Arial Bold"/>
              </a:rPr>
              <a:t>Ответ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1676520"/>
            <a:ext cx="79502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 Bold"/>
              </a:rPr>
              <a:t>Андрей Подлуцки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  <a:ea typeface="Arial"/>
              </a:rPr>
              <a:t>биолог, сотрудник лаборатории Стивена Остад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  <a:ea typeface="Arial"/>
              </a:rPr>
              <a:t>«Есть некий защитный генетический механизм, который, как в случае с опоссумами, начинает действовать, когда животные оказываются в безопасности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  <a:ea typeface="Arial"/>
              </a:rPr>
              <a:t>Информация об этой защитной программе и о том, как она запускается, содержится в каждой клетке организм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  <a:ea typeface="Arial"/>
              </a:rPr>
              <a:t>Найдя этот защитный ген, мы сможем продлить человеческую жиз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 Bold"/>
              </a:rPr>
              <a:t>Список источн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Ута Хеншель. Искусство жить долго // GЕО, Февраль 200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Ута Хеншель. Проект Мафусаил // GEO, Сентябрь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Фотографии взяты с сайта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deviantart.com</a:t>
            </a: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3047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 Bold"/>
              </a:rPr>
              <a:t>СПАСИБО ЗА 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          </a:t>
            </a: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Вопросы…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097000"/>
            <a:ext cx="78739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82680" indent="-343080">
              <a:lnSpc>
                <a:spcPct val="150000"/>
              </a:lnSpc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00"/>
                </a:solidFill>
                <a:latin typeface="Arial Bold"/>
              </a:rPr>
              <a:t>Почему люди стареют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50000"/>
              </a:lnSpc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00"/>
                </a:solidFill>
                <a:latin typeface="Arial Bold"/>
              </a:rPr>
              <a:t>И почему так рано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50000"/>
              </a:lnSpc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00"/>
                </a:solidFill>
                <a:latin typeface="Arial Bold"/>
              </a:rPr>
              <a:t>Сто с небольшим - это все, на что может надеяться человек?</a:t>
            </a:r>
            <a:r>
              <a:rPr b="0" lang="en-US" sz="4100" spc="-1" strike="noStrike">
                <a:solidFill>
                  <a:srgbClr val="333300"/>
                </a:solidFill>
                <a:latin typeface="Arial Bold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Возрастные группы риска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447920" y="1523880"/>
            <a:ext cx="6324480" cy="474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Рецепт долголетия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447920" y="1523880"/>
            <a:ext cx="6248160" cy="468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Спор геронтологов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133360" y="2286000"/>
            <a:ext cx="6476760" cy="45720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ヒラギノ角ゴ ProN W3"/>
              </a:rPr>
              <a:t>	</a:t>
            </a:r>
            <a:r>
              <a:rPr b="0" lang="en-US" sz="1600" spc="-1" strike="noStrike">
                <a:solidFill>
                  <a:srgbClr val="333300"/>
                </a:solidFill>
                <a:latin typeface="Arial Bold"/>
              </a:rPr>
              <a:t>Джей Ольшански</a:t>
            </a:r>
            <a:r>
              <a:rPr b="0" lang="en-US" sz="1600" spc="-1" strike="noStrike">
                <a:solidFill>
                  <a:srgbClr val="333300"/>
                </a:solidFill>
                <a:latin typeface="Arial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ヒラギノ角ゴ ProN W3"/>
              </a:rPr>
              <a:t>	</a:t>
            </a:r>
            <a:r>
              <a:rPr b="0" lang="en-US" sz="1600" spc="-1" strike="noStrike">
                <a:solidFill>
                  <a:srgbClr val="333300"/>
                </a:solidFill>
                <a:latin typeface="Arial"/>
              </a:rPr>
              <a:t>профессор Школы здравоохранения при Университете Иллинойс в Чикаго (США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ヒラギノ角ゴ ProN W3"/>
              </a:rPr>
              <a:t>	</a:t>
            </a:r>
            <a:r>
              <a:rPr b="0" lang="en-US" sz="1600" spc="-1" strike="noStrike">
                <a:solidFill>
                  <a:srgbClr val="333300"/>
                </a:solidFill>
                <a:latin typeface="Arial Italic"/>
              </a:rPr>
              <a:t>«Максимум до 130 лет. На большее ресурсов человеческого организма просто не хватит».</a:t>
            </a:r>
            <a:r>
              <a:rPr b="0" lang="en-US" sz="1600" spc="-1" strike="noStrike">
                <a:solidFill>
                  <a:srgbClr val="3333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447920"/>
            <a:ext cx="82551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К началу XXII века будут найдены способы значительно продлить человеческую жизнь. Вопрос – на сколько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066680" y="2209680"/>
            <a:ext cx="1060560" cy="16002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438280" y="4191120"/>
            <a:ext cx="619776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Arial Bold"/>
              </a:rPr>
              <a:t>Стивен Остад</a:t>
            </a:r>
            <a:r>
              <a:rPr b="0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профессор факультета биологических наук Университета Айдахо (США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Arial Italic"/>
              </a:rPr>
              <a:t>«Люди XXII века смогут доживать до 150 лет. И это еще не предел».</a:t>
            </a:r>
            <a:r>
              <a:rPr b="0" lang="en-US" sz="1800" spc="-1" strike="noStrike">
                <a:solidFill>
                  <a:srgbClr val="3333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990720" y="4114800"/>
            <a:ext cx="128088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940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   </a:t>
            </a: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Биологический закон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0" y="3124080"/>
            <a:ext cx="6400800" cy="373392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649440" indent="-609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99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Старение – неизменный биологический закон (согласно теории эволюци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99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Живым существам полагается быть относительно здоровыми лишь до тех пор, пока они не произведут на свет потомство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99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Природа установила предел жизни человека – 130 л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0440" y="2057400"/>
            <a:ext cx="34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Arial Bold"/>
              </a:rPr>
              <a:t>Джей Ольшански уверен, чт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066680" y="2057400"/>
            <a:ext cx="106056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   </a:t>
            </a: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Метод от противного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143000" y="2133720"/>
            <a:ext cx="1281240" cy="17524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678400" y="2133720"/>
            <a:ext cx="310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Arial Bold"/>
              </a:rPr>
              <a:t>Стивен Остад считает, чт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43200" y="3233880"/>
            <a:ext cx="581652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«Учёные исследуют виды, жизнь которых коротка, вместо того, чтобы обратить внимание на виды, которые живут дольше всех, и выяснить почему это происходит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36600"/>
                </a:solidFill>
                <a:latin typeface="Arial Bold"/>
              </a:rPr>
              <a:t>      </a:t>
            </a:r>
            <a:r>
              <a:rPr b="0" lang="en-US" sz="4000" spc="-1" strike="noStrike">
                <a:solidFill>
                  <a:srgbClr val="336600"/>
                </a:solidFill>
                <a:latin typeface="Arial Bold"/>
              </a:rPr>
              <a:t>Животные-долгожите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Животные-жертвы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3353040" cy="26830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09480" y="4419720"/>
            <a:ext cx="129564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00"/>
                </a:solidFill>
                <a:latin typeface="Arial"/>
                <a:ea typeface="Arial"/>
              </a:rPr>
              <a:t>Опоссу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343400" y="1752480"/>
            <a:ext cx="4368960" cy="24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old"/>
              </a:rPr>
              <a:t>Призна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11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ни слабы, медлительны и беззащитны перед хищник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11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ни быстро старею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11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Рано достигают зрелости и оставлять многочисленное потом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90920" y="4724280"/>
            <a:ext cx="61214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 Bold"/>
              </a:rPr>
              <a:t>Стивен Остад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«Им нет смысла расходовать энергию на мощную иммунную систему или залечивание ран»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КарМаН</cp:lastModifiedBy>
  <dcterms:modified xsi:type="dcterms:W3CDTF">2012-02-29T10:06:36Z</dcterms:modified>
  <cp:revision>1</cp:revision>
  <dc:subject/>
  <dc:title>PowerPoint Presentation</dc:title>
</cp:coreProperties>
</file>