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E37DA-67AB-4789-AB23-17A409D537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8D3A9-EED2-4D30-92BC-2A36C4F806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E49B0-51FF-4D04-A2A5-8F5C3BECD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4EE40-EA9A-46B3-BCDD-EF566E31DE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A3672-C15A-419A-949F-363501E683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C8364-5CEC-416C-BF67-5AADBC92B8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F8BC3-1C09-434B-BE6B-C7140CEC41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98769-B742-42A6-B26A-B5272E8376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F7C07-B4AE-4D6C-AFA5-EA14BCB074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A56C0-CB11-47C9-AFF6-2B3260ED8B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F5A32-801F-4958-BEE7-2CA608BD68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A14A7-63AF-4B3C-AC6E-CE9CC8B616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80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23CF-EC3D-42EC-8A23-22C2984BE2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eviantart.com/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 Bold"/>
              </a:rPr>
              <a:t>   </a:t>
            </a:r>
            <a:r>
              <a:rPr b="0" lang="en-US" sz="4400" spc="-1" strike="noStrike">
                <a:solidFill>
                  <a:srgbClr val="333300"/>
                </a:solidFill>
                <a:latin typeface="Arial Bold"/>
              </a:rPr>
              <a:t>Тайны долголе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6483240"/>
            <a:ext cx="8940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Arial"/>
                <a:ea typeface="Arial"/>
              </a:rPr>
              <a:t>Работа учителя биологии Красносельской школы-интерната </a:t>
            </a:r>
            <a:r>
              <a:rPr b="0" lang="en-US" sz="1600" spc="-1" strike="noStrike">
                <a:solidFill>
                  <a:srgbClr val="336600"/>
                </a:solidFill>
                <a:latin typeface="Arial Bold"/>
              </a:rPr>
              <a:t>Мысковой О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«Спасительный остров»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rot="21300000">
            <a:off x="450360" y="1590480"/>
            <a:ext cx="3810240" cy="2627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95280" y="4343400"/>
            <a:ext cx="9399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Разм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971800" y="3276720"/>
            <a:ext cx="3505320" cy="2582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267080" y="5867280"/>
            <a:ext cx="10922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Панци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62920" y="3809880"/>
            <a:ext cx="7873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Я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 rot="239400">
            <a:off x="5415120" y="1530360"/>
            <a:ext cx="3319200" cy="22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Подальше от враг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96080" y="3352680"/>
            <a:ext cx="93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В неб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5410080"/>
            <a:ext cx="1244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Под зем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4952880"/>
            <a:ext cx="10922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На д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 rot="299400">
            <a:off x="4336560" y="1512360"/>
            <a:ext cx="3365640" cy="2248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 rot="21240000">
            <a:off x="1220760" y="1676520"/>
            <a:ext cx="2400480" cy="3200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581280" y="3733920"/>
            <a:ext cx="33530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Сообществ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5181480" cy="3454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00200" y="5253120"/>
            <a:ext cx="65023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Социальные насекомые живут в несколько раз дольше, чем одиночки: сообщество защищает, греет и кормит.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36640"/>
            <a:ext cx="2298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Срок жизни рабочих пчёл - 6 недель, а пчелиной матки - 5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Торжество хладнокровия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124080" y="1600200"/>
            <a:ext cx="5486400" cy="4118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3520" y="2286000"/>
            <a:ext cx="246384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Рептилии стареют особенно медлен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2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Змеи умеют замедлять обмен вещ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5715000"/>
            <a:ext cx="246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Зелёный древесный пит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336600"/>
                </a:solidFill>
                <a:latin typeface="Arial Bold"/>
              </a:rPr>
              <a:t>Отве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676520"/>
            <a:ext cx="79502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 Bold"/>
              </a:rPr>
              <a:t>Андрей Подлуцк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биолог, сотрудник лаборатории Стивена Оста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«Есть некий защитный генетический механизм, который, как в случае с опоссумами, начинает действовать, когда животные оказываются в безопасност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Информация об этой защитной программе и о том, как она запускается, содержится в каждой клетке орган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Найдя этот защитный ген, мы сможем продлить человеческую 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 Bold"/>
              </a:rPr>
              <a:t>Список источ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Ута Хеншель. Искусство жить долго // GЕО, Февраль 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Ута Хеншель. Проект Мафусаил // GEO, Сентябрь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Фотографии взяты с сайта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deviantart.com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 Bold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Вопросы…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097000"/>
            <a:ext cx="7873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82680" indent="-343080">
              <a:lnSpc>
                <a:spcPct val="15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 Bold"/>
              </a:rPr>
              <a:t>Почему люди стареют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 Bold"/>
              </a:rPr>
              <a:t>И почему так рано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 Bold"/>
              </a:rPr>
              <a:t>Сто с небольшим - это все, на что может надеяться человек?</a:t>
            </a:r>
            <a:r>
              <a:rPr b="0" lang="en-US" sz="4100" spc="-1" strike="noStrike">
                <a:solidFill>
                  <a:srgbClr val="333300"/>
                </a:solidFill>
                <a:latin typeface="Arial Bold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Возрастные группы риск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324480" cy="47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Рецепт долголетия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248160" cy="46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Спор геронтолог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33360" y="2286000"/>
            <a:ext cx="6476760" cy="4572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ヒラギノ角ゴ ProN W3"/>
              </a:rPr>
              <a:t>	</a:t>
            </a:r>
            <a:r>
              <a:rPr b="0" lang="en-US" sz="1600" spc="-1" strike="noStrike">
                <a:solidFill>
                  <a:srgbClr val="333300"/>
                </a:solidFill>
                <a:latin typeface="Arial Bold"/>
              </a:rPr>
              <a:t>Джей Ольшански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ヒラギノ角ゴ ProN W3"/>
              </a:rPr>
              <a:t>	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</a:rPr>
              <a:t>профессор Школы здравоохранения при Университете Иллинойс в Чикаго (США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ヒラギノ角ゴ ProN W3"/>
              </a:rPr>
              <a:t>	</a:t>
            </a:r>
            <a:r>
              <a:rPr b="0" lang="en-US" sz="1600" spc="-1" strike="noStrike">
                <a:solidFill>
                  <a:srgbClr val="333300"/>
                </a:solidFill>
                <a:latin typeface="Arial Italic"/>
              </a:rPr>
              <a:t>«Максимум до 130 лет. На большее ресурсов человеческого организма просто не хватит».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447920"/>
            <a:ext cx="8255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К началу XXII века будут найдены способы значительно продлить человеческую жизнь. Вопрос – на сколько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066680" y="2209680"/>
            <a:ext cx="1060560" cy="1600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438280" y="4191120"/>
            <a:ext cx="61977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 Bold"/>
              </a:rPr>
              <a:t>Стивен Остад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профессор факультета биологических наук Университета Айдахо (США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 Italic"/>
              </a:rPr>
              <a:t>«Люди XXII века смогут доживать до 150 лет. И это еще не предел».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128088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Биологический закон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0" y="312408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64944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Старение – неизменный биологический закон (согласно теории эволюц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Живым существам полагается быть относительно здоровыми лишь до тех пор, пока они не произведут на свет потомств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Природа установила предел жизни человека – 130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0440" y="2057400"/>
            <a:ext cx="34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 Bold"/>
              </a:rPr>
              <a:t>Джей Ольшански уверен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66680" y="2057400"/>
            <a:ext cx="106056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Метод от противного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43000" y="2133720"/>
            <a:ext cx="1281240" cy="1752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678400" y="2133720"/>
            <a:ext cx="310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 Bold"/>
              </a:rPr>
              <a:t>Стивен Остад считает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3233880"/>
            <a:ext cx="58165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«Учёные исследуют виды, жизнь которых коротка, вместо того, чтобы обратить внимание на виды, которые живут дольше всех, и выяснить почему это происходит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6600"/>
                </a:solidFill>
                <a:latin typeface="Arial Bold"/>
              </a:rPr>
              <a:t>      </a:t>
            </a:r>
            <a:r>
              <a:rPr b="0" lang="en-US" sz="4000" spc="-1" strike="noStrike">
                <a:solidFill>
                  <a:srgbClr val="336600"/>
                </a:solidFill>
                <a:latin typeface="Arial Bold"/>
              </a:rPr>
              <a:t>Животные-долгож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Животные-жертвы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3353040" cy="2683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09480" y="4419720"/>
            <a:ext cx="12956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Опоссу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1752480"/>
            <a:ext cx="4368960" cy="24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old"/>
              </a:rPr>
              <a:t>При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ни слабы, медлительны и беззащитны перед хищни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ни быстро старею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но достигают зрелости и оставлять многочисленное потом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4724280"/>
            <a:ext cx="61214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 Bold"/>
              </a:rPr>
              <a:t>Стивен Оста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«Им нет смысла расходовать энергию на мощную иммунную систему или залечивание ран»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КарМаН</cp:lastModifiedBy>
  <dcterms:modified xsi:type="dcterms:W3CDTF">2012-02-29T10:06:36Z</dcterms:modified>
  <cp:revision>1</cp:revision>
  <dc:subject/>
  <dc:title>PowerPoint Presentation</dc:title>
</cp:coreProperties>
</file>