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39ED-1F29-40AB-BEBD-1DBBB213B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1B14-192D-48D7-9703-6018C21D4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21A5-C216-4B16-AC4E-239ECE378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D108-5DD8-4E03-9AC5-F76575877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5FFA-DB74-44E6-AE43-652C606AA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F4D0-B4DE-499F-B496-CE55DE939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5BE8-D173-4976-B3B3-BE625E4F4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A7C2-275F-4329-89C5-927A67C3A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9FF3-89ED-44B3-8236-143126A88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4082-183B-413D-BF39-EE452D7F4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BD5A-FBC9-40DA-9234-667F2CE79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E36A-AD1B-42CC-8794-09432A6A1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33B6-33F6-4A90-8953-A0DE7904B9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eviantart.com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   </a:t>
            </a: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Тайны долголе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483240"/>
            <a:ext cx="8940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Arial"/>
              </a:rPr>
              <a:t>Работа учителя биологии Красносельской школы-интерната </a:t>
            </a:r>
            <a:r>
              <a:rPr b="0" lang="en-US" sz="1600" spc="-1" strike="noStrike">
                <a:solidFill>
                  <a:srgbClr val="336600"/>
                </a:solidFill>
                <a:latin typeface="Arial Bold"/>
              </a:rPr>
              <a:t>Мысковой О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«Спасительный остров»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1300000">
            <a:off x="450360" y="1590480"/>
            <a:ext cx="3810240" cy="262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95280" y="4343400"/>
            <a:ext cx="939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Раз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971800" y="3276720"/>
            <a:ext cx="3505320" cy="258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67080" y="58672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анци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3809880"/>
            <a:ext cx="787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Я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239400">
            <a:off x="5415120" y="1530360"/>
            <a:ext cx="331920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Подальше от вра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3352680"/>
            <a:ext cx="93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В не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5410080"/>
            <a:ext cx="1244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од зем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9528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На д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99400">
            <a:off x="4336560" y="1512360"/>
            <a:ext cx="3365640" cy="2248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21240000">
            <a:off x="1220760" y="167652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ообщест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5181480" cy="345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5253120"/>
            <a:ext cx="65023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Социальные насекомые живут в несколько раз дольше, чем одиночки: сообщество защищает, греет и кормит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36640"/>
            <a:ext cx="229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Срок жизни рабочих пчёл - 6 недель, а пчелиной матки - 5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Торжество хладнокров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24080" y="160020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2286000"/>
            <a:ext cx="24638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Рептилии стареют особенно медл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Змеи умеют замедлять обмен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5715000"/>
            <a:ext cx="246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Зелёный древесный пит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Отв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676520"/>
            <a:ext cx="7950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Андрей Подлуц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биолог, сотрудник лаборатории Стивена Ост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«Есть некий защитный генетический механизм, который, как в случае с опоссумами, начинает действовать, когда животные оказываются в безопас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Информация об этой защитной программе и о том, как она запускается, содержится в каждой клетке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Найдя этот защитный ген, мы сможем продлить человеческ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old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Искусство жить долго // GЕО, Февраль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Проект Мафусаил // GEO, Сентябрь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Фотографии взяты с сайт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eviantart.com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Bold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просы…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097000"/>
            <a:ext cx="7873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Почему люди старею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И почему так ра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Сто с небольшим - это все, на что может надеяться человек?</a:t>
            </a:r>
            <a:r>
              <a:rPr b="0" lang="en-US" sz="4100" spc="-1" strike="noStrike">
                <a:solidFill>
                  <a:srgbClr val="333300"/>
                </a:solidFill>
                <a:latin typeface="Arial Bold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зрастные группы риск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2448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Рецепт долголет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24816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пор геронтоло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Джей Ольшански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профессор Школы здравоохранения при Университете Иллинойс в Чикаг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Максимум до 130 лет. На большее ресурсов человеческого организма просто не хватит».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255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К началу XXII века будут найдены способы значительно продлить человеческую жизнь. Вопрос – на скольк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1060560" cy="160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38280" y="4191120"/>
            <a:ext cx="6197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Стивен Остад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профессор факультета биологических наук Университета Айдах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Люди XXII века смогут доживать до 150 лет. И это еще не предел»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12808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Биологический закон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0" y="31240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Старение – неизменный биологический закон (согласно теории эволю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Живым существам полагается быть относительно здоровыми лишь до тех пор, пока они не произведут на свет потомств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Природа установила предел жизни человека – 13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0440" y="2057400"/>
            <a:ext cx="34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Джей Ольшански уверен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10605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Метод от противного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1281240" cy="175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678400" y="2133720"/>
            <a:ext cx="310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Стивен Остад считает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233880"/>
            <a:ext cx="58165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Учёные исследуют виды, жизнь которых коротка, вместо того, чтобы обратить внимание на виды, которые живут дольше всех, и выяснить почему это происходи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Животные-долго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Животные-жертв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353040" cy="2683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4419720"/>
            <a:ext cx="1295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Опосс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1752480"/>
            <a:ext cx="436896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слабы, медлительны и беззащитны перед хищни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быстро старе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но достигают зрелости и оставлять многочисленное потом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724280"/>
            <a:ext cx="6121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Стивен Оста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Им нет смысла расходовать энергию на мощную иммунную систему или залечивание ран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9T10:06:36Z</dcterms:modified>
  <cp:revision>1</cp:revision>
  <dc:subject/>
  <dc:title>PowerPoint Presentation</dc:title>
</cp:coreProperties>
</file>