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5D720-23CD-47CE-A84A-6E01DDB0D9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F67A3-E9E7-4FCC-9022-D620E5D126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3855C-AD53-48D6-9546-49E1A2EEED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5231B-F232-4A97-8EB5-424B89310D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514EC-076F-4AD8-8F77-2C110A225F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71680-DEAA-482D-9EDD-589226EC32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513F7-C7BC-434F-A07B-D452C84260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0A68D-1F37-4C44-8C68-A23F9B9A73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4242B-C94B-4EDC-B780-0DB48A9682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BD7EF-9CA8-4D64-B245-93324A1E59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256C7-2B66-4C53-8F6F-8CA373095A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F4754-2332-4003-8B43-D03671E9A1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746136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CBA3-941D-444D-82F5-3EAA927DB47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herepahi.ru/" TargetMode="External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6840" y="5943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9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ef96f"/>
                </a:solidFill>
                <a:latin typeface="Tahoma"/>
                <a:ea typeface="Tahoma"/>
              </a:rPr>
              <a:t>Работа учителя биологии Красносельской школы-интарната Мысковой О.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32986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реднеазиатская черепа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Размн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оловая зрелос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природе: в 10 лет (самки позже самцов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неволе: в 5-6 л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откладывания яиц: апрель – ию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Число кладок: 1 –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Грунт: плотный, слегка влажный пес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Лун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иаметр 4м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лубина 0,5с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Число яиц в кладке: 2 - 6 ш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Температура инкубации: 22 – 28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лажность: 50 – 70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инкубации: 60 – 80 – 120 сут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вылупления: август – октябр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Размеры черепашат: 3 – 5 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ачинают питаться через 2 – 4 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 rot="360000">
            <a:off x="5339880" y="26938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omic Sans MS Bold"/>
              </a:rPr>
              <a:t>Основная информация по ух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РЕДНЕАЗИАТСКАЯ ЧЕРЕПА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одержание в  </a:t>
            </a:r>
            <a:r>
              <a:rPr b="0" lang="en-US" sz="1800" spc="-1" strike="noStrike">
                <a:solidFill>
                  <a:srgbClr val="001400"/>
                </a:solidFill>
                <a:latin typeface="Tahoma Bold"/>
              </a:rPr>
              <a:t>террариуме</a:t>
            </a: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, а не на по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обходимо избегать больших перепадов температуре в террариуме и в окружающей черепаху сре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допускать контактов черепахи с другими домашними живо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подсаживать новых черепах к имеющимся без предварительного карант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балансированный корм: растительный (мелкая нарезка фруктов и овощей), витамины, минеральная подкормка для данного ви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рогулки по 1 часу на солнце в теплую погоду л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Зимняя спячка для черепах необязательна и нежелатель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Если черепахи дерутся или слишком агрессивны - их необходимо рассад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сти черепаху к врачу лучше, завернув в полотняную тряпку и положив за пазух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Террар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Материал и фор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высокий длинный и широкий закрытый ящик с отверстиями вентиля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токсичный ударопрочный пластик, дерево, стекло, оргстекл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ъем: 100 – 200 лит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Убежищ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холодном углу террариум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ловину керамического горшка, картонный или деревянный домик из подручных неострых материалов, коряги, половинки кокосового ореха и т.д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 намного больше черепахи и тяжел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Освещ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ампа накаливания 40-60 Вт + плитка, которая сохраняет теп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УФ лампа (типа ReptyGlo) 5.0 или 8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лучают лампами с расстояния 30-40 с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ампы должны гореть по 10 – 12 часов в су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Террар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5105160" cy="55627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Грун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равий: крупный речной гравий, плоские камни, окатанная галька, солома, сено, кусочки коры, кусочки скорлупы кокосового ореха, опилки, мо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д ними: песок + кусочки земли, торф + цветочная земля, опавшая листва + измельченная кора деревьев, сфагнум, люцерна, сухая ли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использовать: острая каменная крошка, песок, керамзит, гладкая поверхнос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ожно высадить овес или другие растения, которые полезны сухопутным черепах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рмушка и поил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ормушкой может быть миска, тарелка расположенная не под ламп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илку можно не стави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упать в тазике 1-2 раза в неделю.</a:t>
            </a:r>
            <a:r>
              <a:rPr b="0" lang="en-US" sz="20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 rot="299400">
            <a:off x="5570640" y="152892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12760" y="2697840"/>
            <a:ext cx="70592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 Bold"/>
              </a:rPr>
              <a:t>Свободное содержание в до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 Bold"/>
              </a:rPr>
              <a:t>НЕ ДОПУСКАЕТСЯ!</a:t>
            </a: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Гигиена в террариу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927680" cy="5486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овый террариум тщательно моют с применением пищевой со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рунт промывают в проточной воде и прокаливают на сковород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енять поилку – 1 раз в недел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щая чистка – 1 раз в месяц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рунт (если это гравий) промывается отде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Желательно обрабатывать слабыми дезинфектант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рошки и химические вещества использовать нельз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работка грун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залить кипятко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рокипятит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рокалить или поместить в микроволновую печ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хлади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местить в террариу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 rot="239400">
            <a:off x="5184720" y="236664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Пищ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 приро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растения пустыни, бахчевые культуры, всходы многолетних трав и кустарников, ягоды и падалица фруктов в сад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Дома в нево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растительная пища: зелень, фрукты, овощи, ягод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итамины и минеральные вещества (кальций) в виде порош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дав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ясо, рыбу, молоко, хлеб, творог, яйца, другую человеческую еду, собачьи, кошачьи корм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Регулярное питье не ну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Корм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рм мелко нарезать в салат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 рук лучше не корм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ерио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олодых черепах кормят каждый ден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тех, что постарше - через ден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личество кор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 мере насыщения черепахи, но в разумных количествах, примерно с 1/2 панцир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152960" y="1905120"/>
            <a:ext cx="45338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Куп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упать </a:t>
            </a:r>
            <a:r>
              <a:rPr b="0" lang="en-US" sz="1800" spc="-1" strike="noStrike">
                <a:solidFill>
                  <a:srgbClr val="001400"/>
                </a:solidFill>
                <a:latin typeface="Tahoma Bold"/>
              </a:rPr>
              <a:t>раз в неделю</a:t>
            </a: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спользовать тазик или другую емкость с теплой водой +30 - +32 С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уровень воды: не более, чем 2/3 высоты лежащей черепах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у сухопутных черепах есть свойство опорожняться в во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купания: 30 мину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упают без применения химических средств (шампуня, мыла, гелей и т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сключение: детское гипоаллергенное мыло (не чаще 1 раза в неделю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ода и мыло не должны попадать черепахе в глаза, нос и рот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о время мытья пальцем надо мягко протереть боковые стороны р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осле мытья: насухо вытереть махровым или бумажным полотенцем и вернуть в террариу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520" y="2743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 Bold"/>
              </a:rPr>
              <a:t>После купания нельзя выносить черепаху на сквозняк или улицу -  только в теплый террариум!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358920"/>
            <a:ext cx="82677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Цель и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Ц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рассмотреть особенности жизни среднеазиатской черепахи в нев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Задач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изучить физиологию, среду обитания и видовые особенности среднеазиатских череп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определить условия обитания черепахи в невол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выявить проблемы и методы их профилактики, связанные с содержанием черепах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изучить как изменяются обычные процессы жизнедеятель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определить манипуляции, которые можно и/или необходимо совершать при уходе за этим живот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Прогу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34340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летом, когда температура поднимается выше 20 С в тен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а чистых лужайках со съедобными для черепах растениями (клевер, одуванчики, простая газонная трава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дали от проезжей части и животных (собак, кошек, птиц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прогулки: от 30 минут и больш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можно привязывать шарик, ленточку, флажок, чтобы черепаха не потеряла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181480" y="1447920"/>
            <a:ext cx="327024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пя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адо быть уверенным, что черепаха здоро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Искупать в теплой воде, затем несколько недель не кормить, но поить, чтобы весь съеденный корм переварил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Уменьшать длительность светового дня и температуры (до 10-12°С) и повышать влаж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есто для зимовки: темное, хорошо вентилируемое, с температурой 6-12°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Ящик с влажным песком или торфом, в который черепаха может зарыть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ремя спячки: 8-10 недель для мелких черепах и 12-14 недель для больш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Состояние черепах проверяют через каждый меся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асса черепахи в норме снижается на 1% за каждый месяц зимов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 куп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Если черепаха начала проявлять активность при температуре 11-12°С, зимовку следует прекрати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ля вывода черепахи из спячки: температуру нужно плавно поднимать до комнатной и затем включать обогрев, доведя его до обычного уровня в течение нед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ачало питания в течение 5-7 дней после установления нормальной температу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Контейнер для спя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3809880" cy="4254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78720" y="1325520"/>
            <a:ext cx="4339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Крышка с вентиляционными отверст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1486440" y="3621600"/>
            <a:ext cx="173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Наружный ящ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93360" y="5364000"/>
            <a:ext cx="2322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Дренажные отверс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97080" y="2652840"/>
            <a:ext cx="693396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a00"/>
                </a:solidFill>
                <a:latin typeface="Tahoma"/>
                <a:ea typeface="Tahoma"/>
              </a:rPr>
              <a:t>Черепаху опасно вводить в спячку в домашних условия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a00"/>
                </a:solidFill>
                <a:latin typeface="Tahoma"/>
                <a:ea typeface="Tahoma"/>
              </a:rPr>
              <a:t>Из плохо подготовленной спячки черепаха может и не вы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Транспортир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роизводится в крепких ящиках с вентиляционными отверсти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Лет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любых контейнерах с опилками или мятой туалетной бумагой/мягкими полотенц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ез 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течение не более чем 2х суток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Зимой, весной и осенью (при температуре ниже 15 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ибо с грелкой в максимально закрытых контейнера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ибо завернутыми в ткань под своей курт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Манипуля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5105520" cy="53341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Фиксация череп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овольна проста и может проводиться как угодно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ажно: черепаха должна быть повернута задней частью от вас, так как при испуге они часто испускают из клоаки жидк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звешивание череп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а любых пригодных вес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поседливую черепаху можно взвешивать в коробке или перевернув вверх ног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змерение череп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с помощью штангенциркул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пределяют 3 разм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400"/>
                </a:solidFill>
                <a:latin typeface="Tahoma"/>
                <a:ea typeface="Tahoma"/>
              </a:rPr>
              <a:t>длину (по средней линии карапакса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400"/>
                </a:solidFill>
                <a:latin typeface="Tahoma"/>
                <a:ea typeface="Tahoma"/>
              </a:rPr>
              <a:t>ширину (в самом широком месте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400"/>
                </a:solidFill>
                <a:latin typeface="Tahoma"/>
                <a:ea typeface="Tahoma"/>
              </a:rPr>
              <a:t>высоту панциря (от низа пластрона до наивысшей точки карапакс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562720" y="2209680"/>
            <a:ext cx="3085920" cy="20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трижка когтей и клю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55627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Чрезмерное отрастание клюва может свидетельствовать о недостатке витаминов и кальция в к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гти и клюв подстригать нужно только тогда, когда когти мешают черепахе передвигаться, а клюв мешает нормально куш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збыточный рог клюва надо не отстригать, а отламывать или «откусывать» по краям мощным инструмен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гти можно подстригать любыми маникюрными ножницами и даже кусачками (в зависимости от размера черепах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Отстригать надо только ороговевшие части, в которых не проходят кровеносные сосу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олее светлые части можно стрич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олее темные – нельз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715000" y="1828800"/>
            <a:ext cx="327672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38080" y="2666880"/>
            <a:ext cx="782316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Регулярно посещайте ветеринарного врач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Не доводите до критической ситуации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38080" y="2666880"/>
            <a:ext cx="7823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358920"/>
            <a:ext cx="82677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Учебная литератур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Константинов В., Бабенко В., Кучменко В. Биология: Животные: Учебник для 7 класса общеобразовательных учреждений / Под ред. В.М. Константинова, И.Н. Пономаревой. - М.: Вентана-Графф, 2000. - 304 с.: и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Интернет-ресур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ea typeface="Tahoma"/>
                <a:hlinkClick r:id="rId2"/>
              </a:rPr>
              <a:t>www.cherepahi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Периодические изд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Коннифф Ричард. Черепаха:чудо в панцире // GEO, декабрь 2000, №12. -   с. б0-6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636FF-423E-4268-8CBF-BF7BB2F3D35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358920"/>
            <a:ext cx="82677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Актуальнос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люди часто заводят среднеазиатских черепах, считая их неприхотливыми животны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большинство владельцев не умеют правильно ухаживать за черепахами и создают тем самым опасность для их здоровья и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12880" y="428760"/>
            <a:ext cx="82677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omic Sans MS Bold"/>
              </a:rPr>
              <a:t>Предмет и объект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Предмет исследова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особенности содержания среднеазиатской черепахи в нев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Объек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среднеазиатская черепах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Название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a00"/>
                </a:solidFill>
                <a:latin typeface="Tahoma"/>
                <a:ea typeface="Tahoma"/>
              </a:rPr>
              <a:t>Название русское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Среднеазиатская\Степная\Русская\Черепаха Хорсфил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a00"/>
                </a:solidFill>
                <a:latin typeface="Tahoma"/>
                <a:ea typeface="Tahoma"/>
              </a:rPr>
              <a:t>Название латинское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Testudo horsfieldii\Agrionemys horsfieldii\Agronemys horsfeeldi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Опис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Длина панциря от 3 до 20-28,8 см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Панцирь невысокий, округлый, слегка уплощенный на самом верху, похож на пирож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Панцирь состоит из спинного щита — карапакса и брюшного — пластр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Передние ноги несут четыре тупых когт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У самца по меньшей мере, один роговой бугорок на тыльной стороне бедра; у самки таких бугорков 3 — 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Cамки обычно крупнее самц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Голова оливковая с крючковатой верхней челю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Глаза черные, небольш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Кончик хвоста заостр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 rot="360000">
            <a:off x="4943160" y="2123640"/>
            <a:ext cx="3736800" cy="26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Панци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343400" cy="53341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7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Карапак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желто-оливково-буры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с темными пятнами неясных очертаний - под цвет почвы, на которой обитает черепах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имеет 13 роговых щит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число бороздок на каждом из щитков обычно соответствует количеству прожитых 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7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Пластр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темны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имеет 16 роговых щит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7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По бок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25 роговых щитков.</a:t>
            </a: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800600" y="1790640"/>
            <a:ext cx="380988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Обит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525780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Государства Средней Аз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Южный Казахста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Инд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акиста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Ира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Афганиста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Росс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северо-восточное побережье Касп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юг Оренбургской обла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юг Челябинской обла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Места обит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олины рек, пустынные равнинные районы, песчанные и глинистые пустыни, предгорья, горы (до 1200 метром над уровнем моря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стречается на сельскохозяйственных угодьях и пол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715000" y="1447920"/>
            <a:ext cx="27050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Определение п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971800" y="1523880"/>
            <a:ext cx="3371760" cy="247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48320" y="41148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5760" y="1371600"/>
            <a:ext cx="2490480" cy="24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САМ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ластрон вогнутый, что помогает при спариван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хвост намного толще и длиннее, загибается под панцир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лоака имеет форму продольной полос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1371600"/>
            <a:ext cx="23367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С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ластрон плоск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хвост маленький  короткий, без утолщения, не загибается, а просто торчи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лоака расположена около конца карапакса и по форме напоминает звездоч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971880"/>
            <a:ext cx="41655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учше, чем у самок, выражены бедренные шпор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анцирь над хвостом загибается к земл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олее агрессивные и активны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роизводят характерные движения головой вверх и вни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КарМаН</cp:lastModifiedBy>
  <dcterms:modified xsi:type="dcterms:W3CDTF">2012-02-24T20:33:46Z</dcterms:modified>
  <cp:revision>1</cp:revision>
  <dc:subject/>
  <dc:title>PowerPoint Presentation</dc:title>
</cp:coreProperties>
</file>