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D39C-07DC-4D5B-8781-FE00F80186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94A9-2BD2-4D66-93DD-D1EA564102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3206-5B92-4722-BC5A-7CF82C4AD1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4438-BBC5-483E-9B1B-2C487DAB6D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9430-3EB0-4DA4-AF4F-C480677FE6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E8CC-F9DF-4AC2-B243-6B20B44373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30B3-78A1-4E17-A0AE-A568BD80C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BBEA-E178-4E00-8895-E54DA4B735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E79E-C128-49B7-92D6-BA3E25E298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B485-9A27-4A86-B658-7BA000239C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643B-74B1-4829-AE2E-3CC83F4D32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A9C6-CA97-47E9-989B-AA54E92835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38AF-72D0-4C51-B900-8AF3C2699D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repahi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943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f96f"/>
                </a:solidFill>
                <a:latin typeface="Tahoma"/>
                <a:ea typeface="Tahoma"/>
              </a:rPr>
              <a:t>Работа учителя биологии Красносельской школы-интарната Мысковой О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реднеазиат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ловая зрел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 в 10 лет (самки позже самц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неволе: в 5-6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откладывания яиц: апрель – ию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кладок: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 плотный, слегка влажный пе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иаметр 4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лубина 0,5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яиц в кладке: 2 - 6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Температура инкубации: 22 – 28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лажность: 50 – 7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инкубации: 60 – 80 – 120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вылупления: август – окт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азмеры черепашат: 3 – 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чинают питаться через 2 – 4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360000">
            <a:off x="5339880" y="2693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Основная информация по у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РЕДНЕАЗИАТСКАЯ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одержание в 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террариуме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, а не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обходимо избегать больших перепадов температуре в террариуме и в окружающей черепаху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опускать контактов черепахи с другими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подсаживать новых черепах к имеющимся без предварительного каран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балансированный корм: растительный (мелкая нарезка фруктов и овощей), витамины, минеральная подкормка для дан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гулки по 1 часу на солнце в теплую погоду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няя спячка для черепах необязательна и нежел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и дерутся или слишком агрессивны - их необходимо расса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сти черепаху к врачу лучше, завернув в полотняную тряпку и положив за пазу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атериал и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высокий длинный и широкий закрытый ящик с отверстиями венти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токсичный ударопрочный пластик, дерево, стекло, оргстекл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ъем: 100 – 20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бежи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холодном углу террариу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ловину керамического горшка, картонный или деревянный домик из подручных неострых материалов, коряги, половинки кокосового ореха и т.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намного больше черепахи и тяжел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свещ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а накаливания 40-60 Вт + плитка, которая сохраняет 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Ф лампа (типа ReptyGlo) 5.0 или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лучают лампами с расстояния 30-4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ы должны гореть по 10 – 12 часов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105160" cy="5562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авий: крупный речной гравий, плоские камни, окатанная галька, солома, сено, кусочки коры, кусочки скорлупы кокосового ореха, опилки, м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д ними: песок + кусочки земли, торф + цветочная земля, опавшая листва + измельченная кора деревьев, сфагнум, люцерна, сухая ли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использовать: острая каменная крошка, песок, керамзит, гладкая поверх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жно высадить овес или другие растения, которые полезны сухопутным череп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а и пои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ой может быть миска, тарелка расположенная не под ламп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илку можно не ст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упать в тазике 1-2 раза в неделю.</a:t>
            </a: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99400">
            <a:off x="5570640" y="1528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2760" y="2697840"/>
            <a:ext cx="7059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Свободное содержание в д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НЕ ДОПУСКАЕТСЯ!</a:t>
            </a: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Гигиена в терр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2768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овый террариум тщательно моют с применением пищевой с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промывают в проточной воде и прокаливают на сково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нять поилку – 1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щая чистка – 1 раз в меся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(если это гравий) промыва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Желательно обрабатывать слабыми дезинфектан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рошки и химические вещества использовать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работка гру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залить кипят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ипят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алить или поместить в микроволновую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хла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местить в террари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39400">
            <a:off x="5184720" y="236664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ения пустыни, бахчевые культуры, всходы многолетних трав и кустарников, ягоды и падалица фруктов в сад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Дома в нев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ительная пища: зелень, фрукты, овощи, яго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итамины и минеральные вещества (кальций) в виде пор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а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ясо, рыбу, молоко, хлеб, творог, яйца, другую человеческую еду, собачьи, кошачьи кор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егулярное питье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 мелко нарезать в сал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 рук лучше не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ери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лодых черепах кормят каждый д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тех, что постарше - через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личество к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 мере насыщения черепахи, но в разумных количествах, примерно с 1/2 панци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52960" y="1905120"/>
            <a:ext cx="45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ть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раз в неделю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пользовать тазик или другую емкость с теплой водой +30 - +32 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ровень воды: не более, чем 2/3 высоты лежащей черепа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 сухопутных черепах есть свойство опорожняться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купания: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ют без применения химических средств (шампуня, мыла, гелей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ключение: детское гипоаллергенное мыло (не чаще 1 раза в недел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да и мыло не должны попадать черепахе в глаза, нос и р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 время мытья пальцем надо мягко протереть боковые стороны 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сле мытья: насухо вытереть махровым или бумажным полотенцем и вернуть в террари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743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Bold"/>
              </a:rPr>
              <a:t>После купания нельзя выносить черепаху на сквозняк или улицу -  только в теплый террариум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рассмотреть особенности жизни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физиологию, среду обитания и видовые особенности среднеазиатских череп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условия обитания черепахи в нев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выявить проблемы и методы их профилактики, связанные с содержанием черепах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как изменяются обычные процессы жизне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манипуляции, которые можно и/или необходимо совершать при уходе за этим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, когда температура поднимается выше 20 С в т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 чистых лужайках со съедобными для черепах растениями (клевер, одуванчики, простая газонная тра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дали от проезжей части и животных (собак, кошек, птиц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прогулки: от 30 минут и больш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ожно привязывать шарик, ленточку, флажок, чтобы черепаха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70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я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до быть уверенным, что черепаха здор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скупать в теплой воде, затем несколько недель не кормить, но поить, чтобы весь съеденный корм перевар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меньшать длительность светового дня и температуры (до 10-12°С) и повышать влаж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сто для зимовки: темное, хорошо вентилируемое, с температурой 6-12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Ящик с влажным песком или торфом, в который черепаха может зары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ремя спячки: 8-10 недель для мелких черепах и 12-14 недель для боль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остояние черепах проверяют через каждый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асса черепахи в норме снижается на 1% за каждый месяц зим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а начала проявлять активность при температуре 11-12°С, зимовку следует прекра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ля вывода черепахи из спячки: температуру нужно плавно поднимать до комнатной и затем включать обогрев, доведя его до обычного уровня в течение нед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чало питания в течение 5-7 дней после установления нормальной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нтейнер для спя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0988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78720" y="1325520"/>
            <a:ext cx="43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Крышка с вентиляционными отверст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86440" y="3621600"/>
            <a:ext cx="173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Наружный я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3360" y="5364000"/>
            <a:ext cx="232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Дренаж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7080" y="2652840"/>
            <a:ext cx="69339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Черепаху опасно вводить в спячку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Из плохо подготовленной спячки черепаха может и не вы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ранспорти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ится в крепких ящиках с вентиляционн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любых контейнерах с опилками или мятой туалетной бумагой/мягкими полотенц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ез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течение не более чем 2х суто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ой, весной и осенью (при температуре ниже 1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с грелкой в максимально закрытых контейне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завернутыми в ткань под своей кур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Мани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Фиксация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вольна проста и может проводиться как угод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ажно: черепаха должна быть повернута задней частью от вас, так как при испуге они часто испускают из клоаки жид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звешива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 любых пригодных вес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поседливую черепаху можно взвешивать в коробке или перевернув вверх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мере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 помощью штангенцирк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пределяют 3 разм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длину (по средней линии карапакс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ширину (в самом широком мест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высоту панциря (от низа пластрона до наивысшей точки карапак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трижка когтей и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резмерное отрастание клюва может свидетельствовать о недостатке витаминов и кальция в к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и клюв подстригать нужно только тогда, когда когти мешают черепахе передвигаться, а клюв мешает нормально к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быточный рог клюва надо не отстригать, а отламывать или «откусывать» по краям мощным инструм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можно подстригать любыми маникюрными ножницами и даже кусачками (в зависимости от размера черепах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тстригать надо только ороговевшие части, в которых не проходят кровеносные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светлые части можно стри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темные –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327672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2666880"/>
            <a:ext cx="78231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Регулярно посещайте ветеринарного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Не доводите до критической ситуаци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666880"/>
            <a:ext cx="7823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Учебная 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стантинов В., Бабенко В., Кучменко В. Биология: Животные: Учебник для 7 класса общеобразовательных учреждений / Под ред. В.М. Константинова, И.Н. Пономаревой. - М.: Вентана-Графф, 2000. - 304 с.: 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www.cherepah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Периодические из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нифф Ричард. Черепаха:чудо в панцире // GEO, декабрь 2000, №12. -   с. б0-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1013-4898-40A9-AC6A-916423CD944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Актуа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люди часто заводят среднеазиатских черепах, считая их неприхотливыми живо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большинство владельцев не умеют правильно ухаживать за черепахами и создают тем самым опасность для их здоровья и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2880" y="428760"/>
            <a:ext cx="826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Предмет и объект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Предмет исслед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собенности содержания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Объе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среднеазиатская чере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Название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рус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Среднеазиатская\Степная\Русская\Черепаха Хорсфил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латин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Testudo horsfieldii\Agrionemys horsfieldii\Agronemys horsfeeld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Длина панциря от 3 до 20-28,8 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невысокий, округлый, слегка уплощенный на самом верху, похож на пиро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состоит из спинного щита — карапакса и брюшного — пласт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ередние ноги несут четыре тупых ког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У самца по меньшей мере, один роговой бугорок на тыльной стороне бедра; у самки таких бугорков 3 —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Cамки обычно крупнее сам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олова оливковая с крючковатой верхней челю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лаза черные, не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Кончик хвоста заост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360000">
            <a:off x="4943160" y="2123640"/>
            <a:ext cx="37368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анц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Карапа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желто-оливково-бур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с темными пятнами неясных очертаний - под цвет почвы, на которой обитает черепа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3 роговых щи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число бороздок на каждом из щитков обычно соответствует количеству прожит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ласт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тем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6 роговых щи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о бо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25 роговых щитков.</a:t>
            </a: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179064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б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осударства Средней Аз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жный Казах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нд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ки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р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Афгани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осс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еверо-восточное побережье Касп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Оренбургск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Челябинск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еста об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лины рек, пустынные равнинные районы, песчанные и глинистые пустыни, предгорья, горы (до 1200 метром над уровнем мор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стречается на сельскохозяйственных угодьях и по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70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ределе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71760" cy="247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1371600"/>
            <a:ext cx="2490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вогнутый, что помогает при спарив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намного толще и длиннее, загибается под панцир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имеет форму продольной пол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371600"/>
            <a:ext cx="2336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пло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маленький  короткий, без утолщения, не загибается, а просто торч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расположена около конца карапакса и по форме напоминает звезд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971880"/>
            <a:ext cx="416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учше, чем у самок, выражены бедренные шпо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нцирь над хвостом загибается к зем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агрессивные и актив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ят характерные движения головой вверх 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4T20:33:46Z</dcterms:modified>
  <cp:revision>1</cp:revision>
  <dc:subject/>
  <dc:title>PowerPoint Presentation</dc:title>
</cp:coreProperties>
</file>