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B019B-6FD2-4022-BB21-18ABD74D0E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70BAF-CA8F-4483-801A-50034D06FA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4AA07-FB6E-4FF6-88DD-BDAA0866F1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32887-7A70-4E64-BAA7-E073006582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529EC-A9E4-4908-ABC4-5AF031327F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F1FB5-4536-40F0-8BD6-2A69FF3467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471EB-A646-4CBD-8DD8-568160D9DD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345E-858E-417A-9B02-46FA40C470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EA88A-FC2D-46C8-BFA2-8B7940E014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C6AD4-9B0F-4544-9968-BE9C6D4137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0FCC5-D4BD-4E60-A84B-65802F3224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20032-733D-4561-AD37-3FF4198F49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746136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8B8F-F150-46DD-B3F6-88416DF6A3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herepahi.ru/" TargetMode="Externa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5943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9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ef96f"/>
                </a:solidFill>
                <a:latin typeface="Tahoma"/>
                <a:ea typeface="Tahoma"/>
              </a:rPr>
              <a:t>Работа учителя биологии Красносельской школы-интарната Мысковой О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2986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реднеазиатская черепа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Раз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оловая зрело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природе: в 10 лет (самки позже самцов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неволе: в 5-6 л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откладывания яиц: апрель – ию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исло кладок: 1 –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рунт: плотный, слегка влажный пес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у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иаметр 4м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лубина 0,5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исло яиц в кладке: 2 - 6 ш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Температура инкубации: 22 – 28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лажность: 50 – 70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инкубации: 60 – 80 – 120 сут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вылупления: август – октябр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азмеры черепашат: 3 – 5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ачинают питаться через 2 – 4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rot="360000">
            <a:off x="5339880" y="26938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omic Sans MS Bold"/>
              </a:rPr>
              <a:t>Основная информация по ух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РЕДНЕАЗИАТСКАЯ ЧЕРЕПА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одержание в  </a:t>
            </a:r>
            <a:r>
              <a:rPr b="0" lang="en-US" sz="1800" spc="-1" strike="noStrike">
                <a:solidFill>
                  <a:srgbClr val="001400"/>
                </a:solidFill>
                <a:latin typeface="Tahoma Bold"/>
              </a:rPr>
              <a:t>террариуме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, а не на по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обходимо избегать больших перепадов температуре в террариуме и в окружающей черепаху ср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допускать контактов черепахи с другими домашними живо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подсаживать новых черепах к имеющимся без предварительного каран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балансированный корм: растительный (мелкая нарезка фруктов и овощей), витамины, минеральная подкормка для данного ви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рогулки по 1 часу на солнце в теплую погоду 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Зимняя спячка для черепах необязательна и нежелате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Если черепахи дерутся или слишком агрессивны - их необходимо рассад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сти черепаху к врачу лучше, завернув в полотняную тряпку и положив за пазух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еррар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атериал и фор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высокий длинный и широкий закрытый ящик с отверстиями вентиля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токсичный ударопрочный пластик, дерево, стекло, оргстекл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ъем: 100 – 200 ли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бежищ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холодном углу террариу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ловину керамического горшка, картонный или деревянный домик из подручных неострых материалов, коряги, половинки кокосового ореха и т.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 намного больше черепахи и тяжел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Освещ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ампа накаливания 40-60 Вт + плитка, которая сохраняет теп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УФ лампа (типа ReptyGlo) 5.0 или 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лучают лампами с расстояния 30-40 с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ампы должны гореть по 10 – 12 часов в су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еррар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105160" cy="55627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рун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авий: крупный речной гравий, плоские камни, окатанная галька, солома, сено, кусочки коры, кусочки скорлупы кокосового ореха, опилки, мо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д ними: песок + кусочки земли, торф + цветочная земля, опавшая листва + измельченная кора деревьев, сфагнум, люцерна, сухая ли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использовать: острая каменная крошка, песок, керамзит, гладкая поверхн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ожно высадить овес или другие растения, которые полезны сухопутным черепах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рмушка и поил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ормушкой может быть миска, тарелка расположенная не под ламп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илку можно не стави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упать в тазике 1-2 раза в неделю.</a:t>
            </a:r>
            <a:r>
              <a:rPr b="0" lang="en-US" sz="20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 rot="299400">
            <a:off x="5570640" y="15289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12760" y="2697840"/>
            <a:ext cx="7059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 Bold"/>
              </a:rPr>
              <a:t>Свободное содержание в до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 Bold"/>
              </a:rPr>
              <a:t>НЕ ДОПУСКАЕТСЯ!</a:t>
            </a: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Гигиена в террариу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92768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овый террариум тщательно моют с применением пищевой с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унт промывают в проточной воде и прокаливают на сковоро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енять поилку – 1 раз в неде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щая чистка – 1 раз в месяц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унт (если это гравий) промывается отде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Желательно обрабатывать слабыми дезинфектан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рошки и химические вещества использовать нельз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работка грун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залить кипятко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кипяти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калить или поместить в микроволновую печ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хлади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местить в террариу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239400">
            <a:off x="5184720" y="236664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ищ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 приро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растения пустыни, бахчевые культуры, всходы многолетних трав и кустарников, ягоды и падалица фруктов в сад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Дома в нево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растительная пища: зелень, фрукты, овощи, ягод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итамины и минеральные вещества (кальций) в виде порош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да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ясо, рыбу, молоко, хлеб, творог, яйца, другую человеческую еду, собачьи, кошачьи кор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егулярное питье не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орм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рм мелко нарезать в салат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 рук лучше не корм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ери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олодых черепах кормят каждый ден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тех, что постарше - через ден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личество кор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 мере насыщения черепахи, но в разумных количествах, примерно с 1/2 панцир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52960" y="1905120"/>
            <a:ext cx="4533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уп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упать </a:t>
            </a:r>
            <a:r>
              <a:rPr b="0" lang="en-US" sz="1800" spc="-1" strike="noStrike">
                <a:solidFill>
                  <a:srgbClr val="001400"/>
                </a:solidFill>
                <a:latin typeface="Tahoma Bold"/>
              </a:rPr>
              <a:t>раз в неделю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спользовать тазик или другую емкость с теплой водой +30 - +32 С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ровень воды: не более, чем 2/3 высоты лежащей черепах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 сухопутных черепах есть свойство опорожняться в в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купания: 30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упают без применения химических средств (шампуня, мыла, гелей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сключение: детское гипоаллергенное мыло (не чаще 1 раза в неделю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ода и мыло не должны попадать черепахе в глаза, нос и ро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о время мытья пальцем надо мягко протереть боковые стороны 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осле мытья: насухо вытереть махровым или бумажным полотенцем и вернуть в террариу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2743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 Bold"/>
              </a:rPr>
              <a:t>После купания нельзя выносить черепаху на сквозняк или улицу -  только в теплый террариум!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Цель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Ц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рассмотреть особенности жизни среднеазиатской черепахи в нев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зучить физиологию, среду обитания и видовые особенности среднеазиатских череп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пределить условия обитания черепахи в нево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выявить проблемы и методы их профилактики, связанные с содержанием черепах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зучить как изменяются обычные процессы жизне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пределить манипуляции, которые можно и/или необходимо совершать при уходе за этим живот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рогу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етом, когда температура поднимается выше 20 С в тен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а чистых лужайках со съедобными для черепах растениями (клевер, одуванчики, простая газонная трав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дали от проезжей части и животных (собак, кошек, птиц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прогулки: от 30 минут и больш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ожно привязывать шарик, ленточку, флажок, чтобы черепаха не потеряла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181480" y="1447920"/>
            <a:ext cx="327024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пя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до быть уверенным, что черепаха здоро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скупать в теплой воде, затем несколько недель не кормить, но поить, чтобы весь съеденный корм переварил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Уменьшать длительность светового дня и температуры (до 10-12°С) и повышать влаж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есто для зимовки: темное, хорошо вентилируемое, с температурой 6-12°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Ящик с влажным песком или торфом, в который черепаха может зарыть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ремя спячки: 8-10 недель для мелких черепах и 12-14 недель для больш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остояние черепах проверяют через каждый меся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асса черепахи в норме снижается на 1% за каждый месяц зимов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 куп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Если черепаха начала проявлять активность при температуре 11-12°С, зимовку следует прекрат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ля вывода черепахи из спячки: температуру нужно плавно поднимать до комнатной и затем включать обогрев, доведя его до обычного уровня в течение нед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чало питания в течение 5-7 дней после установления нормальной темпера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онтейнер для спя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3809880" cy="4254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78720" y="1325520"/>
            <a:ext cx="4339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Крышка с вентиляционными отверст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1486440" y="3621600"/>
            <a:ext cx="173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Наружный ящ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93360" y="5364000"/>
            <a:ext cx="2322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Дренажные отверс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97080" y="2652840"/>
            <a:ext cx="693396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a00"/>
                </a:solidFill>
                <a:latin typeface="Tahoma"/>
                <a:ea typeface="Tahoma"/>
              </a:rPr>
              <a:t>Черепаху опасно вводить в спячку в домашних услов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a00"/>
                </a:solidFill>
                <a:latin typeface="Tahoma"/>
                <a:ea typeface="Tahoma"/>
              </a:rPr>
              <a:t>Из плохо подготовленной спячки черепаха может и не вы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ранспортир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роизводится в крепких ящиках с вентиляционными отверст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е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любых контейнерах с опилками или мятой туалетной бумагой/мягкими полотенц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ез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течение не более чем 2х суток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Зимой, весной и осенью (при температуре ниже 15 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ибо с грелкой в максимально закрытых контейнера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ибо завернутыми в ткань под своей курт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Манипуля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510552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Фиксация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овольна проста и может проводиться как угодн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ажно: черепаха должна быть повернута задней частью от вас, так как при испуге они часто испускают из клоаки жидк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звешивание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 любых пригодных вес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поседливую черепаху можно взвешивать в коробке или перевернув вверх ног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змерение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 помощью штангенцирку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пределяют 3 разм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длину (по средней линии карапакса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ширину (в самом широком месте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высоту панциря (от низа пластрона до наивысшей точки карапакс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562720" y="2209680"/>
            <a:ext cx="308592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трижка когтей и клю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5627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резмерное отрастание клюва может свидетельствовать о недостатке витаминов и кальция в к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гти и клюв подстригать нужно только тогда, когда когти мешают черепахе передвигаться, а клюв мешает нормально куш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збыточный рог клюва надо не отстригать, а отламывать или «откусывать» по краям мощным инструмен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гти можно подстригать любыми маникюрными ножницами и даже кусачками (в зависимости от размера черепах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Отстригать надо только ороговевшие части, в которых не проходят кровеносные сосу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светлые части можно стрич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темные – нельз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715000" y="1828800"/>
            <a:ext cx="327672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38080" y="2666880"/>
            <a:ext cx="782316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Регулярно посещайте ветеринарного вр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Не доводите до критической ситуации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38080" y="2666880"/>
            <a:ext cx="7823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Учебная литератур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Константинов В., Бабенко В., Кучменко В. Биология: Животные: Учебник для 7 класса общеобразовательных учреждений / Под ред. В.М. Константинова, И.Н. Пономаревой. - М.: Вентана-Графф, 2000. - 304 с.: 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нтернет-ресур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ea typeface="Tahoma"/>
                <a:hlinkClick r:id="rId2"/>
              </a:rPr>
              <a:t>www.cherepahi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Периодические изд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Коннифф Ричард. Черепаха:чудо в панцире // GEO, декабрь 2000, №12. -   с. б0-6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BEE44-DEAD-425D-8C19-5D2CF707F8E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Актуальнос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люди часто заводят среднеазиатских черепах, считая их неприхотливыми животны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большинство владельцев не умеют правильно ухаживать за черепахами и создают тем самым опасность для их здоровья и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12880" y="428760"/>
            <a:ext cx="82677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omic Sans MS Bold"/>
              </a:rPr>
              <a:t>Предмет и объект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Предмет исследов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собенности содержания среднеазиатской черепахи в нев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Объек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среднеазиатская черепа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Название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a00"/>
                </a:solidFill>
                <a:latin typeface="Tahoma"/>
                <a:ea typeface="Tahoma"/>
              </a:rPr>
              <a:t>Название русское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Среднеазиатская\Степная\Русская\Черепаха Хорсфил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a00"/>
                </a:solidFill>
                <a:latin typeface="Tahoma"/>
                <a:ea typeface="Tahoma"/>
              </a:rPr>
              <a:t>Название латинское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Testudo horsfieldii\Agrionemys horsfieldii\Agronemys horsfeeldi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пис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Длина панциря от 3 до 20-28,8 с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анцирь невысокий, округлый, слегка уплощенный на самом верху, похож на пирож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анцирь состоит из спинного щита — карапакса и брюшного — пластр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ередние ноги несут четыре тупых когт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У самца по меньшей мере, один роговой бугорок на тыльной стороне бедра; у самки таких бугорков 3 —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Cамки обычно крупнее самц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Голова оливковая с крючковатой верхней челю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Глаза черные, небольш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Кончик хвоста заостр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 rot="360000">
            <a:off x="4943160" y="2123640"/>
            <a:ext cx="373680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анци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Карапак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желто-оливково-бур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с темными пятнами неясных очертаний - под цвет почвы, на которой обитает черепах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имеет 13 роговых щит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число бороздок на каждом из щитков обычно соответствует количеству прожитых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Пластр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темн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имеет 16 роговых щит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По бок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25 роговых щитков.</a:t>
            </a: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800600" y="1790640"/>
            <a:ext cx="380988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бит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525780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осударства Средней Аз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жный Казахст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нд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акист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р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Афганиста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осс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еверо-восточное побережье Касп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г Оренбургской обла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г Челябинской обла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еста обит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олины рек, пустынные равнинные районы, песчанные и глинистые пустыни, предгорья, горы (до 1200 метром над уровнем моря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стречается на сельскохозяйственных угодьях и пол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15000" y="1447920"/>
            <a:ext cx="27050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пределение п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71800" y="1523880"/>
            <a:ext cx="3371760" cy="247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4832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5760" y="1371600"/>
            <a:ext cx="249048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САМ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ластрон вогнутый, что помогает при спариван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хвост намного толще и длиннее, загибается под панцир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лоака имеет форму продольной пол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1371600"/>
            <a:ext cx="23367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С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ластрон плоск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хвост маленький  короткий, без утолщения, не загибается, а просто торчи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лоака расположена около конца карапакса и по форме напоминает звездоч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971880"/>
            <a:ext cx="41655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учше, чем у самок, выражены бедренные шпор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анцирь над хвостом загибается к зем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агрессивные и активны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изводят характерные движения головой вверх и вни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КарМаН</cp:lastModifiedBy>
  <dcterms:modified xsi:type="dcterms:W3CDTF">2012-02-24T20:33:46Z</dcterms:modified>
  <cp:revision>1</cp:revision>
  <dc:subject/>
  <dc:title>PowerPoint Presentation</dc:title>
</cp:coreProperties>
</file>