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8A7-C0B8-4640-A9AF-86BE50FC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5DB-48C4-4775-AC81-40D40E7B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DAB-D106-4517-A656-77C3FF1B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69E-2CFC-4CE6-8486-74370E9D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86EA-915C-4934-B9BA-1BBD820E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1671-21CA-4D0A-BF5B-404EFB6E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4CF0-110E-4EE6-A050-8A22716A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6D3C-CE98-4678-9B30-EB5FD9FA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16B0-2EBF-4C05-8BF1-06331867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EF96-2441-42E7-995F-3D99E116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0D78-A539-4ED5-88A2-A609B9D2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279-0BB0-4E96-9E0A-22936F4D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9A5F-035B-44EC-9A7D-C0F192A0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B20E-9502-4014-953C-1B7954A4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6846-AD69-44D6-AA8C-6E7F2B73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A883-9CE9-4E78-8723-BD0E08C6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1421-D6E8-44AE-A83C-01312EE6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AF4-BE06-4CA2-B756-E4E483CE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C72-301F-4A6B-89E2-291DD330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ECD-1FF6-454E-B523-98E0470F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955-4483-47E3-9E27-0211F781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58A-29F7-43CD-9DD0-65705CE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9D4-D0F5-4B28-9E12-8E2258F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E45-73D1-47AD-8E6C-E6C33A6B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AD40-3176-4468-A393-D0284D508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3449-4EF5-4507-BD53-C740F8E09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9438a"/>
                </a:solidFill>
                <a:latin typeface="Georgia"/>
              </a:rPr>
              <a:t>Тема урока :  </a:t>
            </a:r>
            <a:br>
              <a:rPr sz="4000"/>
            </a:br>
            <a:r>
              <a:rPr b="1" lang="en-US" sz="4000" spc="-1" strike="noStrike">
                <a:solidFill>
                  <a:srgbClr val="603fed"/>
                </a:solidFill>
                <a:latin typeface="Georgia"/>
              </a:rPr>
              <a:t>« Цветок, его строение и значение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29000" y="4572000"/>
            <a:ext cx="5105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елина Фаина Серге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1 категории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У « Астрахановской О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юльга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ренбург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23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24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28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32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35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1333080" y="6308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Жен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65080" y="6308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Муж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812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2564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Двудомное раст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53910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Типы соцвет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Выводы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–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рган семенного размн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состоит их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нож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ложа,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околоцветника (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чашелистики и лепест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венчика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),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 пестика и</a:t>
            </a:r>
            <a:r>
              <a:rPr b="1" lang="en-US" sz="2400" spc="-1" strike="noStrike">
                <a:solidFill>
                  <a:srgbClr val="038f3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тычи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Околоцветник бывае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простым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ой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ки бываю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и пестики и тычинки)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раздель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только тычинки или только пес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развиваются и тычиночные и пестичные цветки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цветут только пестичные или только тычиночные цветы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у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Arial"/>
              </a:rPr>
              <a:t>Многие цветки собраны в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соцве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796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96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796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796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796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96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438a"/>
                </a:solidFill>
                <a:latin typeface="Times New Roman"/>
              </a:rPr>
              <a:t>Цель урока:</a:t>
            </a:r>
            <a:br>
              <a:rPr sz="4800"/>
            </a:br>
            <a:r>
              <a:rPr b="1" lang="en-US" sz="4800" spc="-1" strike="noStrike">
                <a:solidFill>
                  <a:srgbClr val="603fed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603fed"/>
                </a:solidFill>
                <a:latin typeface="Arial"/>
              </a:rPr>
              <a:t>Изучить строение и значение цветка.</a:t>
            </a:r>
            <a:r>
              <a:rPr b="1" lang="en-US" sz="3200" spc="-1" strike="noStrike">
                <a:solidFill>
                  <a:srgbClr val="603fed"/>
                </a:solidFill>
                <a:latin typeface="Times New Roman"/>
              </a:rPr>
              <a:t>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39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40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44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48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51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Поч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0212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Строение цвет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705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24480" cy="4992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4"/>
          <p:cNvGrpSpPr/>
          <p:nvPr/>
        </p:nvGrpSpPr>
        <p:grpSpPr>
          <a:xfrm>
            <a:off x="5029200" y="1219320"/>
            <a:ext cx="3741840" cy="5029200"/>
            <a:chOff x="5029200" y="1219320"/>
            <a:chExt cx="3741840" cy="5029200"/>
          </a:xfrm>
        </p:grpSpPr>
        <p:sp>
          <p:nvSpPr>
            <p:cNvPr id="159" name="Скругленный прямоугольник 5"/>
            <p:cNvSpPr/>
            <p:nvPr/>
          </p:nvSpPr>
          <p:spPr>
            <a:xfrm>
              <a:off x="5029200" y="1219320"/>
              <a:ext cx="3741840" cy="5029200"/>
            </a:xfrm>
            <a:custGeom>
              <a:avLst/>
              <a:gdLst>
                <a:gd name="textAreaLeft" fmla="*/ 182520 w 3741840"/>
                <a:gd name="textAreaRight" fmla="*/ 3559320 w 3741840"/>
                <a:gd name="textAreaTop" fmla="*/ 182520 h 5029200"/>
                <a:gd name="textAreaBottom" fmla="*/ 4846680 h 502920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e4f8"/>
            </a:solidFill>
            <a:ln w="25560">
              <a:solidFill>
                <a:srgbClr val="bc98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оугольник 6"/>
            <p:cNvSpPr/>
            <p:nvPr/>
          </p:nvSpPr>
          <p:spPr>
            <a:xfrm>
              <a:off x="5029200" y="1717560"/>
              <a:ext cx="3610080" cy="39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Если околоцветник состоит только из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епестков венчик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, то такой околоцветник называют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просты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Если состоит из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чашелистиков и лепестков венчика, то эт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войны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Околоцветник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210120" cy="39625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11400" cy="40384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4"/>
          <p:cNvSpPr/>
          <p:nvPr/>
        </p:nvSpPr>
        <p:spPr>
          <a:xfrm>
            <a:off x="214200" y="1357200"/>
            <a:ext cx="4071960" cy="4286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86520"/>
              <a:gd name="textAreaBottom" fmla="*/ 4087800 h 4286520"/>
            </a:gdLst>
            <a:ahLst/>
            <a:rect l="textAreaLeft" t="textAreaTop" r="textAreaRight" b="textAreaBottom"/>
            <a:pathLst>
              <a:path w="21600" h="22738">
                <a:moveTo>
                  <a:pt x="3600" y="0"/>
                </a:moveTo>
                <a:arcTo wR="3600" hR="3600" stAng="16200000" swAng="-5400000"/>
                <a:lnTo>
                  <a:pt x="0" y="19138"/>
                </a:lnTo>
                <a:arcTo wR="3600" hR="3600" stAng="10800000" swAng="-5400000"/>
                <a:lnTo>
                  <a:pt x="18000" y="22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357120" y="1928880"/>
            <a:ext cx="36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ли через листочки околоцветника можно провести несколько плоскостей симметрии, то такие цветки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00720" y="1428840"/>
            <a:ext cx="4095720" cy="40957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67" name="Прямая соединительная линия 7"/>
          <p:cNvSpPr/>
          <p:nvPr/>
        </p:nvSpPr>
        <p:spPr>
          <a:xfrm flipH="1">
            <a:off x="5143680" y="1428840"/>
            <a:ext cx="307152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 flipV="1">
            <a:off x="4571640" y="3429000"/>
            <a:ext cx="4000680" cy="28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 flipH="1" flipV="1">
            <a:off x="5572080" y="1499760"/>
            <a:ext cx="200016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Правильный цветок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2"/>
          <p:cNvSpPr/>
          <p:nvPr/>
        </p:nvSpPr>
        <p:spPr>
          <a:xfrm>
            <a:off x="214200" y="1643040"/>
            <a:ext cx="4214880" cy="4000680"/>
          </a:xfrm>
          <a:prstGeom prst="roundRect">
            <a:avLst>
              <a:gd name="adj" fmla="val 16667"/>
            </a:avLst>
          </a:pr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ветки, через которые можно провести одну плоскость симметрии,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625920" cy="35006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73" name="Прямая соединительная линия 5"/>
          <p:cNvSpPr/>
          <p:nvPr/>
        </p:nvSpPr>
        <p:spPr>
          <a:xfrm flipH="1">
            <a:off x="6786720" y="1285920"/>
            <a:ext cx="1440" cy="4502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Неправильный цвет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SDC10487"/>
          <p:cNvPicPr/>
          <p:nvPr/>
        </p:nvPicPr>
        <p:blipFill>
          <a:blip r:embed="rId1"/>
          <a:stretch/>
        </p:blipFill>
        <p:spPr>
          <a:xfrm>
            <a:off x="762120" y="2895480"/>
            <a:ext cx="3124080" cy="35053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735280" cy="37339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77" name="Группа 13"/>
          <p:cNvGrpSpPr/>
          <p:nvPr/>
        </p:nvGrpSpPr>
        <p:grpSpPr>
          <a:xfrm>
            <a:off x="685800" y="1141920"/>
            <a:ext cx="8153280" cy="1449000"/>
            <a:chOff x="685800" y="1141920"/>
            <a:chExt cx="8153280" cy="1449000"/>
          </a:xfrm>
        </p:grpSpPr>
        <p:sp>
          <p:nvSpPr>
            <p:cNvPr id="178" name="Скругленный прямоугольник 3"/>
            <p:cNvSpPr/>
            <p:nvPr/>
          </p:nvSpPr>
          <p:spPr>
            <a:xfrm>
              <a:off x="4977000" y="1528920"/>
              <a:ext cx="38620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64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Раздельнополы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крапива двудомна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685800" y="1625760"/>
              <a:ext cx="30754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Обоеполы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ибискус)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6"/>
            <p:cNvCxnSpPr/>
            <p:nvPr/>
          </p:nvCxnSpPr>
          <p:spPr>
            <a:xfrm flipH="1">
              <a:off x="1972800" y="1141920"/>
              <a:ext cx="250344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8"/>
            <p:cNvCxnSpPr/>
            <p:nvPr/>
          </p:nvCxnSpPr>
          <p:spPr>
            <a:xfrm>
              <a:off x="4905360" y="1142640"/>
              <a:ext cx="193176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182" name="Скругленный прямоугольник 2"/>
          <p:cNvSpPr/>
          <p:nvPr/>
        </p:nvSpPr>
        <p:spPr>
          <a:xfrm>
            <a:off x="2895480" y="533520"/>
            <a:ext cx="30718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2"/>
          <p:cNvSpPr/>
          <p:nvPr/>
        </p:nvSpPr>
        <p:spPr>
          <a:xfrm>
            <a:off x="2895480" y="609480"/>
            <a:ext cx="30718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Однодомное растение</a:t>
            </a: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7:46:08Z</dcterms:created>
  <dc:creator>Пользователь</dc:creator>
  <dc:description/>
  <dc:language>en-US</dc:language>
  <cp:lastModifiedBy>КарМаН</cp:lastModifiedBy>
  <dcterms:modified xsi:type="dcterms:W3CDTF">2012-02-18T15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