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81F-49A8-4ED1-9E89-600315B6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265-1C5E-486A-8BEB-08F0508C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4CE-F64C-4549-9A4C-4B9BEA84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BBE-B39A-455E-A538-64B4D549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75C3-B7C3-46B5-AB06-759A8BFD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F42E-9293-48DD-972F-7F0E7F7C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8113-50B7-4CC5-A41B-00FD19FD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A038-739B-4836-A8C2-64155AFC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B1B9-B788-4CD2-B71F-C2C01BB0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D733-4D9F-4EAD-AD65-3F444FB1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9482-B279-4567-885B-4E19C1D8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AA5-6CBC-417F-B687-127029F0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2412-A713-40C9-BBAF-4F04C637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236F-39C8-4905-AE5A-A97BBA1A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319A-FF52-4C9F-BE57-FD76E12D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4760-8B06-435B-A9E0-75D19084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2F0F-3A71-4E83-9A79-EA953644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0A0-0B46-405C-9F52-9274D31A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5BB-6930-4E22-B85A-0E29B863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0CD-560C-4B8E-890D-6D084D61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65F-2531-4725-8808-C768F1E2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2E5-EBEF-4C39-9AB2-2BBEE790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B71-094A-485D-B827-32F4C044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C0C-D8D6-4C96-97B0-A82491A5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DF1E-8D9D-4F38-9BC2-307682E71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5481-D6A1-4FB6-A34D-9A555DF68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9438a"/>
                </a:solidFill>
                <a:latin typeface="Georgia"/>
              </a:rPr>
              <a:t>Тема урока :  </a:t>
            </a:r>
            <a:br>
              <a:rPr sz="4000"/>
            </a:br>
            <a:r>
              <a:rPr b="1" lang="en-US" sz="4000" spc="-1" strike="noStrike">
                <a:solidFill>
                  <a:srgbClr val="603fed"/>
                </a:solidFill>
                <a:latin typeface="Georgia"/>
              </a:rPr>
              <a:t>« Цветок, его строение и значение.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3429000" y="4572000"/>
            <a:ext cx="5105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елина Фаина Сергеев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биологии 1 категории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ОУ « Астрахановской ООШ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юльганского райо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ренбург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23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24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28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32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35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1333080" y="630864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Жен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365080" y="63086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Муж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4812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72564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Двудомное раст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858000" cy="53910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Типы соцвети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Выводы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–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рган семенного размн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состоит их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нож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ложа,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околоцветника (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чашелистики и лепест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венчика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),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 пестика и</a:t>
            </a:r>
            <a:r>
              <a:rPr b="1" lang="en-US" sz="2400" spc="-1" strike="noStrike">
                <a:solidFill>
                  <a:srgbClr val="038f3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тычин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Околоцветник бывае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простым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ой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ки бываю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и пестики и тычинки)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раздель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только тычинки или только пест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развиваются и тычиночные и пестичные цветки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цветут только пестичные или только тычиночные цветы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у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Arial"/>
              </a:rPr>
              <a:t>Многие цветки собраны в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соцве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796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796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796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796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796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796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796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9438a"/>
                </a:solidFill>
                <a:latin typeface="Times New Roman"/>
              </a:rPr>
              <a:t>Цель урока:</a:t>
            </a:r>
            <a:br>
              <a:rPr sz="4800"/>
            </a:br>
            <a:r>
              <a:rPr b="1" lang="en-US" sz="4800" spc="-1" strike="noStrike">
                <a:solidFill>
                  <a:srgbClr val="603fed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603fed"/>
                </a:solidFill>
                <a:latin typeface="Arial"/>
              </a:rPr>
              <a:t>Изучить строение и значение цветка.</a:t>
            </a:r>
            <a:r>
              <a:rPr b="1" lang="en-US" sz="3200" spc="-1" strike="noStrike">
                <a:solidFill>
                  <a:srgbClr val="603fed"/>
                </a:solidFill>
                <a:latin typeface="Times New Roman"/>
              </a:rPr>
              <a:t>»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39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40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44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48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51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Почк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50212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Строение цвет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7056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324480" cy="4992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Группа 4"/>
          <p:cNvGrpSpPr/>
          <p:nvPr/>
        </p:nvGrpSpPr>
        <p:grpSpPr>
          <a:xfrm>
            <a:off x="5029200" y="1219320"/>
            <a:ext cx="3741840" cy="5029200"/>
            <a:chOff x="5029200" y="1219320"/>
            <a:chExt cx="3741840" cy="5029200"/>
          </a:xfrm>
        </p:grpSpPr>
        <p:sp>
          <p:nvSpPr>
            <p:cNvPr id="159" name="Скругленный прямоугольник 5"/>
            <p:cNvSpPr/>
            <p:nvPr/>
          </p:nvSpPr>
          <p:spPr>
            <a:xfrm>
              <a:off x="5029200" y="1219320"/>
              <a:ext cx="3741840" cy="5029200"/>
            </a:xfrm>
            <a:custGeom>
              <a:avLst/>
              <a:gdLst>
                <a:gd name="textAreaLeft" fmla="*/ 182520 w 3741840"/>
                <a:gd name="textAreaRight" fmla="*/ 3559320 w 3741840"/>
                <a:gd name="textAreaTop" fmla="*/ 182520 h 5029200"/>
                <a:gd name="textAreaBottom" fmla="*/ 4846680 h 502920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e4f8"/>
            </a:solidFill>
            <a:ln w="25560">
              <a:solidFill>
                <a:srgbClr val="bc98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Прямоугольник 6"/>
            <p:cNvSpPr/>
            <p:nvPr/>
          </p:nvSpPr>
          <p:spPr>
            <a:xfrm>
              <a:off x="5029200" y="1717560"/>
              <a:ext cx="3610080" cy="39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Если околоцветник состоит только из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лепестков венчика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, то такой околоцветник называют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простым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Если состоит из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чашелистиков и лепестков венчика, то это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войны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Околоцветник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210120" cy="39625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11400" cy="40384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Скругленный прямоугольник 4"/>
          <p:cNvSpPr/>
          <p:nvPr/>
        </p:nvSpPr>
        <p:spPr>
          <a:xfrm>
            <a:off x="214200" y="1357200"/>
            <a:ext cx="4071960" cy="428652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4286520"/>
              <a:gd name="textAreaBottom" fmla="*/ 4087800 h 4286520"/>
            </a:gdLst>
            <a:ahLst/>
            <a:rect l="textAreaLeft" t="textAreaTop" r="textAreaRight" b="textAreaBottom"/>
            <a:pathLst>
              <a:path w="21600" h="22738">
                <a:moveTo>
                  <a:pt x="3600" y="0"/>
                </a:moveTo>
                <a:arcTo wR="3600" hR="3600" stAng="16200000" swAng="-5400000"/>
                <a:lnTo>
                  <a:pt x="0" y="19138"/>
                </a:lnTo>
                <a:arcTo wR="3600" hR="3600" stAng="10800000" swAng="-5400000"/>
                <a:lnTo>
                  <a:pt x="18000" y="22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357120" y="1928880"/>
            <a:ext cx="3643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ли через листочки околоцветника можно провести несколько плоскостей симметрии, то такие цветки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00720" y="1428840"/>
            <a:ext cx="4095720" cy="40957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67" name="Прямая соединительная линия 7"/>
          <p:cNvSpPr/>
          <p:nvPr/>
        </p:nvSpPr>
        <p:spPr>
          <a:xfrm flipH="1">
            <a:off x="5143680" y="1428840"/>
            <a:ext cx="307152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ая соединительная линия 8"/>
          <p:cNvSpPr/>
          <p:nvPr/>
        </p:nvSpPr>
        <p:spPr>
          <a:xfrm flipH="1" flipV="1">
            <a:off x="4571640" y="3429000"/>
            <a:ext cx="4000680" cy="285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ая соединительная линия 12"/>
          <p:cNvSpPr/>
          <p:nvPr/>
        </p:nvSpPr>
        <p:spPr>
          <a:xfrm flipH="1" flipV="1">
            <a:off x="5572080" y="1499760"/>
            <a:ext cx="200016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Правильный цветок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2"/>
          <p:cNvSpPr/>
          <p:nvPr/>
        </p:nvSpPr>
        <p:spPr>
          <a:xfrm>
            <a:off x="214200" y="1643040"/>
            <a:ext cx="4214880" cy="4000680"/>
          </a:xfrm>
          <a:prstGeom prst="roundRect">
            <a:avLst>
              <a:gd name="adj" fmla="val 16667"/>
            </a:avLst>
          </a:pr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ветки, через которые можно провести одну плоскость симметрии,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929120" y="1857240"/>
            <a:ext cx="3625920" cy="35006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73" name="Прямая соединительная линия 5"/>
          <p:cNvSpPr/>
          <p:nvPr/>
        </p:nvSpPr>
        <p:spPr>
          <a:xfrm flipH="1">
            <a:off x="6786720" y="1285920"/>
            <a:ext cx="1440" cy="4502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Неправильный цветок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1" descr="SDC10487"/>
          <p:cNvPicPr/>
          <p:nvPr/>
        </p:nvPicPr>
        <p:blipFill>
          <a:blip r:embed="rId1"/>
          <a:stretch/>
        </p:blipFill>
        <p:spPr>
          <a:xfrm>
            <a:off x="762120" y="2895480"/>
            <a:ext cx="3124080" cy="35053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2735280" cy="37339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grpSp>
        <p:nvGrpSpPr>
          <p:cNvPr id="177" name="Группа 13"/>
          <p:cNvGrpSpPr/>
          <p:nvPr/>
        </p:nvGrpSpPr>
        <p:grpSpPr>
          <a:xfrm>
            <a:off x="685800" y="1141920"/>
            <a:ext cx="8153280" cy="1449000"/>
            <a:chOff x="685800" y="1141920"/>
            <a:chExt cx="8153280" cy="1449000"/>
          </a:xfrm>
        </p:grpSpPr>
        <p:sp>
          <p:nvSpPr>
            <p:cNvPr id="178" name="Скругленный прямоугольник 3"/>
            <p:cNvSpPr/>
            <p:nvPr/>
          </p:nvSpPr>
          <p:spPr>
            <a:xfrm>
              <a:off x="4977000" y="1528920"/>
              <a:ext cx="38620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648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Раздельнополы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крапива двудомная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Скругленный прямоугольник 4"/>
            <p:cNvSpPr/>
            <p:nvPr/>
          </p:nvSpPr>
          <p:spPr>
            <a:xfrm>
              <a:off x="685800" y="1625760"/>
              <a:ext cx="30754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Обоеполы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гибискус)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Прямая со стрелкой 6"/>
            <p:cNvCxnSpPr/>
            <p:nvPr/>
          </p:nvCxnSpPr>
          <p:spPr>
            <a:xfrm flipH="1">
              <a:off x="1972800" y="1141920"/>
              <a:ext cx="250344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81" name="Прямая со стрелкой 8"/>
            <p:cNvCxnSpPr/>
            <p:nvPr/>
          </p:nvCxnSpPr>
          <p:spPr>
            <a:xfrm>
              <a:off x="4905360" y="1142640"/>
              <a:ext cx="193176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</p:grpSp>
      <p:sp>
        <p:nvSpPr>
          <p:cNvPr id="182" name="Скругленный прямоугольник 2"/>
          <p:cNvSpPr/>
          <p:nvPr/>
        </p:nvSpPr>
        <p:spPr>
          <a:xfrm>
            <a:off x="2895480" y="533520"/>
            <a:ext cx="307188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Скругленный прямоугольник 2"/>
          <p:cNvSpPr/>
          <p:nvPr/>
        </p:nvSpPr>
        <p:spPr>
          <a:xfrm>
            <a:off x="2895480" y="609480"/>
            <a:ext cx="30718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вет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Однодомное растение</a:t>
            </a:r>
            <a:r>
              <a:rPr b="1" lang="en-US" sz="44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4857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7:46:08Z</dcterms:created>
  <dc:creator>Пользователь</dc:creator>
  <dc:description/>
  <dc:language>en-US</dc:language>
  <cp:lastModifiedBy>КарМаН</cp:lastModifiedBy>
  <dcterms:modified xsi:type="dcterms:W3CDTF">2012-02-18T15:41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