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34B-E407-4BDE-99D8-E55FCB11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BFB-EA36-4200-908C-681B154D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87B8-EEB2-4073-8275-0000344F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E660-1CF1-4683-BF21-6A1300A9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A69D-839C-48F4-B9C4-DFF71411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9487-B513-430F-8564-479DCE42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AA2C-C95B-4C27-91C4-E936C5C0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9488-E0B8-4A82-A4A5-C4D88F2F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9C1A-F798-4842-9640-994C8C26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79EE-D37E-440C-85AE-5121D470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4B3A-3F2C-41F9-BD09-FB00848F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C27-CC21-48C2-A3E4-3822D96E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095E-C170-4EE1-B4F3-9AEB8356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2E4F-CEB0-4304-A5D0-2A996D4F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7F45-D371-40BA-9957-3FA0E9AA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8555-FB70-40F0-93F8-DCA32E87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9BCD-E269-41C9-995D-EB4D2FF1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D5B-BBEA-45C9-82FC-6D6B6E5D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58C-444B-4D09-B233-DC7AF4BB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70C-51E9-4F63-8919-B1D2F237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6EC-77E6-4AEB-8AE9-E18EEB38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66F-836A-4C13-B235-5DD113F0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C3B-EDF9-433C-BC7E-7CAAC0AF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958-F917-4E79-B03C-B1F43B90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1425-C8A4-42AB-8C27-C01FEEBFB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1E80-5221-486E-9D03-CFEB7C423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9438a"/>
                </a:solidFill>
                <a:latin typeface="Georgia"/>
              </a:rPr>
              <a:t>Тема урока :  </a:t>
            </a:r>
            <a:br>
              <a:rPr sz="4000"/>
            </a:br>
            <a:r>
              <a:rPr b="1" lang="en-US" sz="4000" spc="-1" strike="noStrike">
                <a:solidFill>
                  <a:srgbClr val="603fed"/>
                </a:solidFill>
                <a:latin typeface="Georgia"/>
              </a:rPr>
              <a:t>« Цветок, его строение и значение.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3429000" y="4572000"/>
            <a:ext cx="5105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елина Фаина Сергеев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биологии 1 категории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ОУ « Астрахановской ООШ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юльганского райо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ренбург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23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24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28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32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35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1333080" y="630864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Жен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365080" y="6308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Муж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4812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72564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Двудомное раст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53910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Типы соцвети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Выводы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–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рган семенного размн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состоит их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нож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ложа,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околоцветника (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чашелистики и лепест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венчика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),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 пестика и</a:t>
            </a:r>
            <a:r>
              <a:rPr b="1" lang="en-US" sz="2400" spc="-1" strike="noStrike">
                <a:solidFill>
                  <a:srgbClr val="038f3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тычин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Околоцветник бывае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простым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ой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ки бываю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и пестики и тычинки)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раздель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только тычинки или только пест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развиваются и тычиночные и пестичные цветки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цветут только пестичные или только тычиночные цветы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у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Arial"/>
              </a:rPr>
              <a:t>Многие цветки собраны в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соцве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796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796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796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796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796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796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796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9438a"/>
                </a:solidFill>
                <a:latin typeface="Times New Roman"/>
              </a:rPr>
              <a:t>Цель урока:</a:t>
            </a:r>
            <a:br>
              <a:rPr sz="4800"/>
            </a:br>
            <a:r>
              <a:rPr b="1" lang="en-US" sz="4800" spc="-1" strike="noStrike">
                <a:solidFill>
                  <a:srgbClr val="603fed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603fed"/>
                </a:solidFill>
                <a:latin typeface="Arial"/>
              </a:rPr>
              <a:t>Изучить строение и значение цветка.</a:t>
            </a:r>
            <a:r>
              <a:rPr b="1" lang="en-US" sz="3200" spc="-1" strike="noStrike">
                <a:solidFill>
                  <a:srgbClr val="603fed"/>
                </a:solidFill>
                <a:latin typeface="Times New Roman"/>
              </a:rPr>
              <a:t>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39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40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44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48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51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Почк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50212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Строение цвет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7056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324480" cy="4992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Группа 4"/>
          <p:cNvGrpSpPr/>
          <p:nvPr/>
        </p:nvGrpSpPr>
        <p:grpSpPr>
          <a:xfrm>
            <a:off x="5029200" y="1219320"/>
            <a:ext cx="3741840" cy="5029200"/>
            <a:chOff x="5029200" y="1219320"/>
            <a:chExt cx="3741840" cy="5029200"/>
          </a:xfrm>
        </p:grpSpPr>
        <p:sp>
          <p:nvSpPr>
            <p:cNvPr id="159" name="Скругленный прямоугольник 5"/>
            <p:cNvSpPr/>
            <p:nvPr/>
          </p:nvSpPr>
          <p:spPr>
            <a:xfrm>
              <a:off x="5029200" y="1219320"/>
              <a:ext cx="3741840" cy="5029200"/>
            </a:xfrm>
            <a:custGeom>
              <a:avLst/>
              <a:gdLst>
                <a:gd name="textAreaLeft" fmla="*/ 182520 w 3741840"/>
                <a:gd name="textAreaRight" fmla="*/ 3559320 w 3741840"/>
                <a:gd name="textAreaTop" fmla="*/ 182520 h 5029200"/>
                <a:gd name="textAreaBottom" fmla="*/ 4846680 h 502920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e4f8"/>
            </a:solidFill>
            <a:ln w="25560">
              <a:solidFill>
                <a:srgbClr val="bc98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Прямоугольник 6"/>
            <p:cNvSpPr/>
            <p:nvPr/>
          </p:nvSpPr>
          <p:spPr>
            <a:xfrm>
              <a:off x="5029200" y="1717560"/>
              <a:ext cx="3610080" cy="39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Если околоцветник состоит только из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лепестков венчика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, то такой околоцветник называют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простым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Если состоит из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чашелистиков и лепестков венчика, то это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войны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Околоцветник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210120" cy="39625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11400" cy="40384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Скругленный прямоугольник 4"/>
          <p:cNvSpPr/>
          <p:nvPr/>
        </p:nvSpPr>
        <p:spPr>
          <a:xfrm>
            <a:off x="214200" y="1357200"/>
            <a:ext cx="4071960" cy="428652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286520"/>
              <a:gd name="textAreaBottom" fmla="*/ 4087800 h 4286520"/>
            </a:gdLst>
            <a:ahLst/>
            <a:rect l="textAreaLeft" t="textAreaTop" r="textAreaRight" b="textAreaBottom"/>
            <a:pathLst>
              <a:path w="21600" h="22738">
                <a:moveTo>
                  <a:pt x="3600" y="0"/>
                </a:moveTo>
                <a:arcTo wR="3600" hR="3600" stAng="16200000" swAng="-5400000"/>
                <a:lnTo>
                  <a:pt x="0" y="19138"/>
                </a:lnTo>
                <a:arcTo wR="3600" hR="3600" stAng="10800000" swAng="-5400000"/>
                <a:lnTo>
                  <a:pt x="18000" y="22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357120" y="1928880"/>
            <a:ext cx="3643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ли через листочки околоцветника можно провести несколько плоскостей симметрии, то такие цветки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00720" y="1428840"/>
            <a:ext cx="4095720" cy="40957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67" name="Прямая соединительная линия 7"/>
          <p:cNvSpPr/>
          <p:nvPr/>
        </p:nvSpPr>
        <p:spPr>
          <a:xfrm flipH="1">
            <a:off x="5143680" y="1428840"/>
            <a:ext cx="307152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ая соединительная линия 8"/>
          <p:cNvSpPr/>
          <p:nvPr/>
        </p:nvSpPr>
        <p:spPr>
          <a:xfrm flipH="1" flipV="1">
            <a:off x="4571640" y="3429000"/>
            <a:ext cx="4000680" cy="285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ая соединительная линия 12"/>
          <p:cNvSpPr/>
          <p:nvPr/>
        </p:nvSpPr>
        <p:spPr>
          <a:xfrm flipH="1" flipV="1">
            <a:off x="5572080" y="1499760"/>
            <a:ext cx="200016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Правильный цветок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2"/>
          <p:cNvSpPr/>
          <p:nvPr/>
        </p:nvSpPr>
        <p:spPr>
          <a:xfrm>
            <a:off x="214200" y="1643040"/>
            <a:ext cx="4214880" cy="4000680"/>
          </a:xfrm>
          <a:prstGeom prst="roundRect">
            <a:avLst>
              <a:gd name="adj" fmla="val 16667"/>
            </a:avLst>
          </a:pr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ветки, через которые можно провести одну плоскость симметрии,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929120" y="1857240"/>
            <a:ext cx="3625920" cy="35006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73" name="Прямая соединительная линия 5"/>
          <p:cNvSpPr/>
          <p:nvPr/>
        </p:nvSpPr>
        <p:spPr>
          <a:xfrm flipH="1">
            <a:off x="6786720" y="1285920"/>
            <a:ext cx="1440" cy="4502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Неправильный цветок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1" descr="SDC10487"/>
          <p:cNvPicPr/>
          <p:nvPr/>
        </p:nvPicPr>
        <p:blipFill>
          <a:blip r:embed="rId1"/>
          <a:stretch/>
        </p:blipFill>
        <p:spPr>
          <a:xfrm>
            <a:off x="762120" y="2895480"/>
            <a:ext cx="3124080" cy="35053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2735280" cy="37339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177" name="Группа 13"/>
          <p:cNvGrpSpPr/>
          <p:nvPr/>
        </p:nvGrpSpPr>
        <p:grpSpPr>
          <a:xfrm>
            <a:off x="685800" y="1141920"/>
            <a:ext cx="8153280" cy="1449000"/>
            <a:chOff x="685800" y="1141920"/>
            <a:chExt cx="8153280" cy="1449000"/>
          </a:xfrm>
        </p:grpSpPr>
        <p:sp>
          <p:nvSpPr>
            <p:cNvPr id="178" name="Скругленный прямоугольник 3"/>
            <p:cNvSpPr/>
            <p:nvPr/>
          </p:nvSpPr>
          <p:spPr>
            <a:xfrm>
              <a:off x="4977000" y="1528920"/>
              <a:ext cx="38620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648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Раздельнополы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крапива двудомная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Скругленный прямоугольник 4"/>
            <p:cNvSpPr/>
            <p:nvPr/>
          </p:nvSpPr>
          <p:spPr>
            <a:xfrm>
              <a:off x="685800" y="1625760"/>
              <a:ext cx="30754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Обоеполы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гибискус)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Прямая со стрелкой 6"/>
            <p:cNvCxnSpPr/>
            <p:nvPr/>
          </p:nvCxnSpPr>
          <p:spPr>
            <a:xfrm flipH="1">
              <a:off x="1972800" y="1141920"/>
              <a:ext cx="250344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81" name="Прямая со стрелкой 8"/>
            <p:cNvCxnSpPr/>
            <p:nvPr/>
          </p:nvCxnSpPr>
          <p:spPr>
            <a:xfrm>
              <a:off x="4905360" y="1142640"/>
              <a:ext cx="193176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</p:grpSp>
      <p:sp>
        <p:nvSpPr>
          <p:cNvPr id="182" name="Скругленный прямоугольник 2"/>
          <p:cNvSpPr/>
          <p:nvPr/>
        </p:nvSpPr>
        <p:spPr>
          <a:xfrm>
            <a:off x="2895480" y="533520"/>
            <a:ext cx="307188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Скругленный прямоугольник 2"/>
          <p:cNvSpPr/>
          <p:nvPr/>
        </p:nvSpPr>
        <p:spPr>
          <a:xfrm>
            <a:off x="2895480" y="609480"/>
            <a:ext cx="30718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вет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Однодомное растение</a:t>
            </a:r>
            <a:r>
              <a:rPr b="1" lang="en-US" sz="44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4857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7:46:08Z</dcterms:created>
  <dc:creator>Пользователь</dc:creator>
  <dc:description/>
  <dc:language>en-US</dc:language>
  <cp:lastModifiedBy>КарМаН</cp:lastModifiedBy>
  <dcterms:modified xsi:type="dcterms:W3CDTF">2012-02-18T15:41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