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2.gif" ContentType="image/gif"/>
  <Override PartName="/ppt/media/image9.png" ContentType="image/png"/>
  <Override PartName="/ppt/media/image13.jpeg" ContentType="image/jpeg"/>
  <Override PartName="/ppt/media/image12.wmf" ContentType="image/x-wmf"/>
  <Override PartName="/ppt/media/image1.gif" ContentType="image/gif"/>
  <Override PartName="/ppt/media/image4.gif" ContentType="image/gif"/>
  <Override PartName="/ppt/media/image3.gif" ContentType="image/gif"/>
  <Override PartName="/ppt/media/image6.png" ContentType="image/png"/>
  <Override PartName="/ppt/media/image29.png" ContentType="image/png"/>
  <Override PartName="/ppt/media/image11.png" ContentType="image/png"/>
  <Override PartName="/ppt/media/image7.jpeg" ContentType="image/jpeg"/>
  <Override PartName="/ppt/media/image20.png" ContentType="image/png"/>
  <Override PartName="/ppt/media/image24.wmf" ContentType="image/x-wmf"/>
  <Override PartName="/ppt/media/image23.jpeg" ContentType="image/jpeg"/>
  <Override PartName="/ppt/media/image25.jpeg" ContentType="image/jpeg"/>
  <Override PartName="/ppt/media/image22.gif" ContentType="image/gif"/>
  <Override PartName="/ppt/media/image17.jpeg" ContentType="image/jpeg"/>
  <Override PartName="/ppt/media/image14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26.jpeg" ContentType="image/jpeg"/>
  <Override PartName="/ppt/media/image18.wmf" ContentType="image/x-wmf"/>
  <Override PartName="/ppt/media/image15.png" ContentType="image/png"/>
  <Override PartName="/ppt/media/image5.wmf" ContentType="image/x-wmf"/>
  <Override PartName="/ppt/media/image27.jpeg" ContentType="image/jpeg"/>
  <Override PartName="/ppt/media/image2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46413-E3EA-47A9-87BC-877782308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C676E-2E16-456C-A390-62668A893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7CD36-D6E3-4CE4-BBFC-FE5514F90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AF52E-3C6F-42CB-96A8-E9617D2A0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1CC2E-02A9-44AF-9440-BEFAD183F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424B1-0199-4C0A-A59F-2953783BA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F8C8F-2388-4739-A3BC-BD907D645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8F538-CA1F-48BB-A870-EF866A519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C046E-64D9-499C-97CF-A506F6AEC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95C85-7A1F-4FF4-AC0F-DEF9DEC1B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6B6EB-8205-41BE-A621-B8E5C7397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90DAD-2A62-4B74-B095-B9679B893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19B2C-27C5-4E82-A0C6-BDCA98D26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A51D7-741D-4CE5-98F4-F51BA6A87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B18E0-E6FE-40F2-9DFC-925A4CF75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E5BF5-5ACA-4156-B517-C8BDD22C1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C9BC1-0CBA-4E8F-99D5-E63DC187B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A9E7C-24A9-4A61-869B-D9B8CE899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8DB20-52B0-4A56-8D12-ABD16CFD9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366C0-E03B-43C6-8621-8248F4749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81B93-DFBA-4DAE-9BD4-0676B5D84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52BF8-6E3D-4AF7-AC21-9204A3ACC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17A95-C02E-4A4D-95D0-4B81231A2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331A8-C617-41D1-ACE3-3DD406801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05280" y="4680"/>
            <a:ext cx="17538120" cy="27381240"/>
            <a:chOff x="-8405280" y="4680"/>
            <a:chExt cx="17538120" cy="273812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05280" y="4680"/>
              <a:ext cx="773094112920" cy="2738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0"/>
                </a:path>
              </a:pathLst>
            </a:custGeom>
            <a:noFill/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35EED-DA1F-410B-B7E5-9232BF827BE1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635B5-FDB2-4CE1-9522-55B9649C5D58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93752280" y="1463760"/>
            <a:ext cx="171988200" cy="21589560"/>
            <a:chOff x="-93752280" y="1463760"/>
            <a:chExt cx="171988200" cy="2158956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93752280" y="1463760"/>
              <a:ext cx="171988200" cy="2158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"/>
                </a:path>
              </a:pathLst>
            </a:custGeom>
            <a:noFill/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4A30A-3C2D-4609-A103-96D7F6F33DE6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129528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AF265-590D-46EE-B331-2FAAC908EA27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13.xml"/><Relationship Id="rId3" Type="http://schemas.openxmlformats.org/officeDocument/2006/relationships/slide" Target="slide14.xml"/><Relationship Id="rId4" Type="http://schemas.openxmlformats.org/officeDocument/2006/relationships/slide" Target="slide15.xml"/><Relationship Id="rId5" Type="http://schemas.openxmlformats.org/officeDocument/2006/relationships/slide" Target="slide18.xml"/><Relationship Id="rId6" Type="http://schemas.openxmlformats.org/officeDocument/2006/relationships/slide" Target="slide16.xml"/><Relationship Id="rId7" Type="http://schemas.openxmlformats.org/officeDocument/2006/relationships/slide" Target="slide17.xml"/><Relationship Id="rId8" Type="http://schemas.openxmlformats.org/officeDocument/2006/relationships/image" Target="../media/image10.jpeg"/><Relationship Id="rId9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wmf"/><Relationship Id="rId3" Type="http://schemas.openxmlformats.org/officeDocument/2006/relationships/slide" Target="slide11.xml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jpeg"/><Relationship Id="rId5" Type="http://schemas.openxmlformats.org/officeDocument/2006/relationships/image" Target="../media/image18.wmf"/><Relationship Id="rId6" Type="http://schemas.openxmlformats.org/officeDocument/2006/relationships/slide" Target="slide11.xml"/><Relationship Id="rId7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" Target="slide11.xml"/><Relationship Id="rId4" Type="http://schemas.openxmlformats.org/officeDocument/2006/relationships/image" Target="../media/image21.jpeg"/><Relationship Id="rId5" Type="http://schemas.openxmlformats.org/officeDocument/2006/relationships/image" Target="../media/image22.gif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wmf"/><Relationship Id="rId3" Type="http://schemas.openxmlformats.org/officeDocument/2006/relationships/slide" Target="slide11.xml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11.xml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Тема №2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761760" y="2819520"/>
            <a:ext cx="7924680" cy="1038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Times New Roman"/>
              </a:rPr>
              <a:t>«Размножение растений»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932360" y="4869000"/>
            <a:ext cx="421164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олесникова Н.Ю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еподаватель спец.дисциплин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ГБОУ СПО НСХ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FFCA0-7951-4024-8BBE-6768DE5AF9BF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B63B29D1-0B71-4158-BBE2-464B3C1D0585}" type="datetime1">
              <a:rPr lang="en-US"/>
              <a:t>07/29/26</a:t>
            </a:fld>
          </a:p>
        </p:txBody>
      </p:sp>
    </p:spTree>
  </p:cSld>
  <p:transition spd="slow">
    <p:strips dir="l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219320" y="761760"/>
            <a:ext cx="9604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Типы плодов :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1.Семянка; 2-листовка; 3-боб; 4-стручок; 5-стручочек; 6,8,9-коробочка; 7-двусемянка; 10-костянка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9560" y="16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108240" y="56768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048120" y="571500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973320" y="57769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318280" y="471024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257800" y="472428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268600" y="55483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07040" y="44053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107040" y="592920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429000" cy="22510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2449440" y="34909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887720" y="55483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564240" y="55483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783200" y="387180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960680" y="539604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308640" y="5510160"/>
            <a:ext cx="184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744720" y="57769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09480" y="640080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озвра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2209680" y="3352680"/>
            <a:ext cx="6096240" cy="3062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FE1E5-D02D-4CA5-84F6-BE95E366480C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CA1F9B-C413-4F61-8F76-4562DDF893D8}" type="datetime1">
              <a:rPr lang="en-US"/>
              <a:t>07/29/26</a:t>
            </a:fld>
          </a:p>
        </p:txBody>
      </p:sp>
    </p:spTree>
  </p:cSld>
  <p:transition spd="slow">
    <p:strips dir="l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9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66"/>
                </a:solidFill>
                <a:latin typeface="Arial"/>
              </a:rPr>
              <a:t>2. Вегетативное размножение -</a:t>
            </a:r>
            <a:br>
              <a:rPr sz="3200"/>
            </a:br>
            <a:r>
              <a:rPr b="0" lang="ru-RU" sz="3200" spc="-1" strike="noStrike">
                <a:solidFill>
                  <a:srgbClr val="ffcc66"/>
                </a:solidFill>
                <a:latin typeface="Arial"/>
              </a:rPr>
              <a:t> размножение растений отдельными его частями.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0033"/>
                </a:solidFill>
                <a:uFillTx/>
                <a:latin typeface="Times New Roman"/>
                <a:hlinkClick r:id="rId1" action="ppaction://hlinksldjump"/>
              </a:rPr>
              <a:t>Усами (клубника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0033"/>
                </a:solidFill>
                <a:uFillTx/>
                <a:latin typeface="Times New Roman"/>
                <a:hlinkClick r:id="rId2" action="ppaction://hlinksldjump"/>
              </a:rPr>
              <a:t>Черенками (виноград, смородина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0033"/>
                </a:solidFill>
                <a:uFillTx/>
                <a:latin typeface="Times New Roman"/>
                <a:hlinkClick r:id="rId3" action="ppaction://hlinksldjump"/>
              </a:rPr>
              <a:t>Отводками (виноград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0033"/>
                </a:solidFill>
                <a:uFillTx/>
                <a:latin typeface="Times New Roman"/>
                <a:hlinkClick r:id="rId4" action="ppaction://hlinksldjump"/>
              </a:rPr>
              <a:t>Луковицами (чеснок, лук, тюльпан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0033"/>
                </a:solidFill>
                <a:uFillTx/>
                <a:latin typeface="Times New Roman"/>
                <a:hlinkClick r:id="rId5" action="ppaction://hlinksldjump"/>
              </a:rPr>
              <a:t>Корневыми отпрысками (малина, камыш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33"/>
                </a:solidFill>
                <a:latin typeface="Times New Roman"/>
              </a:rPr>
              <a:t>Корневыми клубнями (георгина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0033"/>
                </a:solidFill>
                <a:uFillTx/>
                <a:latin typeface="Times New Roman"/>
                <a:hlinkClick r:id="rId6" action="ppaction://hlinksldjump"/>
              </a:rPr>
              <a:t>Клубнями (картофель, земляная груша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0033"/>
                </a:solidFill>
                <a:uFillTx/>
                <a:latin typeface="Times New Roman"/>
                <a:hlinkClick r:id="rId7" action="ppaction://hlinksldjump"/>
              </a:rPr>
              <a:t>Корневищами (многолетние травы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8"/>
          <a:stretch/>
        </p:blipFill>
        <p:spPr>
          <a:xfrm>
            <a:off x="6732720" y="5259240"/>
            <a:ext cx="2411280" cy="15987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914400" y="6400800"/>
            <a:ext cx="16002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90720" y="632448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озвра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6C7C3-DBDA-40DE-9BAD-E6460C70A8F4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884848-CCCC-4832-A2BF-9238B28B783E}" type="datetime1">
              <a:rPr lang="en-US"/>
              <a:t>07/29/26</a:t>
            </a:fld>
          </a:p>
        </p:txBody>
      </p:sp>
    </p:spTree>
  </p:cSld>
  <p:transition spd="slow">
    <p:strips dir="lu"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500"/>
                            </p:stCondLst>
                            <p:childTnLst>
                              <p:par>
                                <p:cTn id="140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2000"/>
                            </p:stCondLst>
                            <p:childTnLst>
                              <p:par>
                                <p:cTn id="147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2500"/>
                            </p:stCondLst>
                            <p:childTnLst>
                              <p:par>
                                <p:cTn id="154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3000"/>
                            </p:stCondLst>
                            <p:childTnLst>
                              <p:par>
                                <p:cTn id="161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3500"/>
                            </p:stCondLst>
                            <p:childTnLst>
                              <p:par>
                                <p:cTn id="168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4000"/>
                            </p:stCondLst>
                            <p:childTnLst>
                              <p:par>
                                <p:cTn id="175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Размножение усами.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257800" y="3124080"/>
            <a:ext cx="3581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дним из представителей данного типа размножения является клубник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633840" y="2790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562720" y="1503360"/>
            <a:ext cx="2971800" cy="162072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4419720" cy="502920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685800" y="6324480"/>
            <a:ext cx="152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0033"/>
                </a:solidFill>
                <a:uFillTx/>
                <a:latin typeface="Times New Roman"/>
                <a:hlinkClick r:id="rId3" action="ppaction://hlinksldjump"/>
              </a:rPr>
              <a:t>Возврат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4"/>
          <a:stretch/>
        </p:blipFill>
        <p:spPr>
          <a:xfrm>
            <a:off x="6781680" y="4800600"/>
            <a:ext cx="2362320" cy="2057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8F67B-8A1F-4891-8229-DFC7D807A80A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57057A-685C-485A-A5FF-4DEC8D50F378}" type="datetime1">
              <a:rPr lang="en-US"/>
              <a:t>07/29/26</a:t>
            </a:fld>
          </a:p>
        </p:txBody>
      </p:sp>
    </p:spTree>
  </p:cSld>
  <p:transition spd="slow">
    <p:strips dir="lu"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500"/>
                            </p:stCondLst>
                            <p:childTnLst>
                              <p:par>
                                <p:cTn id="194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5500"/>
                            </p:stCondLst>
                            <p:childTnLst>
                              <p:par>
                                <p:cTn id="19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6000"/>
                            </p:stCondLst>
                            <p:childTnLst>
                              <p:par>
                                <p:cTn id="20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Размножение черенками.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514680" y="2757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1905120" y="1600200"/>
            <a:ext cx="3124080" cy="198432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4210200" y="2771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228600" y="1523880"/>
            <a:ext cx="1174680" cy="213372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3781440" y="29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5334120" y="1600200"/>
            <a:ext cx="3200400" cy="194796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4"/>
          <a:stretch/>
        </p:blipFill>
        <p:spPr>
          <a:xfrm>
            <a:off x="4952880" y="4724280"/>
            <a:ext cx="2514600" cy="168444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5"/>
          <a:stretch/>
        </p:blipFill>
        <p:spPr>
          <a:xfrm>
            <a:off x="1295280" y="4343400"/>
            <a:ext cx="1805040" cy="213372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5410080" y="3581280"/>
            <a:ext cx="304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древесневшие черенк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057400" y="365760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Зеленые черенк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600" y="3733920"/>
            <a:ext cx="1447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Корневые черенки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632448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0033"/>
                </a:solidFill>
                <a:uFillTx/>
                <a:latin typeface="Times New Roman"/>
                <a:hlinkClick r:id="rId6" action="ppaction://hlinksldjump"/>
              </a:rPr>
              <a:t>Возврат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376C7-2FC2-4201-AF33-8467518F702F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C3C2E3-0CB7-44DF-861E-5FDDDCB7E5A9}" type="datetime1">
              <a:rPr lang="en-US"/>
              <a:t>07/29/26</a:t>
            </a:fld>
          </a:p>
        </p:txBody>
      </p:sp>
    </p:spTree>
  </p:cSld>
  <p:transition spd="slow">
    <p:strips dir="lu"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500"/>
                            </p:stCondLst>
                            <p:childTnLst>
                              <p:par>
                                <p:cTn id="2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1500"/>
                            </p:stCondLst>
                            <p:childTnLst>
                              <p:par>
                                <p:cTn id="2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2000"/>
                            </p:stCondLst>
                            <p:childTnLst>
                              <p:par>
                                <p:cTn id="23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2500"/>
                            </p:stCondLst>
                            <p:childTnLst>
                              <p:par>
                                <p:cTn id="2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3000"/>
                            </p:stCondLst>
                            <p:childTnLst>
                              <p:par>
                                <p:cTn id="2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3500"/>
                            </p:stCondLst>
                            <p:childTnLst>
                              <p:par>
                                <p:cTn id="24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4000"/>
                            </p:stCondLst>
                            <p:childTnLst>
                              <p:par>
                                <p:cTn id="25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6091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Размножение отводками.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591000" y="2814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495680" y="2133720"/>
            <a:ext cx="2895840" cy="160956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3581280" y="2666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990720" y="2209680"/>
            <a:ext cx="2590560" cy="15242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914400" y="380988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Горизонтальные отводк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495680" y="388620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Дуговидные отводк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57200" y="4648320"/>
            <a:ext cx="8077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Отводками</a:t>
            </a:r>
            <a:r>
              <a:rPr b="0" lang="ru-RU" sz="3200" spc="-1" strike="noStrike">
                <a:solidFill>
                  <a:srgbClr val="ffff66"/>
                </a:solidFill>
                <a:latin typeface="Times New Roman"/>
              </a:rPr>
              <a:t> называют побеги, укоренившиеся на маточном растении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624852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0033"/>
                </a:solidFill>
                <a:uFillTx/>
                <a:latin typeface="Times New Roman"/>
                <a:hlinkClick r:id="rId3" action="ppaction://hlinksldjump"/>
              </a:rPr>
              <a:t>Возврат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647720" cy="206064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5"/>
          <a:stretch/>
        </p:blipFill>
        <p:spPr>
          <a:xfrm>
            <a:off x="7885080" y="5013360"/>
            <a:ext cx="1071720" cy="1844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5D8EF-A755-4A9D-A03A-475E64518BDF}" type="slidenum">
              <a:t>1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58E825-9167-43B9-8920-C2E47F92EB21}" type="datetime1">
              <a:rPr lang="en-US"/>
              <a:t>07/29/26</a:t>
            </a:fld>
          </a:p>
        </p:txBody>
      </p:sp>
    </p:spTree>
  </p:cSld>
  <p:transition spd="slow">
    <p:strips dir="lu"/>
  </p:transition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0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500"/>
                            </p:stCondLst>
                            <p:childTnLst>
                              <p:par>
                                <p:cTn id="266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1000"/>
                            </p:stCondLst>
                            <p:childTnLst>
                              <p:par>
                                <p:cTn id="273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1500"/>
                            </p:stCondLst>
                            <p:childTnLst>
                              <p:par>
                                <p:cTn id="2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2000"/>
                            </p:stCondLst>
                            <p:childTnLst>
                              <p:par>
                                <p:cTn id="28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2500"/>
                            </p:stCondLst>
                            <p:childTnLst>
                              <p:par>
                                <p:cTn id="29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92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Размножение луковицами.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62120" y="2133720"/>
            <a:ext cx="731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 представителям растений, размножающихся луковицами, можно отнести: тюльпаны, лук, чеснок и т.д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3886200" y="4044960"/>
            <a:ext cx="2971800" cy="220968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6477120" y="3276720"/>
            <a:ext cx="2133360" cy="193356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762120" y="6324480"/>
            <a:ext cx="152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0033"/>
                </a:solidFill>
                <a:uFillTx/>
                <a:latin typeface="Times New Roman"/>
                <a:hlinkClick r:id="rId3" action="ppaction://hlinksldjump"/>
              </a:rPr>
              <a:t>Возврат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4"/>
          <a:stretch/>
        </p:blipFill>
        <p:spPr>
          <a:xfrm>
            <a:off x="108000" y="3933720"/>
            <a:ext cx="3708360" cy="2470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134D8-51AE-450B-8F3D-9F298BDF6D17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8FC857-7D4D-4D0D-8857-891FE880B53C}" type="datetime1">
              <a:rPr lang="en-US"/>
              <a:t>07/29/26</a:t>
            </a:fld>
          </a:p>
        </p:txBody>
      </p:sp>
    </p:spTree>
  </p:cSld>
  <p:transition spd="slow">
    <p:strips dir="lu"/>
  </p:transition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0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500"/>
                            </p:stCondLst>
                            <p:childTnLst>
                              <p:par>
                                <p:cTn id="30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9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1000"/>
                            </p:stCondLst>
                            <p:childTnLst>
                              <p:par>
                                <p:cTn id="3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1500"/>
                            </p:stCondLst>
                            <p:childTnLst>
                              <p:par>
                                <p:cTn id="3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2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Размножение клубнями.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62120" y="617220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Возврат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62120" y="1981080"/>
            <a:ext cx="3657600" cy="243864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4648320" y="1981080"/>
            <a:ext cx="388620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лубни образуются на концах 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столонов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– подземных побегов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Таким способом размножаются картофель и земляная груш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6781680" y="4292640"/>
            <a:ext cx="2362320" cy="2565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4FCAF-32F6-4C75-8225-BEB0B5B41B84}" type="slidenum">
              <a:t>1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464032-F160-40C8-A8AE-DF1090281B44}" type="datetime1">
              <a:rPr lang="en-US"/>
              <a:t>07/29/26</a:t>
            </a:fld>
          </a:p>
        </p:txBody>
      </p:sp>
    </p:spTree>
  </p:cSld>
  <p:transition spd="slow">
    <p:strips dir="lu"/>
  </p:transition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0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500"/>
                            </p:stCondLst>
                            <p:childTnLst>
                              <p:par>
                                <p:cTn id="33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3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1000"/>
                            </p:stCondLst>
                            <p:childTnLst>
                              <p:par>
                                <p:cTn id="3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42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Размножение корневищами.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914400" y="2057400"/>
            <a:ext cx="3112920" cy="34290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4343400" y="2286000"/>
            <a:ext cx="411480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Корневище –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обег, возникающий из почек узла кущения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 данному типу размножения растений можно отнести многолетние травы, хризантемы и т.д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62120" y="6324480"/>
            <a:ext cx="152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Возврат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D113B-0992-49F4-BEA2-B4176240753F}" type="slidenum">
              <a:t>1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238639-E21B-493F-8C4C-270911EDF634}" type="datetime1">
              <a:rPr lang="en-US"/>
              <a:t>07/29/26</a:t>
            </a:fld>
          </a:p>
        </p:txBody>
      </p:sp>
    </p:spTree>
  </p:cSld>
  <p:transition spd="slow">
    <p:strips dir="lu"/>
  </p:transition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0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5000"/>
                            </p:stCondLst>
                            <p:childTnLst>
                              <p:par>
                                <p:cTn id="35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5500"/>
                            </p:stCondLst>
                            <p:childTnLst>
                              <p:par>
                                <p:cTn id="357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Размножение корневыми отпрысками.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33520" y="1981080"/>
            <a:ext cx="784836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орневые отпрыски образуются в результате прорастания придаточных почек на горизонтальных корнях маточных растений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Данный способ размножения является основным промышленным способом размножения малины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595680" y="2610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2819520" y="4114800"/>
            <a:ext cx="3429000" cy="255744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457200" y="6324480"/>
            <a:ext cx="17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Возврат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C1075-E3E8-48A9-A8C3-3302FD2F8537}" type="slidenum">
              <a:t>1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D35C64-E61F-4B40-85AB-369D078B8D4A}" type="datetime1">
              <a:rPr lang="en-US"/>
              <a:t>07/29/26</a:t>
            </a:fld>
          </a:p>
        </p:txBody>
      </p:sp>
    </p:spTree>
  </p:cSld>
  <p:transition spd="slow">
    <p:strips dir="lu"/>
  </p:transition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0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500"/>
                            </p:stCondLst>
                            <p:childTnLst>
                              <p:par>
                                <p:cTn id="37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2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1000"/>
                            </p:stCondLst>
                            <p:childTnLst>
                              <p:par>
                                <p:cTn id="37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8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7" dur="8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8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8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Список литературы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тепанов В.Н. Основы агрономии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Агромромиздат, 1988 г. Москв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Третьяков Н.Н  Основы агрономии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Академия 1998 г. Москв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50560" y="5881680"/>
            <a:ext cx="271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Нажмите клавишу </a:t>
            </a: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ES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2F7EE-CF0D-451A-9019-D37E7BE3FD19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6926D4-5ADC-4EA1-B55E-A5FE3CD02F68}" type="datetime1">
              <a:rPr lang="en-US"/>
              <a:t>07/29/26</a:t>
            </a:fld>
          </a:p>
        </p:txBody>
      </p:sp>
    </p:spTree>
  </p:cSld>
  <p:transition spd="slow">
    <p:strips dir="l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Аннотация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480" indent="-6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Данная разработка представляет собой небольшое исследование по видам и способам  размножения растений .Которая  дает полную характеристику вегетации и  созревания культур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7667640" y="4869000"/>
            <a:ext cx="1282680" cy="1800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3537C-D553-4547-99D7-3A6E48378E84}" type="slidenum">
              <a:t>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B298CE-A303-487A-8E8B-8FF5121E1B06}" type="datetime1">
              <a:rPr lang="en-US"/>
              <a:t>07/29/26</a:t>
            </a:fld>
          </a:p>
        </p:txBody>
      </p:sp>
    </p:spTree>
  </p:cSld>
  <p:transition spd="slow">
    <p:strips dir="l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Цели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50920" y="934920"/>
            <a:ext cx="8642160" cy="58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Times New Roman"/>
              </a:rPr>
              <a:t>Образовательная - углубить и систематизировать знание учащихся о размножении растений, проверить их умение правильно определять    способы размножения.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Times New Roman"/>
              </a:rPr>
              <a:t>Развивающая - продолжить формирование умений аргументировано излагать свою    точку зрения.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66"/>
                </a:solidFill>
                <a:latin typeface="Arial Unicode MS"/>
              </a:rPr>
              <a:t>Задачи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Times New Roman"/>
              </a:rPr>
              <a:t>Изучение способов размножения растений их разнообразие.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Times New Roman"/>
              </a:rPr>
              <a:t>Формирование умений различать способы размножения.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Times New Roman"/>
              </a:rPr>
              <a:t>Развитие навыков наблюдения.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7164360" y="5040360"/>
            <a:ext cx="1795320" cy="1795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2C094-424C-4338-B6BE-633DE068924D}" type="slidenum">
              <a:t>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67250A-8365-473C-A386-0C9A4C2DBEB2}" type="datetime1">
              <a:rPr lang="en-US"/>
              <a:t>07/29/26</a:t>
            </a:fld>
          </a:p>
        </p:txBody>
      </p:sp>
    </p:spTree>
  </p:cSld>
  <p:transition spd="slow">
    <p:strips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Размножение растений: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0033"/>
                </a:solidFill>
                <a:uFillTx/>
                <a:latin typeface="Times New Roman"/>
                <a:hlinkClick r:id="rId1" action="ppaction://hlinksldjump"/>
              </a:rPr>
              <a:t>1. 	Половое размножение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0033"/>
                </a:solidFill>
                <a:uFillTx/>
                <a:latin typeface="Times New Roman"/>
                <a:hlinkClick r:id="rId2" action="ppaction://hlinksldjump"/>
              </a:rPr>
              <a:t>Вегетативное размножение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писок литературы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62120" y="5257800"/>
            <a:ext cx="3657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Для дальнейшей работы выберите один из пунктов и щелкните на нем кнопкой мыш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7391520" y="495360"/>
            <a:ext cx="1533240" cy="1379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ECB49-F26D-4C0C-A23D-4E54CD299D36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278252-AAC2-4D82-985C-4F503F1FD5DB}" type="datetime1">
              <a:rPr lang="en-US"/>
              <a:t>07/29/26</a:t>
            </a:fld>
          </a:p>
        </p:txBody>
      </p:sp>
    </p:spTree>
  </p:cSld>
  <p:transition spd="slow">
    <p:strips dir="lu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838080" indent="-838080">
              <a:buClr>
                <a:srgbClr val="ffcc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Половое размножение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ри половом размножении цветковых растений происходит слияние двух клеток (мужской и женской гамет) в результате чего образуется оплодотворенная клетка. Которая называется зигот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819520" y="5445000"/>
            <a:ext cx="3429000" cy="1351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0E76D-FEB5-4434-87C6-D050D210E351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F297DA-2879-4ACF-8E18-5422AFF1AB5F}" type="datetime1">
              <a:rPr lang="en-US"/>
              <a:t>07/29/26</a:t>
            </a:fld>
          </a:p>
        </p:txBody>
      </p:sp>
    </p:spTree>
  </p:cSld>
  <p:transition spd="slow">
    <p:strips dir="lu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0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Половое размножение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33520" y="2438280"/>
            <a:ext cx="8153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Цветок – орган семенного размножения, укороченный видоизмененный побег, приспособленный для образования половых клеток, опыления, оплодотворения и формирования семян и плодо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3048120" y="4038480"/>
            <a:ext cx="2514600" cy="2498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04CF9-08DA-487A-AFDE-B8249CF14C70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FDE618-3654-4418-83FF-295ED11212D4}" type="datetime1">
              <a:rPr lang="en-US"/>
              <a:t>07/29/26</a:t>
            </a:fld>
          </a:p>
        </p:txBody>
      </p:sp>
    </p:spTree>
  </p:cSld>
  <p:transition spd="slow">
    <p:strips dir="lu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Схема строения цветка: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733920" y="21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685800" y="1828800"/>
            <a:ext cx="2908440" cy="449568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4038480" y="2057400"/>
            <a:ext cx="4191120" cy="39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1 – завязь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2 – столбик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3 – рыльце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4 – пыльцевые зерна, проросшие в пыльцевой трубке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5 – две тычинки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6 – поперечный разрез пыльника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7 – продольный разрез пыльника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8 – яйцеклетка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59AF5-C8F9-4977-9C0B-4AC7B5EE8C71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7D59F2-940C-4DAC-8527-2F179CAC947E}" type="datetime1">
              <a:rPr lang="en-US"/>
              <a:t>07/29/26</a:t>
            </a:fld>
          </a:p>
        </p:txBody>
      </p:sp>
    </p:spTree>
  </p:cSld>
  <p:transition spd="slow">
    <p:strips dir="lu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500"/>
                            </p:stCondLst>
                            <p:childTnLst>
                              <p:par>
                                <p:cTn id="7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500"/>
                            </p:stCondLst>
                            <p:childTnLst>
                              <p:par>
                                <p:cTn id="8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Опыление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2514240"/>
            <a:ext cx="6019920" cy="35053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Опыление - перенос пыльцы из пыльников на рыльце пестика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о виду опыления растения бывают: перекрестноопыляющиеся и самоопыляющиеся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6016680" y="1066680"/>
            <a:ext cx="3011400" cy="4496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8B4D7-AEEB-43E2-B335-B3083AAAB1E0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CA4576-D2E0-4B99-9D58-DEB9AE3C0A30}" type="datetime1">
              <a:rPr lang="en-US"/>
              <a:t>07/29/26</a:t>
            </a:fld>
          </a:p>
        </p:txBody>
      </p:sp>
    </p:spTree>
  </p:cSld>
  <p:transition spd="slow">
    <p:strips dir="lu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500"/>
                            </p:stCondLst>
                            <p:childTnLst>
                              <p:par>
                                <p:cTn id="95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500"/>
                            </p:stCondLst>
                            <p:childTnLst>
                              <p:par>
                                <p:cTn id="105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66"/>
                </a:solidFill>
                <a:latin typeface="Arial"/>
              </a:rPr>
              <a:t>Плод –это вместилище семян.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Плоды состоят из околоплодника,который образуется из стенок завязи и семян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ОКОЛОПЛОДНИК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9480" y="2438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62120" y="3200400"/>
            <a:ext cx="1218960" cy="914400"/>
          </a:xfrm>
          <a:custGeom>
            <a:avLst/>
            <a:gdLst>
              <a:gd name="textAreaLeft" fmla="*/ 163080 w 1218960"/>
              <a:gd name="textAreaRight" fmla="*/ 1055880 w 1218960"/>
              <a:gd name="textAreaTop" fmla="*/ 159840 h 914400"/>
              <a:gd name="textAreaBottom" fmla="*/ 66312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010280" y="3200400"/>
            <a:ext cx="1295640" cy="914400"/>
          </a:xfrm>
          <a:custGeom>
            <a:avLst/>
            <a:gdLst>
              <a:gd name="textAreaLeft" fmla="*/ 173520 w 1295640"/>
              <a:gd name="textAreaRight" fmla="*/ 1122120 w 1295640"/>
              <a:gd name="textAreaTop" fmla="*/ 159840 h 914400"/>
              <a:gd name="textAreaBottom" fmla="*/ 66312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 rot="10800000">
            <a:off x="2360160" y="388584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ОЧНЫЙ                                         СУХОЙ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2120" y="4419720"/>
            <a:ext cx="28191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ЯГОДА (ВИНОГРАД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КОСТЯНКА (ВИШНЯ,СЛИВА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638680" y="4572000"/>
            <a:ext cx="3124440" cy="25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БОБ (ГОРОХ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СТРУЧОК (КАПУСТА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КОРОБОЧКА (МАК, ЛЕН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ЗЕРНОВКА (ПШЕНИЦА, ЯЧМЕНЬ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СЕМЯНКА (ПОДСОЛНЕЧНИК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СОПЛОДИЕ (СВЕКЛА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D4353-B5D7-428E-95F6-4F390F94B18A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975C3C-1ECB-4A5A-AEBB-684B5FDE25A5}" type="datetime1">
              <a:rPr lang="en-US"/>
              <a:t>07/29/26</a:t>
            </a:fld>
          </a:p>
        </p:txBody>
      </p:sp>
    </p:spTree>
  </p:cSld>
  <p:transition spd="slow">
    <p:strips dir="lu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Василий</cp:lastModifiedBy>
  <dcterms:modified xsi:type="dcterms:W3CDTF">2012-01-20T15:57:27Z</dcterms:modified>
  <cp:revision>19</cp:revision>
  <dc:subject/>
  <dc:title>Презентация PowerPoint</dc:title>
</cp:coreProperties>
</file>