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490-4209-4289-8235-52B2649D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D95-00F8-45F1-A1EA-52334487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8ED-94F2-4520-9E88-930344C4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7CF-20F6-45DA-9B86-D07250B7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3785-9209-4FDE-B49A-66E4992C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5F90-5B3A-4652-91F1-74B1D883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A4C9-64F2-4EFB-85E0-1CEEA6B0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CB5E-E4EE-4239-8D99-72C627B1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1341-045A-4E42-9647-0F5BEBB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E8BB-085A-4256-A674-F4A06D77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80A5-893E-4981-A337-1441F560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211-62B9-4EF6-864D-F8C93882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8B5B-ED43-460C-9BD2-79150EEC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8747-6CCD-471E-8C07-A01A63D3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48A9-1E82-4575-A20A-2462B59A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CADC-ED95-48D7-9905-CF5FB1FB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F69C-50F1-4F5A-899D-2058C575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001-7CF6-4155-8EBC-FEC03EF5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96B-417C-4B21-9B7E-7608F8E3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5F0-AFD0-43A0-BE42-523853B6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E0E-F2FF-435F-93EA-799FC2FD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A3C-8D6B-46B2-B5BF-4D684B2E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8CB-84D0-4257-98D7-9CADC128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291-007C-4899-B79F-66FBCF3A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7B59-2FF1-488A-B8B4-A90029213F7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2FA0-29A7-401C-AEC6-ED490881DF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0882-68F8-4A34-A799-E66E02C2538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642B-8D2C-424E-B721-D133A71E7A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4A5D-ECB9-41C1-BEAF-0CA26CBCD65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E897AF6-EE10-47DE-8B4B-DE771A2BF04C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CE9-BE35-4B73-A6FE-1E5A367713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BF291-74F4-456F-BDC7-F046D5EEE117}" type="datetime1">
              <a:rPr lang="en-US"/>
              <a:t>07/30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45E-F7F5-464C-A3A9-99CE131A802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322C6-104C-4D23-B9F4-E748ED508023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339-035E-44CF-A876-B4126BD1C14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27E96-1AD0-420D-9BD3-61BF30E46E38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C60-0F51-46DB-9261-F08799741D4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A0EB1-25A8-40C2-8E4E-8611AC47C83A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10E-38E1-4090-A519-25B5D4C29E9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42E2D-3E1E-45B8-AEE7-1C99903FF442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E9C-AAA4-48C5-9E4C-8B4AFE40876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BD853-6AFB-430E-B536-F4A19F8F117A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605-E05D-4DAB-B181-DE1BA37D0D8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E8A9F-AAC7-432A-ACC1-F7CEEFE93421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DFE-7082-429F-85BD-AFFB9503895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48129-DE65-4FCD-8284-5F6793F94F73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F11-94DA-4C93-9EE3-5607BE215E3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0D7F8-8FD0-44BF-A3FA-F937968882C3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D34-C160-4EDA-A164-8426BD73098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B9410-7B4B-452E-90DC-568173DD82F2}" type="datetime1">
              <a:rPr lang="en-US"/>
              <a:t>07/30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E46-A516-4287-A8FA-433B048E698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2556E-426A-410F-8C1E-5BAA4E81722B}" type="datetime1">
              <a:rPr lang="en-US"/>
              <a:t>07/30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917-DA58-49C9-B0F7-ACB75AB46C8F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032DD-E8A7-4613-B1EB-4A3A02A00845}" type="datetime1">
              <a:rPr lang="en-US"/>
              <a:t>07/30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E93-E192-4DEE-ACB0-C253BCC900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172EF-1D2F-4B8D-BDAE-752C622035C3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9A8-01DD-471C-B905-FA5385A543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29C2B-4C94-414B-995B-7CD1D848D954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A07-9105-4E26-BA9C-0E97F9B1800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49C86-3240-4418-A0C8-B5BD4DBAEC4A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AB5-D3E6-410C-9957-C72812B0B6D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3DC55-5A02-42EC-8C01-B7511A03479D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D26-6367-46A2-B2AE-547238DF5B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2CED7-83E7-4100-8D1C-335406EF5509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A14-AF46-45EC-BF8A-18B13C8A4F3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622EF-C3FA-4D9F-B3D6-A692BBE9389D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