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E38-CE79-48C8-B9D0-A4AFB2E5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27F-232E-47B5-B58E-1E3CB37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44E-FB10-4FCA-B2CB-7F42B571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968-EEA9-442B-B3DA-2AAC5459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184-5002-46C9-8908-92AD6A05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B86A-EAA7-481B-8190-6DD5F2E4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8B94-9370-4672-8BB5-B5E26DA9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708-B130-4D0F-86B1-0A8225F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7FB-A59F-4447-B467-E931A7F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181-B9C8-4E53-963B-C39D163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E5D7-BEEB-4B1B-9E86-38352CD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A43-DE4A-45D7-9300-2C8BBD1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C017-277F-4972-9914-A847E3D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A7B-8667-4E37-B453-2A55E13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DFE-B3D4-4749-9D13-81BB7A3D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789-B3A4-4065-B44D-AD1DCEB6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716C-392A-41FB-B289-E6E364DE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4ED-7E3E-4875-B431-BD1ADEA7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0F1-DA62-4786-9390-B94D0209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027-98EB-4925-B3D0-DB839DE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739-9CE2-40D6-A677-854BC14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D53-0A2A-4F95-A820-79E5ABA4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A07-D12E-4B1E-BB40-2FF3957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1ED-85C8-48AA-AA20-013A81A3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523-C081-4378-BC77-355C6FAEA2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197-C544-47F0-8640-25C99D33B3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9CD-7F48-48D7-A586-70A37A388F3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003-597D-45CC-BDF9-5BB073F054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AA9-4407-4B62-A07F-3A4C08C514A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0FCE09-0503-4E11-B9AC-BFC78690B380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50D-22BF-4A08-8110-355DAF19B5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866F2-8486-40E6-9AFE-BD9C396FB2EF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6BE-55B9-4DC3-8C50-E88505A74E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E7725-6D0A-408C-B192-FDFD635F04F8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5EE-4126-443E-B999-B815E0E33A6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27B91-B352-405D-A5CB-7D0C2099C057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367-E8E5-46F6-B3B3-16D83631947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DC115-553D-42EC-82B8-584280E366C1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F6C-ACED-44CB-812E-2318F75A57F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A32D8-9E1A-4EC2-80C9-9BF61BAAEEC4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069-FBA2-4720-AD45-4442BC84ECF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1962C-7FCD-4B51-9CC7-56A562D8DA13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742-DCF3-4C29-8FBE-E0087B3E3CD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29B9E-D82A-4439-B086-6D6C3A1B0EBD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E22-F213-4DD3-BE8C-BE10FC6A66D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41F2D-BEAE-400D-96BE-5A14AEFBB38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AAB-6489-4096-AAED-61B5C6508FA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845F7-D001-414E-97FD-DD2B790B2FDD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C77-9B3A-4851-ADF5-58A40C13C1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15EFE-1A26-435F-BD73-9832BE2B6948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479-B12B-4E3E-BE65-769E18511E5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367C6-2180-4BA5-9192-3312F879521D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4B0-A977-414A-BA85-4866BF7267F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8F72F-6AC6-426E-9D4A-C7883F603521}" type="datetime1">
              <a:rPr lang="en-US"/>
              <a:t>07/31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D9A-7113-43C1-979B-50AF32994D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51CE-827E-4F31-BC92-2FC467E324CD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740-E9F6-41F4-BC39-42E0300FD4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BDE8D-505B-4FE6-ADCF-4DC3744E46CC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811-6F10-4038-A025-D975ACAE28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2E98D-B749-4379-85F6-019E77749DD6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995-190F-4CAA-B466-02AFC6F6E45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F3DE-9495-42BA-9D78-F5E49F01DAC5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9E9-20A1-4AC1-A8F7-19E353887D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9FD71-F03B-48A1-9F1E-290A75C65C11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2C7-6092-47F8-A888-71150081B2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F4661-C717-40DB-9864-25CE0DD82944}" type="datetime1">
              <a:rPr lang="en-US"/>
              <a:t>07/31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