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6D6-5D85-47A5-9901-6B5BCF34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9FB-A7FF-416A-A0F6-D1C6D688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815-2912-4D38-8CDB-5D034B8D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2C4-839B-43ED-B43F-26A0D232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429-5328-43E3-8918-44D67AE5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E6CD-5F64-4CAF-B711-0FAD0AA4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4E29-FCFC-43BD-806F-4B3CA49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73C6-795B-4EAB-ACEA-9D20517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75E5-9DC5-4C48-903E-806965D4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2227-F6CF-4809-BEF4-4035385B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8874-8565-4D75-B255-BFDC9B3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235-1A0E-44DE-A083-FF8FEB3B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B385-E8F4-4BC9-A8B0-F7213276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9ADE-87FD-4711-915F-9F6FF3D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DC7A-94F9-45FF-9547-04CA6FDC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FFA0-A2E4-4876-8BD2-37EA0BA7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B89-BB3E-4952-BFA9-E5F87A8B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ED7-3524-4377-8AFE-B5BB5F47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C22-D7BD-4960-8D64-1EB890E8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5D8-5BCF-40E5-B4D1-5165127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EAD-AB08-4339-805D-823BADE4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15C-886D-4F85-8B18-F102D65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8C6-8F62-4969-BE05-48A5B2B5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7DA-E697-4CE4-8B02-B331890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E66D-17AC-4210-A82B-10D647CFEE8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DBC7-35B5-4799-903D-FC89B88FF3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D9E-8381-4FA0-BDCA-E381619140A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29A7-9D9D-4DEA-90AA-F715C4B0C2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9FA5-607E-4ADD-A088-3E5B9DF94B4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E60BBE6-1109-4CA8-BBF5-8BC410FD2CCF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961-7923-440A-9F26-AB01B6FA5E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8CCAA-2565-447E-822C-0538BB490DD8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9EB-0906-4D71-B9AF-04F3BAC756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6E5F6-D42F-4EE4-B06B-AEF6D324450D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22F-F4CA-4883-8A62-3482164DDFA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9EE43-6D6A-42CC-BFCA-943CB86FCEC3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4FB-17A2-4ADA-A79D-DF4AE8CB620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A137E-900C-4C85-8AC4-80F16BAFC920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543-F7CC-48D7-8F6A-733BE2A6E78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9E5F3-C788-4B55-8DDD-0B54291C3421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9F9-4CC1-4FFE-A895-D3F2DCF6DF9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75E8E-EB0E-4BE1-BAF4-FAE3C6DB2A77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2C0-B6C7-4C7A-9C9D-20356A9F63B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B9EFE-9CBC-42FA-84E3-E0E6C3F567D2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801-325B-40A9-B7AA-EC81929324C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24C01-C272-4D9B-9B97-71CF2EC5F8F6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F20-90FC-4FAF-8B50-5569F0BBABA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9FE6F-1934-4DFA-9D39-E8C8049AC03A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5C2-EA58-40AA-A23A-47211AF45E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6DDFE-8BE6-431B-8A41-DC1E29A1CD96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2BC-3EB9-4E12-BB71-92F5222B51A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2F60A-C516-4A81-B2E8-9E7A3BDB40C2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B2B-1A3A-4DFB-B49E-3B6CE4C533C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05094-C8B6-4BBA-AC67-B32412B41AEF}" type="datetime1">
              <a:rPr lang="en-US"/>
              <a:t>07/30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43E-841B-4D1B-8355-721CE2335A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24267-71E7-4E33-B90C-6B0D781A5270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17E-E9DF-47C8-BA59-87463C0C95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78104-3617-4C4A-9DA3-B931612B7BDD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A5E-63F4-4F49-8DCB-E28B77EDEE5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AE68C-4237-47C0-B1C6-CC455AEA9117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24D-A4CA-43AA-B88E-E86EBBF877D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27B48-8D45-4461-B262-8AF0A6F067C1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6C5-8C9F-407E-872D-104E67A27D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3FFB8-C62E-4CC5-8624-960DF70B8AFE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1DD-A3EF-43F1-9E5A-701E27BC1B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5D48E-A976-48C7-A9D9-7C9DD13D03CC}" type="datetime1">
              <a:rPr lang="en-US"/>
              <a:t>07/30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