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png" ContentType="image/png"/>
  <Override PartName="/ppt/media/image13.jpeg" ContentType="image/jpeg"/>
  <Override PartName="/ppt/media/image12.wmf" ContentType="image/x-wmf"/>
  <Override PartName="/ppt/media/image1.gif" ContentType="image/gif"/>
  <Override PartName="/ppt/media/image4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4.wmf" ContentType="image/x-wmf"/>
  <Override PartName="/ppt/media/image23.jpeg" ContentType="image/jpeg"/>
  <Override PartName="/ppt/media/image25.jpeg" ContentType="image/jpeg"/>
  <Override PartName="/ppt/media/image22.gif" ContentType="image/gif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15.png" ContentType="image/png"/>
  <Override PartName="/ppt/media/image5.wmf" ContentType="image/x-wmf"/>
  <Override PartName="/ppt/media/image27.jpeg" ContentType="image/jpeg"/>
  <Override PartName="/ppt/media/image2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1BB-7C6E-47C7-A290-3340B37A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BF7-2E04-4FCD-BA53-5CC33383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D01-57AF-4A16-8B50-07A33D46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E6C-70BA-4462-93E8-408674D8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9355-E40F-49F3-A1B9-9F075A95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A854-A4DA-4CA1-8AB0-B1531949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1BCA-93B1-4299-A836-707B9213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92C8-E066-4163-A7DA-996DE580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D6E0-1BD9-410C-99A7-CDAB64D7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E12D-700F-472E-82E2-F35F409E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E193-2128-48A9-A058-9917F849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C70-2653-4842-B8D3-DABE02D2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F71D-8C99-4AA3-91F8-BD1C902C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E6AA-71B9-46BE-AFAB-C4FC6DEC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2383-866A-46A0-93C1-1C4314ED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681B-B4DF-4ED1-A1E7-1581F00C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42BE-3E3C-48FB-9474-EEF3D79D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B00-855D-4B88-987D-ADD0DA17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8A5-4E2D-473F-B6AD-536A49E9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3C4-11AB-43BD-B12E-DB049980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E8C-EBDC-40A5-8E3C-5ACAA851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E9B-7705-4979-9109-29839A8D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87B-E784-4F5B-9738-DA3C723D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226C-673D-4B1D-BE8E-CDF5F10B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7DD5-00A3-463C-BEF5-770DC1A1D76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1AA0-F264-416C-BBE4-DFE5F1F276C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1915-3236-4182-98C1-52AA1849343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D9EC-45FF-408C-B2E2-6305CAAB903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" Target="slide1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" Target="slide11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а №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924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Размножение растений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4869000"/>
            <a:ext cx="421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кова Н.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подаватель спец.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БОУ СПО НСХ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EFAE-E3D8-4DF7-AC3E-56D7819D0F3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3238BD1-97C1-4869-A1C5-13DF8C428FB0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ипы плодов 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емянка; 2-листовка; 3-боб; 4-стручок; 5-стручочек; 6,8,9-коробочка; 7-двусемянка; 10-костян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956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56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715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33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8280" y="4710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860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07040" y="44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07040" y="592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49440" y="34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772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6424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8320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60680" y="53960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08640" y="55101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47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400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609624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14B-A91A-44AD-A5B6-3B02D3CA054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08570-1FAB-405A-8165-E453B246E704}" type="datetime1">
              <a:rPr lang="en-US"/>
              <a:t>07/28/26</a:t>
            </a:fld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2. Вегетативное размножение -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размножение растений отдельными его частями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Усами (клубни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Черенками (виноград, смород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тводками (виногр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Луковицами (чеснок, лук, тюльпа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Корневыми отпрысками (малина, камыш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Корневыми клубнями (георг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Клубнями (картофель, земляная груш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Корневищами (многолетние тра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732720" y="5259240"/>
            <a:ext cx="2411280" cy="159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400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324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84B-C665-45A2-ACA4-B5144E3FB4C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CF7EE-C063-4412-812E-7E19DE166499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ус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124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из представителей данного типа размножения является клуб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38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62720" y="1503360"/>
            <a:ext cx="297180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419720" cy="5029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66C-3615-4972-8730-3D8EB815DD8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1D563-F07B-4E84-BC08-8C4AA784D5CA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черен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4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124080" cy="198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102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1174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814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3200400" cy="19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2514600" cy="16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295280" y="4343400"/>
            <a:ext cx="180504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41008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ревесневши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лены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невые черен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3CB-BAAE-4BBA-A0EF-1E34D481141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9B5DA-6FDE-4023-AA9C-83117AD03816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отвод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910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2895840" cy="1609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812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590560" cy="1524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изонталь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говид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одка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называют побеги, укоренившиеся на маточном раст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248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4772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85080" y="5013360"/>
            <a:ext cx="107172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7FE-2BC7-4BF3-BBBC-D4EFA6870C3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3F0D0-3E06-489A-BC32-37FC7B76F7CF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луковиц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133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редставителям растений, размножающихся луковицами, можно отнести: тюльпаны, лук, чеснок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404496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19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08000" y="3933720"/>
            <a:ext cx="370836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5BA-0BD1-4D58-82CE-F2CCCC7A166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677D9-509E-41F3-9455-8B38E221EF4F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лубня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6172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48320" y="198108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убни образуются на конца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олон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дземных побег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способом размножаются картофель и земляная груш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4292640"/>
            <a:ext cx="2362320" cy="25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6BD5-D390-499A-8782-D1208F7864F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DAE13-11F6-4BE4-A574-8F740A4CB0D1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ищ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112920" cy="342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2286000"/>
            <a:ext cx="4114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невищ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бег, возникающий из почек узла ку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нному типу размножения растений можно отнести многолетние травы, хризантем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DC1-F877-469B-8BF1-FDA9872EDD2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249DF-8E08-4DB9-963F-F277D31A8385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ыми отпрыс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81080"/>
            <a:ext cx="78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ые отпрыски образуются в результате прорастания придаточных почек на горизонтальных корнях маточных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й способ размножения является основным промышленным способом размножения мал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956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6324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A62-D1A4-4017-A7ED-EA01FF2988A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665BA-D280-46A8-B283-A381EA7C4C76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епанов В.Н.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громромиздат, 198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тьяков Н.Н 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я 199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560" y="588168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жмите клавишу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06A-24A4-4371-AEDC-5E6A34FF158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466BA7-2014-4016-8822-49E3F6324D57}" type="datetime1">
              <a:rPr lang="en-US"/>
              <a:t>07/28/26</a:t>
            </a:fld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ая разработка представляет собой небольшое исследование по видам и способам  размножения растений .Которая  дает полную характеристику вегетации и  созревания культ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1282680" cy="180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BAC-FA88-4595-BF54-E34362023757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F5758-8139-4DE9-848C-9A0F088EFCB7}" type="datetime1">
              <a:rPr lang="en-US"/>
              <a:t>07/28/26</a:t>
            </a:fld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934920"/>
            <a:ext cx="86421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бразовательная - углубить и систематизировать знание учащихся о размножении растений, проверить их умение правильно определять   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вающая - продолжить формирование умений аргументировано излагать свою    точку зр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Unicode MS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Изучение способов размножения растений их разнообраз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Формирование умений различать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тие навыков наблюд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5040360"/>
            <a:ext cx="1795320" cy="179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697-ECA1-436B-B385-4A241875DDA5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02095-977B-484F-B607-00EA31D1B4C2}" type="datetime1">
              <a:rPr lang="en-US"/>
              <a:t>07/28/26</a:t>
            </a:fld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растений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1. 	Полов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Вегетативн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литерату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5780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я дальнейшей работы выберите один из пунктов и щелкните на нем кнопкой мыш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91520" y="495360"/>
            <a:ext cx="153324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056-19F1-4A0F-BA73-36941EE73CB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B18CA-8630-4DCB-96D1-7E992107FD8D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ловом размножении цветковых растений происходит слияние двух клеток (мужской и женской гамет) в результате чего образуется оплодотворенная клетка. Которая называется зиг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5445000"/>
            <a:ext cx="3429000" cy="13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FD1-A29C-41B3-89D1-CA21452321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76130-11ED-4B35-89B0-75188B46DD9A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4382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веток – орган семенного размножения, укороченный видоизмененный побег, приспособленный для образования половых клеток, опыления, оплодотворения и формирования семян и пл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2514600" cy="24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431-C7AB-4FD8-89A7-2276B7F31B0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A3F73-E7B8-4DB9-B5A3-E48E845E2805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хема строения цветк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90844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2057400"/>
            <a:ext cx="41911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завяз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– столби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– рыльц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– пыльцевые зерна, проросшие в пыльцевой трубк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– две тычи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– попереч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 – продоль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– яйцеклет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528-66D2-4C07-8562-4DE62B491F2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5122B-E444-4C53-8E9F-6D762B542CA0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пы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6019920" cy="350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ыление - перенос пыльцы из пыльников на рыльце пести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виду опыления растения бывают: перекрестноопыляющиеся и самоопыляющие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6680" y="1066680"/>
            <a:ext cx="30114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1C3-2763-486D-9A8D-5FDD4FAF51B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5F8A1-A7C9-4B38-8CF5-F3FBF663CE90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од –это вместилище семян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оды состоят из околоплодника,который образуется из стенок завязи и семя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КОЛОПЛОД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200400"/>
            <a:ext cx="1218960" cy="9144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200400"/>
            <a:ext cx="1295640" cy="91440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10800000">
            <a:off x="2360160" y="38858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ЧНЫЙ                                         СУХ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197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ГОДА (ВИНОГРАД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СТЯНКА (ВИШНЯ,СЛИВ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572000"/>
            <a:ext cx="31244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Б (ГОРОХ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РУЧОК (КАПУСТ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ОБОЧКА (МАК, ЛЕ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ЕРНОВКА (ПШЕНИЦА, ЯЧМЕН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МЯНКА (ПОДСОЛНЕЧНИК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ПЛОДИЕ (СВЕКЛ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3D6-1FCD-44E6-B7C7-69B26D7740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F7AFA-C098-4952-B4C6-71287BFECB1D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01-20T15:57:27Z</dcterms:modified>
  <cp:revision>19</cp:revision>
  <dc:subject/>
  <dc:title>Презентация PowerPoint</dc:title>
</cp:coreProperties>
</file>