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9.png" ContentType="image/png"/>
  <Override PartName="/ppt/media/image13.jpeg" ContentType="image/jpeg"/>
  <Override PartName="/ppt/media/image12.wmf" ContentType="image/x-wmf"/>
  <Override PartName="/ppt/media/image1.gif" ContentType="image/gif"/>
  <Override PartName="/ppt/media/image4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4.wmf" ContentType="image/x-wmf"/>
  <Override PartName="/ppt/media/image23.jpeg" ContentType="image/jpeg"/>
  <Override PartName="/ppt/media/image25.jpeg" ContentType="image/jpeg"/>
  <Override PartName="/ppt/media/image22.gif" ContentType="image/gif"/>
  <Override PartName="/ppt/media/image17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6.jpeg" ContentType="image/jpeg"/>
  <Override PartName="/ppt/media/image18.wmf" ContentType="image/x-wmf"/>
  <Override PartName="/ppt/media/image15.png" ContentType="image/png"/>
  <Override PartName="/ppt/media/image5.wmf" ContentType="image/x-wmf"/>
  <Override PartName="/ppt/media/image27.jpeg" ContentType="image/jpeg"/>
  <Override PartName="/ppt/media/image2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8239-10E2-4205-8B50-DDF96287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C10-F59D-4FC3-A99C-4F88C65C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670-137D-4D5F-884A-A5283F34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929-86E4-4BE7-B56F-4721AA6B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BF42A-5242-474C-B2A2-8D1F7B83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5BCD-BAF6-4B22-ADFE-0643CF31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F137-5D1B-4082-8CFC-44EBC1FF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3FDF-1C5B-45F4-9EE2-4DEB02ED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C9B5-48EF-4EC2-9138-84207A2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3951-71C1-4C53-81B7-FE0D5B33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C3C5-1275-46CC-803C-7E0DAF0A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657-AA7D-4649-B3BD-7B0360FF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B629-600E-42DF-B9A4-C8AF4641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8D4DC-EC50-4902-8B91-F104758E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4874-D5B0-4416-9602-A2CE67F2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5686-8AC7-40F5-8858-C8298717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225D-9C4C-4A80-B090-744F864B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518E-0914-4458-B25A-4FE3DBE6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FC1-3D56-4DE1-8E79-7BA47E91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6E4-8299-4829-AC88-330C447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D8D4-76E3-4A7F-BACA-D0C57258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BE7B-C5BC-4AF3-91E2-1614CDBC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1051-8BB1-46B3-AA41-CFCE62D3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158A-6208-463A-8CAC-E94BF51B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81ED-8FE1-4E08-829E-380260AA8DA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9CDE-6DC7-475C-B7F7-BDAC05C945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675-5B11-47D3-9F2E-EA77E6AC99F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DAFD-6725-4E75-96B2-42FD366DC03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8.xml"/><Relationship Id="rId6" Type="http://schemas.openxmlformats.org/officeDocument/2006/relationships/slide" Target="slide16.xml"/><Relationship Id="rId7" Type="http://schemas.openxmlformats.org/officeDocument/2006/relationships/slide" Target="slide17.xm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" Target="slide11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wmf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" Target="slide11.xm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ема №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1760" y="2819520"/>
            <a:ext cx="7924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«Размножение растений»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4869000"/>
            <a:ext cx="421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лесникова Н.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подаватель спец.дисципл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БОУ СПО НСХ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A8E4-E22F-402D-BA54-A02DA2262F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E87B9E6-D1B4-40BC-BEA9-F0783A112737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960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Типы плодов 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Семянка; 2-листовка; 3-боб; 4-стручок; 5-стручочек; 6,8,9-коробочка; 7-двусемянка; 10-костян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956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567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57150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33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8280" y="47102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6860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07040" y="44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07040" y="5929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49440" y="3490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772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64240" y="5548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83200" y="3871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960680" y="53960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08640" y="55101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44720" y="5776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6400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6096240" cy="30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20E-0491-4D32-8AA9-F678BC1692F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97F6C-6AB7-4AB3-9209-379A11E57E28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2. Вегетативное размножение -</a:t>
            </a:r>
            <a:br>
              <a:rPr sz="3200"/>
            </a:b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размножение растений отдельными его частями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Усами (клубник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Черенками (виноград, смород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Отводками (виногра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4" action="ppaction://hlinksldjump"/>
              </a:rPr>
              <a:t>Луковицами (чеснок, лук, тюльпан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5" action="ppaction://hlinksldjump"/>
              </a:rPr>
              <a:t>Корневыми отпрысками (малина, камыш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33"/>
                </a:solidFill>
                <a:latin typeface="Times New Roman"/>
              </a:rPr>
              <a:t>Корневыми клубнями (георги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Клубнями (картофель, земляная груш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33"/>
                </a:solidFill>
                <a:uFillTx/>
                <a:latin typeface="Times New Roman"/>
                <a:hlinkClick r:id="rId7" action="ppaction://hlinksldjump"/>
              </a:rPr>
              <a:t>Корневищами (многолетние травы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732720" y="5259240"/>
            <a:ext cx="2411280" cy="15987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6400800"/>
            <a:ext cx="160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6324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4FC4-0F85-496D-8E31-07D88A3A672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11E35-8940-427B-893F-6BEE517476BC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ус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124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им из представителей данного типа размножения является клубни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3384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562720" y="1503360"/>
            <a:ext cx="2971800" cy="16207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419720" cy="5029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8580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781680" y="4800600"/>
            <a:ext cx="236232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B5A7-7EB2-4890-BC1B-54DCF1D78B1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D8E40-B294-4A2C-AA82-587398C841D2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5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черен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46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3124080" cy="1984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210200" y="27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1174680" cy="213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78144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334120" y="1600200"/>
            <a:ext cx="320040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4952880" y="4724280"/>
            <a:ext cx="2514600" cy="1684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295280" y="4343400"/>
            <a:ext cx="1805040" cy="2133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10080" y="35812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ревесневши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еленые черен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733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рневые черен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6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314-3474-4CBF-9F0C-47CEE62B4D9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55953-AEBC-4C83-B157-BFEE013B7750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отвод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9100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495680" y="2133720"/>
            <a:ext cx="2895840" cy="1609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5812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90720" y="2209680"/>
            <a:ext cx="2590560" cy="1524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914400" y="38098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изонталь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8862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уговидные отво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одками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называют побеги, укоренившиеся на маточном растен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62485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7885080" y="5013360"/>
            <a:ext cx="1071720" cy="184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534-9A70-4362-A241-EF2A2CA5F2D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61A73-EF8C-449D-BF4C-3B3729EB2DEB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луковиц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133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редставителям растений, размножающихся луковицами, можно отнести: тюльпаны, лук, чеснок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886200" y="404496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477120" y="327672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0033"/>
                </a:solidFill>
                <a:uFillTx/>
                <a:latin typeface="Times New Roman"/>
                <a:hlinkClick r:id="rId3" action="ppaction://hlinksldjump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08000" y="3933720"/>
            <a:ext cx="3708360" cy="24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82C-BD4C-4191-A93B-E44C103E650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6DB742-FEDE-4E01-8996-F32E7DE6E0D4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лубня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6172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243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48320" y="1981080"/>
            <a:ext cx="38862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лубни образуются на концах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олон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подземных побег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им способом размножаются картофель и земляная груш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781680" y="429264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D4DB-204F-4562-9BA7-F0DF2F4C6FAA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C6592-3A73-4497-A0CE-783B12056885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ищ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3112920" cy="3429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343400" y="2286000"/>
            <a:ext cx="4114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орневище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бег, возникающий из почек узла кущ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данному типу размножения растений можно отнести многолетние травы, хризантемы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6324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C93-2922-49A9-A08A-5AB368F810C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049E7-7E5B-4912-AAE8-57AE6DEB6F59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500"/>
                            </p:stCondLst>
                            <p:childTnLst>
                              <p:par>
                                <p:cTn id="35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корневыми отпрысками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9810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рневые отпрыски образуются в результате прорастания придаточных почек на горизонтальных корнях маточных расте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анный способ размножения является основным промышленным способом размножения мал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9568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57200" y="63244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озврат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99A-1E1C-4927-AC69-15E7761793AF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83D53-6019-4C3E-BBF5-33D73B6F75EF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епанов В.Н.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громромиздат, 198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тьяков Н.Н  Основы агрономии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я 1998 г. Моск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0560" y="5881680"/>
            <a:ext cx="271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жмите клавишу </a:t>
            </a: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ES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032F-7C13-4003-95F8-95BA69B6477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90A59-B350-4966-A7B1-23E779FA0394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нота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анная разработка представляет собой небольшое исследование по видам и способам  размножения растений .Которая  дает полную характеристику вегетации и  созревания культур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67640" y="4869000"/>
            <a:ext cx="1282680" cy="180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CD5-4CFC-4CD0-B78A-D60A428D04A5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8B373-DC4F-4006-B3ED-B14903EBC0CD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Цел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934920"/>
            <a:ext cx="864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Образовательная - углубить и систематизировать знание учащихся о размножении растений, проверить их умение правильно определять   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вающая - продолжить формирование умений аргументировано излагать свою    точку зр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Unicode MS"/>
              </a:rPr>
              <a:t>Задач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Изучение способов размножения растений их разнообразие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Формирование умений различать способы размнож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Развитие навыков наблюдения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64360" y="5040360"/>
            <a:ext cx="1795320" cy="179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C10E-F3FD-422D-958B-E8386AB12D2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3B8F4-49D8-4182-9AD9-ED5CB46F2CEF}" type="datetime1">
              <a:rPr lang="en-US"/>
              <a:t>07/28/26</a:t>
            </a:fld>
          </a:p>
        </p:txBody>
      </p:sp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Размножение растений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1" action="ppaction://hlinksldjump"/>
              </a:rPr>
              <a:t>1. 	Полов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33"/>
                </a:solidFill>
                <a:uFillTx/>
                <a:latin typeface="Times New Roman"/>
                <a:hlinkClick r:id="rId2" action="ppaction://hlinksldjump"/>
              </a:rPr>
              <a:t>Вегетативное размножен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исок литератур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57800"/>
            <a:ext cx="365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ля дальнейшей работы выберите один из пунктов и щелкните на нем кнопкой мыш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7391520" y="495360"/>
            <a:ext cx="1533240" cy="13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465-7CA0-4CF0-91C0-F29AC2128A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F777B-5C2D-4526-84CE-5B47D48BEEAD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-838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 половом размножении цветковых растений происходит слияние двух клеток (мужской и женской гамет) в результате чего образуется оплодотворенная клетка. Которая называется зигот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819520" y="5445000"/>
            <a:ext cx="3429000" cy="13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105-85C2-4B29-8845-D43248E727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1EE5E-78F7-4E0E-9C7E-BD7C07CCF1A2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оловое размнож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43828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веток – орган семенного размножения, укороченный видоизмененный побег, приспособленный для образования половых клеток, опыления, оплодотворения и формирования семян и пло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4038480"/>
            <a:ext cx="2514600" cy="24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4184-A6A4-40FF-B16A-49A500B40B0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95FB0-8BD9-4289-9B08-996B21B00699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Схема строения цветк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2908440" cy="4495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38480" y="2057400"/>
            <a:ext cx="41911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– завязь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– столби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 – рыльц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 – пыльцевые зерна, проросшие в пыльцевой трубк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 – две тычинк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 – попереч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 – продольный разрез пыльни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 – яйцеклетк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F9C3-CF81-4E9D-AF51-64C17F02B64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C41C2C-1C83-4EF9-BB76-05126FDDA3B2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Опыление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514240"/>
            <a:ext cx="601992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ыление - перенос пыльцы из пыльников на рыльце пести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виду опыления растения бывают: перекрестноопыляющиеся и самоопыляющие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16680" y="1066680"/>
            <a:ext cx="30114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150A-1ACC-4BFA-B629-50761B873A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229CD-54BD-49C6-A0DA-4C90564F67E5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Плод –это вместилище семян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лоды состоят из околоплодника,который образуется из стенок завязи и семян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ЛОПЛОДНИ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243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200400"/>
            <a:ext cx="1218960" cy="914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3200400"/>
            <a:ext cx="1295640" cy="91440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0800000">
            <a:off x="2360160" y="388584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ЧНЫЙ                                         СУХОЙ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4197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ЯГОДА (ВИНОГРАД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СТЯНКА (ВИШНЯ,СЛИВ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4572000"/>
            <a:ext cx="312444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ОБ (ГОРОХ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РУЧОК (КАПУСТ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РОБОЧКА (МАК, ЛЕН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ЕРНОВКА (ПШЕНИЦА, ЯЧМЕНЬ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МЯНКА (ПОДСОЛНЕЧНИК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ПЛОДИЕ (СВЕКЛА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90B-186E-4A68-905D-71182DBA1B3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34776-DCF3-4161-A955-E1697111B561}" type="datetime1">
              <a:rPr lang="en-US"/>
              <a:t>07/28/26</a:t>
            </a:fld>
          </a:p>
        </p:txBody>
      </p:sp>
    </p:spTree>
  </p:cSld>
  <p:transition spd="slow">
    <p:strips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силий</cp:lastModifiedBy>
  <dcterms:modified xsi:type="dcterms:W3CDTF">2012-01-20T15:57:27Z</dcterms:modified>
  <cp:revision>19</cp:revision>
  <dc:subject/>
  <dc:title>Презентация PowerPoint</dc:title>
</cp:coreProperties>
</file>