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.gif" ContentType="image/gif"/>
  <Override PartName="/ppt/media/image9.png" ContentType="image/png"/>
  <Override PartName="/ppt/media/image13.jpeg" ContentType="image/jpeg"/>
  <Override PartName="/ppt/media/image12.wmf" ContentType="image/x-wmf"/>
  <Override PartName="/ppt/media/image1.gif" ContentType="image/gif"/>
  <Override PartName="/ppt/media/image4.gif" ContentType="image/gif"/>
  <Override PartName="/ppt/media/image3.gif" ContentType="image/gif"/>
  <Override PartName="/ppt/media/image6.png" ContentType="image/png"/>
  <Override PartName="/ppt/media/image2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24.wmf" ContentType="image/x-wmf"/>
  <Override PartName="/ppt/media/image23.jpeg" ContentType="image/jpeg"/>
  <Override PartName="/ppt/media/image25.jpeg" ContentType="image/jpeg"/>
  <Override PartName="/ppt/media/image22.gif" ContentType="image/gif"/>
  <Override PartName="/ppt/media/image17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6.jpeg" ContentType="image/jpeg"/>
  <Override PartName="/ppt/media/image18.wmf" ContentType="image/x-wmf"/>
  <Override PartName="/ppt/media/image15.png" ContentType="image/png"/>
  <Override PartName="/ppt/media/image5.wmf" ContentType="image/x-wmf"/>
  <Override PartName="/ppt/media/image27.jpeg" ContentType="image/jpeg"/>
  <Override PartName="/ppt/media/image2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9A92-398A-4D26-B6C1-4A3C5D8D9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5073-AD5D-44DE-ABD3-D8896D75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9676-EB86-47E8-BB75-167CDF252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37BE-642C-4F73-94CF-59E8D5D5B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7E75-E6B9-40F3-9A5D-4CB92B3E1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D5EE-1979-482A-98DC-4D2DBF44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FDF8-A23D-4FDF-8958-4F2A8D85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DF24-E5FC-401C-A13D-10441EA3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5731-D7DA-43FE-9C63-7DB675B9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26FA-34BA-4583-B996-B27FAEFF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0FA9-9AC4-47AF-BF09-61ABA7C1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6986-63BA-4847-A003-CDF8FB01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1223-5DFC-47D4-A9B2-97FEDE86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2335-EFE1-4977-8BB0-6A14069A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790A-1CCB-4292-8CDE-583CDE78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38B7-848F-4017-A655-091EF6CFC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B2D5-4B33-40F0-ADEE-E81D4F75E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3159-0F5A-4918-A281-BF6B47EA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BC71-1DE9-4D78-AF5B-BCA59F26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0924-DC1A-4981-9536-EAFF075D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DDB7-0FC1-4078-95CF-10BCA3DD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8D84-71FA-4B52-8EBA-CFE25251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3721-DAD2-4F14-A53E-03B4DB05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11B7-3972-4732-B5E8-C90BE2C1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773C-1670-460C-B6A5-FC8936053EF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95F0-1CEA-484E-AF52-1C9F5515052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F5BB-F902-479A-92C4-6EEDDAAC45E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B071-D1DD-403B-B147-3831EF0C406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8.xml"/><Relationship Id="rId6" Type="http://schemas.openxmlformats.org/officeDocument/2006/relationships/slide" Target="slide16.xml"/><Relationship Id="rId7" Type="http://schemas.openxmlformats.org/officeDocument/2006/relationships/slide" Target="slide17.xm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" Target="slide11.xm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wmf"/><Relationship Id="rId6" Type="http://schemas.openxmlformats.org/officeDocument/2006/relationships/slide" Target="slide11.xml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" Target="slide11.xml"/><Relationship Id="rId4" Type="http://schemas.openxmlformats.org/officeDocument/2006/relationships/image" Target="../media/image21.jpe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" Target="slide11.xm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1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ема №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1760" y="2819520"/>
            <a:ext cx="7924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«Размножение растений»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32360" y="4869000"/>
            <a:ext cx="4211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есникова Н.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подаватель спец.дисципл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БОУ СПО НСХ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B3DA-6139-4184-83CB-D4BCBB7123D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58AC119-6136-473D-BFA0-0CD6DE4D8C36}" type="datetime1">
              <a:rPr lang="en-US"/>
              <a:t>07/31/26</a:t>
            </a:fld>
          </a:p>
        </p:txBody>
      </p:sp>
    </p:spTree>
  </p:cSld>
  <p:transition spd="slow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ипы плодов 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Семянка; 2-листовка; 3-боб; 4-стручок; 5-стручочек; 6,8,9-коробочка; 7-двусемянка; 10-костян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956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08240" y="567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57150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73320" y="5776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18280" y="47102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4724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68600" y="55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07040" y="44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07040" y="59292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29000" cy="2251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449440" y="3490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87720" y="55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64240" y="55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83200" y="3871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960680" y="53960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08640" y="55101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44720" y="5776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6400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209680" y="3352680"/>
            <a:ext cx="6096240" cy="306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E513-5F6C-4D3D-A583-6AB9E91A2EC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3D460C-EA96-42E2-BA70-A81F34277087}" type="datetime1">
              <a:rPr lang="en-US"/>
              <a:t>07/31/26</a:t>
            </a:fld>
          </a:p>
        </p:txBody>
      </p:sp>
    </p:spTree>
  </p:cSld>
  <p:transition spd="slow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2. Вегетативное размножение -</a:t>
            </a:r>
            <a:br>
              <a:rPr sz="32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 размножение растений отдельными его частями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Усами (клубник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2" action="ppaction://hlinksldjump"/>
              </a:rPr>
              <a:t>Черенками (виноград, смородин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Отводками (виноград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4" action="ppaction://hlinksldjump"/>
              </a:rPr>
              <a:t>Луковицами (чеснок, лук, тюльпан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5" action="ppaction://hlinksldjump"/>
              </a:rPr>
              <a:t>Корневыми отпрысками (малина, камыш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33"/>
                </a:solidFill>
                <a:latin typeface="Times New Roman"/>
              </a:rPr>
              <a:t>Корневыми клубнями (георгин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6" action="ppaction://hlinksldjump"/>
              </a:rPr>
              <a:t>Клубнями (картофель, земляная груш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7" action="ppaction://hlinksldjump"/>
              </a:rPr>
              <a:t>Корневищами (многолетние травы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6732720" y="5259240"/>
            <a:ext cx="2411280" cy="15987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14400" y="6400800"/>
            <a:ext cx="160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6324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B171-A779-436B-923A-697C373DF4C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3E3638-E7D8-4342-9204-700B9A94DD10}" type="datetime1">
              <a:rPr lang="en-US"/>
              <a:t>07/31/26</a:t>
            </a:fld>
          </a:p>
        </p:txBody>
      </p:sp>
    </p:spTree>
  </p:cSld>
  <p:transition spd="slow">
    <p:strips dir="lu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ус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312408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им из представителей данного типа размножения является клубни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3384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562720" y="1503360"/>
            <a:ext cx="2971800" cy="1620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419720" cy="5029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85800" y="6324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6781680" y="4800600"/>
            <a:ext cx="2362320" cy="20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D232-F015-45B3-9F6A-BC33FBC6ACCB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CFD9D3-BF5F-414A-B19E-544C1266A366}" type="datetime1">
              <a:rPr lang="en-US"/>
              <a:t>07/31/26</a:t>
            </a:fld>
          </a:p>
        </p:txBody>
      </p:sp>
    </p:spTree>
  </p:cSld>
  <p:transition spd="slow">
    <p:strips dir="lu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5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6000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черенк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1468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3124080" cy="1984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2102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1174680" cy="2133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78144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334120" y="1600200"/>
            <a:ext cx="3200400" cy="19479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4952880" y="4724280"/>
            <a:ext cx="2514600" cy="1684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1295280" y="4343400"/>
            <a:ext cx="1805040" cy="2133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410080" y="358128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ревесневшие черен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57400" y="3657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еленые черен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37339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рневые черен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6324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6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5A97-D2A6-4E12-A852-13CB2208EE3D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590ECE-147B-4E55-AF99-EF212C71EF9F}" type="datetime1">
              <a:rPr lang="en-US"/>
              <a:t>07/31/26</a:t>
            </a:fld>
          </a:p>
        </p:txBody>
      </p:sp>
    </p:spTree>
  </p:cSld>
  <p:transition spd="slow">
    <p:strips dir="l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отводк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9100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495680" y="2133720"/>
            <a:ext cx="2895840" cy="1609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58128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990720" y="2209680"/>
            <a:ext cx="2590560" cy="15242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14400" y="38098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оризонтальные отвод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95680" y="3886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уговидные отвод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46483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одками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 называют побеги, укоренившиеся на маточном растен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62485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647720" cy="2060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7885080" y="5013360"/>
            <a:ext cx="1071720" cy="184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DE99-B8EC-4EAF-A3BD-95B1D43AE7FF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6B179A-D006-454C-9943-C15451487C72}" type="datetime1">
              <a:rPr lang="en-US"/>
              <a:t>07/31/26</a:t>
            </a:fld>
          </a:p>
        </p:txBody>
      </p:sp>
    </p:spTree>
  </p:cSld>
  <p:transition spd="slow">
    <p:strips dir="lu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луковиц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1337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представителям растений, размножающихся луковицами, можно отнести: тюльпаны, лук, чеснок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886200" y="4044960"/>
            <a:ext cx="2971800" cy="2209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477120" y="3276720"/>
            <a:ext cx="2133360" cy="19335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62120" y="6324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108000" y="3933720"/>
            <a:ext cx="3708360" cy="247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5FC0-452C-452C-A46F-9A252C25871E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3B6316-056A-45D3-9FBD-217EFC575B53}" type="datetime1">
              <a:rPr lang="en-US"/>
              <a:t>07/31/26</a:t>
            </a:fld>
          </a:p>
        </p:txBody>
      </p:sp>
    </p:spTree>
  </p:cSld>
  <p:transition spd="slow">
    <p:strips dir="lu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клубня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61722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657600" cy="2438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648320" y="1981080"/>
            <a:ext cx="38862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лубни образуются на концах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толон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подземных побег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им способом размножаются картофель и земляная груш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781680" y="4292640"/>
            <a:ext cx="2362320" cy="256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27D0-1735-48F1-BE5D-9BCD470CDC45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6CCA22-F527-4B80-9247-923AD92B56E3}" type="datetime1">
              <a:rPr lang="en-US"/>
              <a:t>07/31/26</a:t>
            </a:fld>
          </a:p>
        </p:txBody>
      </p:sp>
    </p:spTree>
  </p:cSld>
  <p:transition spd="slow">
    <p:strips dir="lu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корневищ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3112920" cy="3429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343400" y="2286000"/>
            <a:ext cx="41148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Корневищ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бег, возникающий из почек узла кущ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данному типу размножения растений можно отнести многолетние травы, хризантемы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6324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DF5B-DFD5-4DB3-AAAC-B53A96043887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FCE5C-8F19-4715-99FE-A52F2EA2F022}" type="datetime1">
              <a:rPr lang="en-US"/>
              <a:t>07/31/26</a:t>
            </a:fld>
          </a:p>
        </p:txBody>
      </p:sp>
    </p:spTree>
  </p:cSld>
  <p:transition spd="slow">
    <p:strips dir="lu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0"/>
                            </p:stCondLst>
                            <p:childTnLst>
                              <p:par>
                                <p:cTn id="3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500"/>
                            </p:stCondLst>
                            <p:childTnLst>
                              <p:par>
                                <p:cTn id="35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корневыми отпрыск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981080"/>
            <a:ext cx="7848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рневые отпрыски образуются в результате прорастания придаточных почек на горизонтальных корнях маточных растен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анный способ размножения является основным промышленным способом размножения мали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9568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819520" y="4114800"/>
            <a:ext cx="3429000" cy="25574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57200" y="63244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2C0F-F634-4EAB-BA7A-EBFD5EC6B6BA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B1DF11-F7C8-4CB5-AF05-718237D17964}" type="datetime1">
              <a:rPr lang="en-US"/>
              <a:t>07/31/26</a:t>
            </a:fld>
          </a:p>
        </p:txBody>
      </p:sp>
    </p:spTree>
  </p:cSld>
  <p:transition spd="slow">
    <p:strips dir="lu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епанов В.Н. Основы агрономи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громромиздат, 1988 г. Моск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етьяков Н.Н  Основы агрономи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кадемия 1998 г. Моск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0560" y="5881680"/>
            <a:ext cx="271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жмите клавишу 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ES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9132-F704-4004-A7EB-2F0B45D3C37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986364-5766-483B-AE5A-47FFB16EE5B7}" type="datetime1">
              <a:rPr lang="en-US"/>
              <a:t>07/31/26</a:t>
            </a:fld>
          </a:p>
        </p:txBody>
      </p:sp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Аннотац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-6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анная разработка представляет собой небольшое исследование по видам и способам  размножения растений .Которая  дает полную характеристику вегетации и  созревания культур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67640" y="4869000"/>
            <a:ext cx="1282680" cy="180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33C4-52B6-4268-864B-2C128EFE0EF2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D316FB-9BEF-410E-BA6A-9EC027B1E90C}" type="datetime1">
              <a:rPr lang="en-US"/>
              <a:t>07/31/26</a:t>
            </a:fld>
          </a:p>
        </p:txBody>
      </p:sp>
    </p:spTree>
  </p:cSld>
  <p:transition spd="slow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Цел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934920"/>
            <a:ext cx="864216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Образовательная - углубить и систематизировать знание учащихся о размножении растений, проверить их умение правильно определять    способы размнож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Развивающая - продолжить формирование умений аргументировано излагать свою    точку зр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 Unicode MS"/>
              </a:rPr>
              <a:t>Задач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Изучение способов размножения растений их разнообразие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Формирование умений различать способы размнож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Развитие навыков наблюд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164360" y="5040360"/>
            <a:ext cx="1795320" cy="1795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AA15-A239-4AAB-BF05-E6E9095030F1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202A74-7F78-400E-9266-6BCF6794E36A}" type="datetime1">
              <a:rPr lang="en-US"/>
              <a:t>07/31/26</a:t>
            </a:fld>
          </a:p>
        </p:txBody>
      </p:sp>
    </p:spTree>
  </p:cSld>
  <p:transition spd="slow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растений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1. 	Половое размнож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33"/>
                </a:solidFill>
                <a:uFillTx/>
                <a:latin typeface="Times New Roman"/>
                <a:hlinkClick r:id="rId2" action="ppaction://hlinksldjump"/>
              </a:rPr>
              <a:t>Вегетативное размнож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исок литератур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5257800"/>
            <a:ext cx="365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ля дальнейшей работы выберите один из пунктов и щелкните на нем кнопкой мыш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391520" y="495360"/>
            <a:ext cx="1533240" cy="13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7663-AA48-477C-8D31-6D6BADB7F1B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C82037-0649-4661-8D93-2826A1ECB00A}" type="datetime1">
              <a:rPr lang="en-US"/>
              <a:t>07/31/26</a:t>
            </a:fld>
          </a:p>
        </p:txBody>
      </p:sp>
    </p:spTree>
  </p:cSld>
  <p:transition spd="slow">
    <p:strips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-838080"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оловое размнож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половом размножении цветковых растений происходит слияние двух клеток (мужской и женской гамет) в результате чего образуется оплодотворенная клетка. Которая называется зиго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819520" y="5445000"/>
            <a:ext cx="3429000" cy="13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C5CB-A446-43C2-86EC-CB28B576444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9A4C91-6AA2-4B6B-A2DA-92C3A9A60B0E}" type="datetime1">
              <a:rPr lang="en-US"/>
              <a:t>07/31/26</a:t>
            </a:fld>
          </a:p>
        </p:txBody>
      </p:sp>
    </p:spTree>
  </p:cSld>
  <p:transition spd="slow">
    <p:strips dir="l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оловое размнож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243828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Цветок – орган семенного размножения, укороченный видоизмененный побег, приспособленный для образования половых клеток, опыления, оплодотворения и формирования семян и плод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8120" y="4038480"/>
            <a:ext cx="2514600" cy="24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15F6-3C53-4A10-A122-8C60FF991BC1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E3599B-828F-4A89-8C1D-8B685C125F59}" type="datetime1">
              <a:rPr lang="en-US"/>
              <a:t>07/31/26</a:t>
            </a:fld>
          </a:p>
        </p:txBody>
      </p:sp>
    </p:spTree>
  </p:cSld>
  <p:transition spd="slow">
    <p:strips dir="l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хема строения цветка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2908440" cy="4495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038480" y="2057400"/>
            <a:ext cx="419112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 – завязь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 – столбик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 – рыльце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 – пыльцевые зерна, проросшие в пыльцевой трубке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 – две тычинк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 – поперечный разрез пыльник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7 – продольный разрез пыльник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8 – яйцеклет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A8F6-DF3B-4B57-B508-DDD785A360EC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33B38F-5BFA-4730-8711-462BAE5C91DB}" type="datetime1">
              <a:rPr lang="en-US"/>
              <a:t>07/31/26</a:t>
            </a:fld>
          </a:p>
        </p:txBody>
      </p:sp>
    </p:spTree>
  </p:cSld>
  <p:transition spd="slow">
    <p:strips dir="l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500"/>
                            </p:stCondLst>
                            <p:childTnLst>
                              <p:par>
                                <p:cTn id="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пыл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2514240"/>
            <a:ext cx="6019920" cy="3505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ыление - перенос пыльцы из пыльников на рыльце пестик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 виду опыления растения бывают: перекрестноопыляющиеся и самоопыляющие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16680" y="1066680"/>
            <a:ext cx="3011400" cy="449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86CE-494A-4C52-B278-6F0D03A20D4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CDDCC1-74A8-47D9-81E5-C5B21F2856F7}" type="datetime1">
              <a:rPr lang="en-US"/>
              <a:t>07/31/26</a:t>
            </a:fld>
          </a:p>
        </p:txBody>
      </p:sp>
    </p:spTree>
  </p:cSld>
  <p:transition spd="slow">
    <p:strips dir="l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Плод –это вместилище семян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лоды состоят из околоплодника,который образуется из стенок завязи и семян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КОЛОПЛОДНИ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243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200400"/>
            <a:ext cx="1218960" cy="91440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3200400"/>
            <a:ext cx="1295640" cy="91440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 rot="10800000">
            <a:off x="2360160" y="388584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ЧНЫЙ                                         СУХОЙ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4419720"/>
            <a:ext cx="28191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ЯГОДА (ВИНОГРАД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ОСТЯНКА (ВИШНЯ,СЛИВА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4572000"/>
            <a:ext cx="312444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БОБ (ГОРОХ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ТРУЧОК (КАПУСТА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ОРОБОЧКА (МАК, ЛЕН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ЕРНОВКА (ПШЕНИЦА, ЯЧМЕНЬ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ЕМЯНКА (ПОДСОЛНЕЧНИК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ОПЛОДИЕ (СВЕКЛА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C305-4B6B-4A27-9894-C6F2211A26E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48D196-EB74-406A-AB58-065DDF7226DF}" type="datetime1">
              <a:rPr lang="en-US"/>
              <a:t>07/31/26</a:t>
            </a:fld>
          </a:p>
        </p:txBody>
      </p:sp>
    </p:spTree>
  </p:cSld>
  <p:transition spd="slow">
    <p:strips dir="l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силий</cp:lastModifiedBy>
  <dcterms:modified xsi:type="dcterms:W3CDTF">2012-01-20T15:57:27Z</dcterms:modified>
  <cp:revision>19</cp:revision>
  <dc:subject/>
  <dc:title>Презентация PowerPoint</dc:title>
</cp:coreProperties>
</file>