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026B-D282-4147-9730-F7862930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E2F0-738B-4B99-A7CA-F515ED85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82C4-CE39-4A78-8B03-23E9B7472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96D8-427B-492B-B0D1-90B9AFE32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6A38-8E6A-4B8E-9236-854F0B35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8EC0-ACD1-4109-9F5F-02A96952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FCF6-BCF6-482A-B4D2-A295192D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A727-1DEA-4B5E-AA68-FFA2C279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8B38-44E3-4E71-A864-1A58BDDE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C820-6C4C-4A39-813B-2B45F99E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DE29-2901-4DD5-A379-FCA67367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5E62-B155-404D-8828-B9CE8521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4783-D212-444B-9E7E-2D2BC517F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31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971640" y="2133720"/>
            <a:ext cx="7056360" cy="189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игибридное скрещивание.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ретий закон Менделя.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1476360" y="765000"/>
            <a:ext cx="5040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539640" y="4292640"/>
            <a:ext cx="770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дин из основных законов генетики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ю разработал учитель химии и биологии МКОУ Лебединская СОШ Гюлахмедов Мирзабег Гюлови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ронежская область Богучарский р-он с. Лебед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3040" y="411120"/>
            <a:ext cx="8213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скрещивания были взя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тение с жёлтыми гладкими семе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тение с зелёными морщинистыми семе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395280" y="333360"/>
            <a:ext cx="85345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крещивание по двум парам признако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нотипы родителе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первого родителя: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а признака доминант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второго родителя: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а признака рецессив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езультат скрещивани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ж.г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8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з. 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меты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бриды: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                     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емена гибридов первого поколения оказались все желтые гладк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6012000" y="2205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H="1">
            <a:off x="6516720" y="220500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2843280" y="21337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 flipH="1">
            <a:off x="3203640" y="213372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"/>
          <p:cNvSpPr/>
          <p:nvPr/>
        </p:nvSpPr>
        <p:spPr>
          <a:xfrm>
            <a:off x="601200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-й закон Менд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ы родител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первого родителя: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36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второго родителя: 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зультат скрещи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ж.г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ж.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меты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  Ab  aB  ab           AB  Ab  aB  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"/>
          <p:cNvSpPr/>
          <p:nvPr/>
        </p:nvSpPr>
        <p:spPr>
          <a:xfrm flipH="1">
            <a:off x="1907640" y="1700280"/>
            <a:ext cx="28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2411280" y="17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2771640" y="1773360"/>
            <a:ext cx="287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"/>
          <p:cNvSpPr/>
          <p:nvPr/>
        </p:nvSpPr>
        <p:spPr>
          <a:xfrm>
            <a:off x="2843280" y="1700280"/>
            <a:ext cx="863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 flipH="1">
            <a:off x="5579640" y="184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 flipH="1">
            <a:off x="6300360" y="1773360"/>
            <a:ext cx="7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6516720" y="1773360"/>
            <a:ext cx="504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>
            <a:off x="6659640" y="1700280"/>
            <a:ext cx="10094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476360" y="3500280"/>
          <a:ext cx="6696000" cy="3168720"/>
        </p:xfrm>
        <a:graphic>
          <a:graphicData uri="http://schemas.openxmlformats.org/drawingml/2006/table">
            <a:tbl>
              <a:tblPr/>
              <a:tblGrid>
                <a:gridCol w="1674720"/>
                <a:gridCol w="1673280"/>
                <a:gridCol w="1674720"/>
                <a:gridCol w="167328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50"/>
          <p:cNvSpPr/>
          <p:nvPr/>
        </p:nvSpPr>
        <p:spPr>
          <a:xfrm>
            <a:off x="900000" y="4508640"/>
            <a:ext cx="7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1"/>
          <p:cNvSpPr/>
          <p:nvPr/>
        </p:nvSpPr>
        <p:spPr>
          <a:xfrm>
            <a:off x="900000" y="3716280"/>
            <a:ext cx="7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2"/>
          <p:cNvSpPr/>
          <p:nvPr/>
        </p:nvSpPr>
        <p:spPr>
          <a:xfrm>
            <a:off x="900000" y="522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3"/>
          <p:cNvSpPr/>
          <p:nvPr/>
        </p:nvSpPr>
        <p:spPr>
          <a:xfrm>
            <a:off x="900000" y="5877000"/>
            <a:ext cx="7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4"/>
          <p:cNvSpPr/>
          <p:nvPr/>
        </p:nvSpPr>
        <p:spPr>
          <a:xfrm>
            <a:off x="2196360" y="3068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5"/>
          <p:cNvSpPr/>
          <p:nvPr/>
        </p:nvSpPr>
        <p:spPr>
          <a:xfrm>
            <a:off x="3853080" y="306864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6"/>
          <p:cNvSpPr/>
          <p:nvPr/>
        </p:nvSpPr>
        <p:spPr>
          <a:xfrm>
            <a:off x="5221800" y="30686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7"/>
          <p:cNvSpPr/>
          <p:nvPr/>
        </p:nvSpPr>
        <p:spPr>
          <a:xfrm>
            <a:off x="6806160" y="3068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0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й ЗАКОН МЕНДЕЛ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ждая пара контрастных признаков наследуются независимо друг от друга в ряду поколений; в результате среди гибридов второго поколения появляются потомки с новыми комбинациями признаков в соотношении 9: 3: 3 :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АЛИЗИРУЮЩЕЕ СКРЕЩИ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  х а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аметы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 А а 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00%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Гаметы    А а а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аа (1 : 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5:40:37Z</dcterms:created>
  <dc:creator>ДОМ</dc:creator>
  <dc:description/>
  <dc:language>en-US</dc:language>
  <cp:lastModifiedBy>Василий</cp:lastModifiedBy>
  <dcterms:modified xsi:type="dcterms:W3CDTF">2012-01-25T14:45:10Z</dcterms:modified>
  <cp:revision>9</cp:revision>
  <dc:subject/>
  <dc:title>                    </dc:title>
</cp:coreProperties>
</file>