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D51-32A3-40EB-91D7-9939D448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C5E-8341-44B8-A54A-555F4BAE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0A6-CC12-46F2-BB87-2A018431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C76-5EBA-4B50-B63C-63B4FB5F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B3D-37E5-43F8-99E6-B78B6FF9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C1F-F33E-41C9-A3FF-341F6D73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A5C-B3D4-4ACD-9F8A-222D45A8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A87-44ED-4908-8151-C2282153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F18-BE6D-4779-8283-93B4D538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176-3903-4B1A-9AE1-59E42BD8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0C3-E03D-4FAF-B1D5-34104030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478-927B-43E8-80FA-CAE026E8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2F31-F05F-4366-8A46-0282CDF3E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разработал учитель химии и биологии МКОУ Лебединская СОШ Гюлахмедов Мирзабег Гюл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ежская область Богучарский р-он с. Лебе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Василий</cp:lastModifiedBy>
  <dcterms:modified xsi:type="dcterms:W3CDTF">2012-01-25T14:45:10Z</dcterms:modified>
  <cp:revision>9</cp:revision>
  <dc:subject/>
  <dc:title>                    </dc:title>
</cp:coreProperties>
</file>