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E0B9-B6D4-420F-B20B-ADCE178D4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CB41-3FE9-442E-A185-59D57C0B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1325-1F40-43F9-B4AE-CC0A2B77C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C5F3-A541-42DC-AF9F-C53E6080D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FCE6-30A5-4034-BBCB-6F5C3B6E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F2BB-DF3D-4341-8694-DD630C2C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ED28-94FD-4709-BF62-3FFB84C3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2DE8-AF78-4594-811B-604C157C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76BC-B997-4F76-82EE-29936897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1BDB-1F47-4949-893B-FA62CED4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02CA-C117-4694-A9EF-E942A8B1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1745-7E13-4E2F-A958-BE1168E8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114E-D95C-429A-94BE-4E2425760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31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971640" y="2133720"/>
            <a:ext cx="7056360" cy="189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игибридное скрещивание.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ретий закон Менделя.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1476360" y="765000"/>
            <a:ext cx="5040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м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WordArt 7"/>
          <p:cNvSpPr txBox="1"/>
          <p:nvPr/>
        </p:nvSpPr>
        <p:spPr>
          <a:xfrm>
            <a:off x="539640" y="4292640"/>
            <a:ext cx="7705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дин из основных законов генетики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ю разработал учитель химии и биологии МКОУ Лебединская СОШ Гюлахмедов Мирзабег Гюлови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ронежская область Богучарский р-он с. Лебед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3040" y="411120"/>
            <a:ext cx="821376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скрещивания были взя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тение с жёлтыми гладкими семе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тение с зелёными морщинистыми семе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395280" y="333360"/>
            <a:ext cx="85345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крещивание по двум парам признаков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енотипы родителе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первого родителя: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оба признака доминант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второго родителя: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aab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оба признака рецессив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Результат скрещивания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ж.г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800" spc="-1" strike="noStrike">
                <a:solidFill>
                  <a:srgbClr val="99cc00"/>
                </a:solidFill>
                <a:latin typeface="Arial"/>
              </a:rPr>
              <a:t>aabb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з. 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меты: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бриды: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                      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жёлт. гла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емена гибридов первого поколения оказались все желтые гладк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6012000" y="220500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 flipH="1">
            <a:off x="6516720" y="2205000"/>
            <a:ext cx="216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2843280" y="213372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 flipH="1">
            <a:off x="3203640" y="2133720"/>
            <a:ext cx="216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3"/>
          <p:cNvSpPr/>
          <p:nvPr/>
        </p:nvSpPr>
        <p:spPr>
          <a:xfrm>
            <a:off x="6012000" y="414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-й закон Менд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ы родител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первого родителя: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AaBb</a:t>
            </a:r>
            <a:r>
              <a:rPr b="0" lang="ru-RU" sz="36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жёлт. глад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второго родителя: 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AaB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жёлт. гла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зультат скрещив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ж.г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ж.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меты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  Ab  aB  ab           AB  Ab  aB  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4"/>
          <p:cNvSpPr/>
          <p:nvPr/>
        </p:nvSpPr>
        <p:spPr>
          <a:xfrm flipH="1">
            <a:off x="1907640" y="1700280"/>
            <a:ext cx="28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"/>
          <p:cNvSpPr/>
          <p:nvPr/>
        </p:nvSpPr>
        <p:spPr>
          <a:xfrm>
            <a:off x="2411280" y="170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2771640" y="1773360"/>
            <a:ext cx="2876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7"/>
          <p:cNvSpPr/>
          <p:nvPr/>
        </p:nvSpPr>
        <p:spPr>
          <a:xfrm>
            <a:off x="2843280" y="1700280"/>
            <a:ext cx="8636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 flipH="1">
            <a:off x="5579640" y="184464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 flipH="1">
            <a:off x="6300360" y="1773360"/>
            <a:ext cx="7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6516720" y="1773360"/>
            <a:ext cx="504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>
            <a:off x="6659640" y="1700280"/>
            <a:ext cx="10094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476360" y="3500280"/>
          <a:ext cx="6696000" cy="3168720"/>
        </p:xfrm>
        <a:graphic>
          <a:graphicData uri="http://schemas.openxmlformats.org/drawingml/2006/table">
            <a:tbl>
              <a:tblPr/>
              <a:tblGrid>
                <a:gridCol w="1674720"/>
                <a:gridCol w="1673280"/>
                <a:gridCol w="1674720"/>
                <a:gridCol w="167328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Rectangle 50"/>
          <p:cNvSpPr/>
          <p:nvPr/>
        </p:nvSpPr>
        <p:spPr>
          <a:xfrm>
            <a:off x="900000" y="4508640"/>
            <a:ext cx="7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1"/>
          <p:cNvSpPr/>
          <p:nvPr/>
        </p:nvSpPr>
        <p:spPr>
          <a:xfrm>
            <a:off x="900000" y="3716280"/>
            <a:ext cx="7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2"/>
          <p:cNvSpPr/>
          <p:nvPr/>
        </p:nvSpPr>
        <p:spPr>
          <a:xfrm>
            <a:off x="900000" y="5229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3"/>
          <p:cNvSpPr/>
          <p:nvPr/>
        </p:nvSpPr>
        <p:spPr>
          <a:xfrm>
            <a:off x="900000" y="5877000"/>
            <a:ext cx="7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4"/>
          <p:cNvSpPr/>
          <p:nvPr/>
        </p:nvSpPr>
        <p:spPr>
          <a:xfrm>
            <a:off x="2196360" y="3068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5"/>
          <p:cNvSpPr/>
          <p:nvPr/>
        </p:nvSpPr>
        <p:spPr>
          <a:xfrm>
            <a:off x="3853080" y="3068640"/>
            <a:ext cx="6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6"/>
          <p:cNvSpPr/>
          <p:nvPr/>
        </p:nvSpPr>
        <p:spPr>
          <a:xfrm>
            <a:off x="5221800" y="306864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7"/>
          <p:cNvSpPr/>
          <p:nvPr/>
        </p:nvSpPr>
        <p:spPr>
          <a:xfrm>
            <a:off x="6806160" y="3068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" descr="0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й ЗАКОН МЕНДЕЛ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ждая пара контрастных признаков наследуются независимо друг от друга в ряду поколений; в результате среди гибридов второго поколения появляются потомки с новыми комбинациями признаков в соотношении 9: 3: 3 :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НАЛИЗИРУЮЩЕЕ СКРЕЩИ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  х а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аметы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 А а 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100%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Гаметы    А а а 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аа (1 : 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5:40:37Z</dcterms:created>
  <dc:creator>ДОМ</dc:creator>
  <dc:description/>
  <dc:language>en-US</dc:language>
  <cp:lastModifiedBy>Василий</cp:lastModifiedBy>
  <dcterms:modified xsi:type="dcterms:W3CDTF">2012-01-25T14:45:10Z</dcterms:modified>
  <cp:revision>9</cp:revision>
  <dc:subject/>
  <dc:title>                    </dc:title>
</cp:coreProperties>
</file>