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7.jpeg" ContentType="image/jpeg"/>
  <Override PartName="/ppt/media/image28.jpeg" ContentType="image/jpeg"/>
  <Override PartName="/ppt/media/image34.jpeg" ContentType="image/jpeg"/>
  <Override PartName="/ppt/media/image12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41F31-0FF3-463D-AE2B-F4323D00E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40144-3666-4519-A578-DF8B34FF6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A86C9-EBD5-4D03-A798-1C96C2DF6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F0754-889A-43D0-86EB-6CC66750A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64F61-70C6-4DE7-A9CA-4497DB06D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D3B4F-A4BC-42B9-9A79-F475C9ECE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FD9F8-0688-4917-9DD4-F9B319E9F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BEE30-077E-40B0-92DF-D5CDCB860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DDC41-2CAD-4B33-8219-FC7314938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12744-D652-4B16-999C-233171586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959FD-FD0A-4680-A0F3-AAC28D5FD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42FA0-626D-4DCC-BE22-919907899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C7009-B14A-4B7A-AEDA-B8BCDB368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9FE2F-ABDB-406D-A050-411E5305D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766AD-05A4-41D5-8B37-32275CC7E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6309F-B804-40C8-BB9B-F396CD4D0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54C71-BFD9-4E89-A047-F8944D910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AB032-B737-48DA-8DCA-FDE47F505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1E34E-9F94-44DF-8E6A-72DE3918C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A967B-9572-41B8-AF9A-B08C4A27F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692BD-99ED-4262-8303-BAEFC02CF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54425-3DDD-420E-AC14-A400D6AEB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CF4BA-65E8-4AC0-859A-51165206A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A0D53-3EE0-4194-B93B-DCFB43AB2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39920"/>
                <a:gd name="textAreaBottom" fmla="*/ 2240280 h 22399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029200"/>
                <a:gd name="textAreaBottom" fmla="*/ 5029560 h 5029200"/>
              </a:gdLst>
              <a:ahLst/>
              <a:rect l="textAreaLeft" t="textAreaTop" r="textAreaRight" b="textAreaBottom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03560"/>
                <a:gd name="textAreaBottom" fmla="*/ 2203920 h 220356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>
                <a:gd name="textAreaLeft" fmla="*/ 0 w 7313760"/>
                <a:gd name="textAreaRight" fmla="*/ 7314120 w 7313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833560"/>
                <a:gd name="textAreaBottom" fmla="*/ 2833920 h 283356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>
                <a:gd name="textAreaLeft" fmla="*/ 0 w 4570560"/>
                <a:gd name="textAreaRight" fmla="*/ 4570920 w 45705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EE7D5-CB78-469E-9C88-8252C871A55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105520"/>
                <a:gd name="textAreaBottom" fmla="*/ 5105880 h 5105520"/>
              </a:gdLst>
              <a:ahLst/>
              <a:rect l="textAreaLeft" t="textAreaTop" r="textAreaRight" b="textAreaBottom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3048120"/>
                <a:gd name="textAreaBottom" fmla="*/ 3048480 h 30481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>
                <a:gd name="textAreaLeft" fmla="*/ 0 w 5484960"/>
                <a:gd name="textAreaRight" fmla="*/ 5485320 w 54849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>
                <a:gd name="textAreaLeft" fmla="*/ 0 w 7769520"/>
                <a:gd name="textAreaRight" fmla="*/ 7769880 w 776952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3108240"/>
                <a:gd name="textAreaBottom" fmla="*/ 3108600 h 31082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119920"/>
                <a:gd name="textAreaBottom" fmla="*/ 5120280 h 511992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2B8E7-F967-4AE5-BA32-6E2A6C8DFCF9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image" Target="../media/image14.jpeg"/><Relationship Id="rId9" Type="http://schemas.openxmlformats.org/officeDocument/2006/relationships/image" Target="../media/image15.jpeg"/><Relationship Id="rId10" Type="http://schemas.openxmlformats.org/officeDocument/2006/relationships/image" Target="../media/image16.jpeg"/><Relationship Id="rId11" Type="http://schemas.openxmlformats.org/officeDocument/2006/relationships/image" Target="../media/image17.jpeg"/><Relationship Id="rId12" Type="http://schemas.openxmlformats.org/officeDocument/2006/relationships/image" Target="../media/image18.jpeg"/><Relationship Id="rId13" Type="http://schemas.openxmlformats.org/officeDocument/2006/relationships/image" Target="../media/image19.jpeg"/><Relationship Id="rId14" Type="http://schemas.openxmlformats.org/officeDocument/2006/relationships/image" Target="../media/image20.jpeg"/><Relationship Id="rId1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forum.hayastan.com/uploads/monthly_03_2008/post-23605-1205619353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download.loveradio.ru/pub/164262.jpg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gorod.tomsk.ru/2007/jul/mens_weekend6.jpg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9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5888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9900"/>
                </a:solidFill>
                <a:latin typeface="Arial Black"/>
              </a:rPr>
              <a:t>Здоровый образ жизни-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3616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00"/>
                </a:solidFill>
                <a:latin typeface="Arial"/>
              </a:rPr>
              <a:t>основа счастливого человека</a:t>
            </a:r>
            <a:r>
              <a:rPr b="1" lang="ru-RU" sz="4000" spc="-1" strike="noStrike">
                <a:solidFill>
                  <a:srgbClr val="0099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9900"/>
                </a:solidFill>
                <a:latin typeface="Arial"/>
              </a:rPr>
              <a:t>                                      </a:t>
            </a:r>
            <a:r>
              <a:rPr b="0" lang="ru-RU" sz="2000" spc="-1" strike="noStrike">
                <a:solidFill>
                  <a:srgbClr val="009900"/>
                </a:solidFill>
                <a:latin typeface="Arial"/>
              </a:rPr>
              <a:t>Автор разработки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9900"/>
                </a:solidFill>
                <a:latin typeface="Arial"/>
              </a:rPr>
              <a:t>Козлова Ирина Алексеевна учитель географии и биологии МАОУСОШ № 8 города Старая Русса Новгородской области</a:t>
            </a:r>
            <a:r>
              <a:rPr b="0" lang="ru-RU" sz="3200" spc="-1" strike="noStrike">
                <a:solidFill>
                  <a:srgbClr val="0099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50000">
              <a:srgbClr val="99ff66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5" descr="i?id=66083871&amp;tov=4"/>
          <p:cNvPicPr/>
          <p:nvPr/>
        </p:nvPicPr>
        <p:blipFill>
          <a:blip r:embed="rId1"/>
          <a:stretch/>
        </p:blipFill>
        <p:spPr>
          <a:xfrm rot="3353400">
            <a:off x="3645000" y="1916640"/>
            <a:ext cx="3059280" cy="455940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66"/>
                </a:solidFill>
                <a:latin typeface="Arial Black"/>
              </a:rPr>
              <a:t>Как закаляться, чтобы не простужаться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Нужно закаливаться постепенно, начиная с </a:t>
            </a:r>
            <a:r>
              <a:rPr b="1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секунд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 и заканчивая </a:t>
            </a:r>
            <a:r>
              <a:rPr b="1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минутам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Правильное питание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дно только поколение правильно питающихся людей возродит человечество и сделает болезни столь редким явлением, что на них будут смотреть, как на нечто необыкновенное. А молодому растущему организму еженедельно требуется 30 видов разнообразных продуктов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i?id=185658569&amp;tov=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3" descr="i?id=37165832&amp;tov=6"/>
          <p:cNvPicPr/>
          <p:nvPr/>
        </p:nvPicPr>
        <p:blipFill>
          <a:blip r:embed="rId2"/>
          <a:stretch/>
        </p:blipFill>
        <p:spPr>
          <a:xfrm rot="21095400">
            <a:off x="2133360" y="5358960"/>
            <a:ext cx="1904760" cy="14986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4" descr="i?id=85282625&amp;tov=0"/>
          <p:cNvPicPr/>
          <p:nvPr/>
        </p:nvPicPr>
        <p:blipFill>
          <a:blip r:embed="rId3"/>
          <a:stretch/>
        </p:blipFill>
        <p:spPr>
          <a:xfrm>
            <a:off x="6934320" y="4267080"/>
            <a:ext cx="1768320" cy="22669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5" descr="i?id=5574096&amp;tov=4"/>
          <p:cNvPicPr/>
          <p:nvPr/>
        </p:nvPicPr>
        <p:blipFill>
          <a:blip r:embed="rId4"/>
          <a:stretch/>
        </p:blipFill>
        <p:spPr>
          <a:xfrm rot="1306800">
            <a:off x="3657240" y="4267080"/>
            <a:ext cx="3124080" cy="19764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6" descr="i?id=145498711&amp;tov=8"/>
          <p:cNvPicPr/>
          <p:nvPr/>
        </p:nvPicPr>
        <p:blipFill>
          <a:blip r:embed="rId5"/>
          <a:stretch/>
        </p:blipFill>
        <p:spPr>
          <a:xfrm rot="1613400">
            <a:off x="304560" y="3276720"/>
            <a:ext cx="1460520" cy="17334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7" descr="i?id=93127506&amp;tov=3"/>
          <p:cNvPicPr/>
          <p:nvPr/>
        </p:nvPicPr>
        <p:blipFill>
          <a:blip r:embed="rId6"/>
          <a:stretch/>
        </p:blipFill>
        <p:spPr>
          <a:xfrm rot="20946600">
            <a:off x="5181120" y="380520"/>
            <a:ext cx="1847880" cy="18860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8" descr="i?id=7758744&amp;tov=8"/>
          <p:cNvPicPr/>
          <p:nvPr/>
        </p:nvPicPr>
        <p:blipFill>
          <a:blip r:embed="rId7"/>
          <a:stretch/>
        </p:blipFill>
        <p:spPr>
          <a:xfrm>
            <a:off x="3276720" y="1828800"/>
            <a:ext cx="5105160" cy="26049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9" descr="i?id=43421940&amp;tov=6"/>
          <p:cNvPicPr/>
          <p:nvPr/>
        </p:nvPicPr>
        <p:blipFill>
          <a:blip r:embed="rId8"/>
          <a:stretch/>
        </p:blipFill>
        <p:spPr>
          <a:xfrm rot="1992000">
            <a:off x="6171840" y="1371600"/>
            <a:ext cx="2514600" cy="25146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0" descr="i?id=182888925&amp;tov=8"/>
          <p:cNvPicPr/>
          <p:nvPr/>
        </p:nvPicPr>
        <p:blipFill>
          <a:blip r:embed="rId9"/>
          <a:stretch/>
        </p:blipFill>
        <p:spPr>
          <a:xfrm rot="1421400">
            <a:off x="3048120" y="533520"/>
            <a:ext cx="2114280" cy="15937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1" descr="i?id=83248998&amp;tov=0"/>
          <p:cNvPicPr/>
          <p:nvPr/>
        </p:nvPicPr>
        <p:blipFill>
          <a:blip r:embed="rId10"/>
          <a:stretch/>
        </p:blipFill>
        <p:spPr>
          <a:xfrm>
            <a:off x="0" y="5091120"/>
            <a:ext cx="2362320" cy="17668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2" descr="i?id=71550800&amp;tov=3"/>
          <p:cNvPicPr/>
          <p:nvPr/>
        </p:nvPicPr>
        <p:blipFill>
          <a:blip r:embed="rId11"/>
          <a:stretch/>
        </p:blipFill>
        <p:spPr>
          <a:xfrm rot="19867200">
            <a:off x="1523880" y="4114800"/>
            <a:ext cx="2286000" cy="15080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3" descr="i?id=50199848&amp;tov=0"/>
          <p:cNvPicPr/>
          <p:nvPr/>
        </p:nvPicPr>
        <p:blipFill>
          <a:blip r:embed="rId12"/>
          <a:stretch/>
        </p:blipFill>
        <p:spPr>
          <a:xfrm>
            <a:off x="1676520" y="2514600"/>
            <a:ext cx="2352600" cy="17762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4" descr="i?id=50983686&amp;tov=3"/>
          <p:cNvPicPr/>
          <p:nvPr/>
        </p:nvPicPr>
        <p:blipFill>
          <a:blip r:embed="rId13"/>
          <a:stretch/>
        </p:blipFill>
        <p:spPr>
          <a:xfrm rot="19927800">
            <a:off x="380880" y="990360"/>
            <a:ext cx="2862360" cy="22352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5" descr="i?id=203930939&amp;tov=6"/>
          <p:cNvPicPr/>
          <p:nvPr/>
        </p:nvPicPr>
        <p:blipFill>
          <a:blip r:embed="rId14"/>
          <a:stretch/>
        </p:blipFill>
        <p:spPr>
          <a:xfrm>
            <a:off x="304920" y="-152280"/>
            <a:ext cx="2743200" cy="15541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304920"/>
            <a:ext cx="861696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Picture 4" descr="2222222"/>
          <p:cNvPicPr/>
          <p:nvPr/>
        </p:nvPicPr>
        <p:blipFill>
          <a:blip r:embed="rId1"/>
          <a:stretch/>
        </p:blipFill>
        <p:spPr>
          <a:xfrm>
            <a:off x="533520" y="304920"/>
            <a:ext cx="3657600" cy="26175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5" descr="1(2)"/>
          <p:cNvPicPr/>
          <p:nvPr/>
        </p:nvPicPr>
        <p:blipFill>
          <a:blip r:embed="rId2"/>
          <a:stretch/>
        </p:blipFill>
        <p:spPr>
          <a:xfrm>
            <a:off x="3886200" y="304920"/>
            <a:ext cx="4853160" cy="62481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6" descr="йййй"/>
          <p:cNvPicPr/>
          <p:nvPr/>
        </p:nvPicPr>
        <p:blipFill>
          <a:blip r:embed="rId3"/>
          <a:stretch/>
        </p:blipFill>
        <p:spPr>
          <a:xfrm>
            <a:off x="533520" y="2895480"/>
            <a:ext cx="350496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380520"/>
            <a:ext cx="83883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Picture 4" descr="19196638_K_41"/>
          <p:cNvPicPr/>
          <p:nvPr/>
        </p:nvPicPr>
        <p:blipFill>
          <a:blip r:embed="rId1"/>
          <a:stretch/>
        </p:blipFill>
        <p:spPr>
          <a:xfrm>
            <a:off x="533520" y="457200"/>
            <a:ext cx="4292640" cy="58672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6" descr="71617296_1299359920_smayl"/>
          <p:cNvPicPr/>
          <p:nvPr/>
        </p:nvPicPr>
        <p:blipFill>
          <a:blip r:embed="rId2"/>
          <a:stretch/>
        </p:blipFill>
        <p:spPr>
          <a:xfrm>
            <a:off x="4648320" y="3276720"/>
            <a:ext cx="4267080" cy="30207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8" descr="ClappingHands"/>
          <p:cNvPicPr/>
          <p:nvPr/>
        </p:nvPicPr>
        <p:blipFill>
          <a:blip r:embed="rId3"/>
          <a:stretch/>
        </p:blipFill>
        <p:spPr>
          <a:xfrm>
            <a:off x="4800600" y="533520"/>
            <a:ext cx="358128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100000">
              <a:srgbClr val="99ff66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ff0000"/>
                </a:solidFill>
                <a:uFillTx/>
                <a:latin typeface="Arial Black"/>
              </a:rPr>
              <a:t>Здоровый человек!</a:t>
            </a: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37720" y="1143000"/>
            <a:ext cx="8007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Здоровый человек живёт полноценной жизнью и приносит большую пользу обществу. Здоровый образ жизни – система поведения человека, включая физическую культуру, творчество, высоконравственное отношение ко всему окружающему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3851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b7"/>
                </a:solidFill>
                <a:latin typeface="Arial Black"/>
              </a:rPr>
              <a:t>Влияние социальной среды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33520" y="9144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На человека также воздействует социальная среда. Например, малыши пытаются копировать взрослых, для подростков важно мнение сверстников. Но влияние окружающих может быть не только положительным, но и отрицательны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Picture 5" descr="Социальные сети"/>
          <p:cNvPicPr/>
          <p:nvPr/>
        </p:nvPicPr>
        <p:blipFill>
          <a:blip r:embed="rId1"/>
          <a:stretch/>
        </p:blipFill>
        <p:spPr>
          <a:xfrm>
            <a:off x="4267080" y="3962520"/>
            <a:ext cx="3962520" cy="256536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5" descr="i?id=223588157&amp;tov=0"/>
          <p:cNvPicPr/>
          <p:nvPr/>
        </p:nvPicPr>
        <p:blipFill>
          <a:blip r:embed="rId1"/>
          <a:stretch/>
        </p:blipFill>
        <p:spPr>
          <a:xfrm>
            <a:off x="0" y="-187200"/>
            <a:ext cx="9144000" cy="7045200"/>
          </a:xfrm>
          <a:prstGeom prst="rect">
            <a:avLst/>
          </a:prstGeom>
          <a:ln w="0">
            <a:noFill/>
          </a:ln>
        </p:spPr>
      </p:pic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819520" y="-45756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ff0000"/>
                </a:solidFill>
                <a:uFillTx/>
                <a:latin typeface="Arial Black"/>
              </a:rPr>
              <a:t>Порок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Физический, психический, моральный и экономический ущерб человеку и обществу наносят пьянство, алкоголизм, наркомания, курение.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WordArt 2"/>
          <p:cNvSpPr txBox="1"/>
          <p:nvPr/>
        </p:nvSpPr>
        <p:spPr>
          <a:xfrm>
            <a:off x="395280" y="476280"/>
            <a:ext cx="741672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опробуй - пробуют все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55" name="Picture 3" descr="Картинка 77 из 146690"/>
          <p:cNvPicPr/>
          <p:nvPr/>
        </p:nvPicPr>
        <p:blipFill>
          <a:blip r:embed="rId1"/>
          <a:stretch/>
        </p:blipFill>
        <p:spPr>
          <a:xfrm>
            <a:off x="1258920" y="1762200"/>
            <a:ext cx="6840360" cy="50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WordArt 2"/>
          <p:cNvSpPr txBox="1"/>
          <p:nvPr/>
        </p:nvSpPr>
        <p:spPr>
          <a:xfrm>
            <a:off x="611280" y="333360"/>
            <a:ext cx="792144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опробуй-вредных последствий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не будет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57" name="Picture 3" descr="Картинка 92 из 146690"/>
          <p:cNvPicPr/>
          <p:nvPr/>
        </p:nvPicPr>
        <p:blipFill>
          <a:blip r:embed="rId1"/>
          <a:stretch/>
        </p:blipFill>
        <p:spPr>
          <a:xfrm>
            <a:off x="2195640" y="1928880"/>
            <a:ext cx="5545080" cy="49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100000">
              <a:srgbClr val="99ff66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3851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Comic Sans MS"/>
              </a:rPr>
              <a:t>Задачи урок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8007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Дать представление, что такое здоровый образ жизни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Убедить учащихся о необходимости быть здоровым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Объяснить роль здорового образа жизни и деятельности человека, развитии общества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Выяснить факторы здоровь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WordArt 2"/>
          <p:cNvSpPr txBox="1"/>
          <p:nvPr/>
        </p:nvSpPr>
        <p:spPr>
          <a:xfrm>
            <a:off x="1332000" y="404640"/>
            <a:ext cx="619128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опробуй, если не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онравится прекрати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риём.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59" name="Picture 3" descr="Картинка 110 из 146690"/>
          <p:cNvPicPr/>
          <p:nvPr/>
        </p:nvPicPr>
        <p:blipFill>
          <a:blip r:embed="rId1"/>
          <a:stretch/>
        </p:blipFill>
        <p:spPr>
          <a:xfrm>
            <a:off x="900000" y="2612880"/>
            <a:ext cx="7093080" cy="424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WordArt 2"/>
          <p:cNvSpPr txBox="1"/>
          <p:nvPr/>
        </p:nvSpPr>
        <p:spPr>
          <a:xfrm>
            <a:off x="755640" y="476280"/>
            <a:ext cx="4638600" cy="1554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У пьяного ум слепой.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61" name="Picture 3" descr="Картинка 1 из 146690"/>
          <p:cNvPicPr/>
          <p:nvPr/>
        </p:nvPicPr>
        <p:blipFill>
          <a:blip r:embed="rId1"/>
          <a:stretch/>
        </p:blipFill>
        <p:spPr>
          <a:xfrm>
            <a:off x="1763640" y="1943280"/>
            <a:ext cx="7380360" cy="49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WordArt 2"/>
          <p:cNvSpPr txBox="1"/>
          <p:nvPr/>
        </p:nvSpPr>
        <p:spPr>
          <a:xfrm>
            <a:off x="1187280" y="333360"/>
            <a:ext cx="662004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ино полюбил - семью разорил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63" name="Picture 3" descr="Картинка 19 из 59"/>
          <p:cNvPicPr/>
          <p:nvPr/>
        </p:nvPicPr>
        <p:blipFill>
          <a:blip r:embed="rId1"/>
          <a:stretch/>
        </p:blipFill>
        <p:spPr>
          <a:xfrm>
            <a:off x="971640" y="1333440"/>
            <a:ext cx="7380360" cy="552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Факторы здоровья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37720" y="1143000"/>
            <a:ext cx="8007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ПОР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АВИЛЬНОЕ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ИТА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ВЕЖИЙ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ОЗДУ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ХОРОШЕЕ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СТРОЕ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ЕЖИМ ДН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АКАЛИВА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Picture 8" descr="11"/>
          <p:cNvPicPr/>
          <p:nvPr/>
        </p:nvPicPr>
        <p:blipFill>
          <a:blip r:embed="rId1"/>
          <a:stretch/>
        </p:blipFill>
        <p:spPr>
          <a:xfrm>
            <a:off x="4267080" y="1295280"/>
            <a:ext cx="4648320" cy="4876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67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898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898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898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898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898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898" fill="hold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898" fill="hold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898" fill="hold"/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898" fill="hold"/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Picture 4" descr="Картинка 11 из 99837"/>
          <p:cNvPicPr/>
          <p:nvPr/>
        </p:nvPicPr>
        <p:blipFill>
          <a:blip r:embed="rId1"/>
          <a:stretch/>
        </p:blipFill>
        <p:spPr>
          <a:xfrm>
            <a:off x="380880" y="304920"/>
            <a:ext cx="8458200" cy="579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7" descr="Картинка 18 из 1392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-123840"/>
            <a:ext cx="9296280" cy="698184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omic Sans MS"/>
              </a:rPr>
              <a:t>Каждому хочется быть умным, красивым, сильным, здоровым. На протяжении веков люди вырабатывали правила оптимального поведения, следуя которым можно с наибольшей эффективностью поддерживать здоровье тела и духа. Ещё в 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XIX</a:t>
            </a:r>
            <a:r>
              <a:rPr b="0" lang="ru-RU" sz="3200" spc="-1" strike="noStrike">
                <a:solidFill>
                  <a:srgbClr val="0000ff"/>
                </a:solidFill>
                <a:latin typeface="Comic Sans MS"/>
              </a:rPr>
              <a:t> в. Артур Шопенгауэр говорил: «Вообще 9/10 нашего счастья основано на здоровье. При нем всё становится источником наслаждения, тогда как без него решительно никакое внешнее благо не может доставить удовольствия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00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3851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6600"/>
                </a:solidFill>
                <a:latin typeface="Arial Black"/>
              </a:rPr>
              <a:t>Викторин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914400"/>
            <a:ext cx="80074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00"/>
                </a:solidFill>
                <a:latin typeface="Arial"/>
              </a:rPr>
              <a:t>1.Согласны ли вы, что зарядка – источник бодрости и здоровья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00"/>
                </a:solidFill>
                <a:latin typeface="Arial"/>
              </a:rPr>
              <a:t>2.Верно ли, что жевательная резинка сохраняет зубы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00"/>
                </a:solidFill>
                <a:latin typeface="Arial"/>
              </a:rPr>
              <a:t>3.Верно ли, что кактусы снимают излучение от компьютера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00"/>
                </a:solidFill>
                <a:latin typeface="Arial"/>
              </a:rPr>
              <a:t>4.Верно ли, что от курения ежегодно погибает более  10 000 человек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00"/>
                </a:solidFill>
                <a:latin typeface="Arial"/>
              </a:rPr>
              <a:t>5.Правда ли, что съев банан поднимается настроение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00"/>
                </a:solidFill>
                <a:latin typeface="Arial"/>
              </a:rPr>
              <a:t>6.Верно ли, что морковь замедляет процесс старения организма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00"/>
                </a:solidFill>
                <a:latin typeface="Arial"/>
              </a:rPr>
              <a:t>7.Правда ли, что есть безвредные наркотики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7720" y="457200"/>
            <a:ext cx="800748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00"/>
                </a:solidFill>
                <a:latin typeface="Arial"/>
              </a:rPr>
              <a:t>8.Отказаться от курения легко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00"/>
                </a:solidFill>
                <a:latin typeface="Arial"/>
              </a:rPr>
              <a:t>9.Правда ли, что молоко полезнее йогурта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00"/>
                </a:solidFill>
                <a:latin typeface="Arial"/>
              </a:rPr>
              <a:t>10.Взрослые чаще, чем дети, ломают ноги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00"/>
                </a:solidFill>
                <a:latin typeface="Arial"/>
              </a:rPr>
              <a:t>11.Правда ли, что недостаток солнца вызывает депрессию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00"/>
                </a:solidFill>
                <a:latin typeface="Arial"/>
              </a:rPr>
              <a:t>12.Правда ли, что летом можно запастись витаминами на целый год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00"/>
                </a:solidFill>
                <a:latin typeface="Arial"/>
              </a:rPr>
              <a:t>13.Правда ли, что детям до 15 лет нельзя заниматься тяжёлой атлетикой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00"/>
                </a:solidFill>
                <a:latin typeface="Arial"/>
              </a:rPr>
              <a:t>14.Правда ли, что ежедневно надо выпить 2 стакана молока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00"/>
                </a:solidFill>
                <a:latin typeface="Arial"/>
              </a:rPr>
              <a:t>15.Правда ли, что ребёнку достаточно спать ночью 8 часов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518148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Фактор здоровья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520" y="228600"/>
            <a:ext cx="80071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Picture 9" descr="Веселая-зарядка"/>
          <p:cNvPicPr/>
          <p:nvPr/>
        </p:nvPicPr>
        <p:blipFill>
          <a:blip r:embed="rId1"/>
          <a:stretch/>
        </p:blipFill>
        <p:spPr>
          <a:xfrm>
            <a:off x="533520" y="228600"/>
            <a:ext cx="8001000" cy="477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9" descr="Картинка 14 из 1384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4920" y="152280"/>
            <a:ext cx="8305560" cy="655344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5050"/>
                </a:solidFill>
                <a:latin typeface="Comic Sans MS"/>
              </a:rPr>
              <a:t>Поднимите, пожалуйста руки, кто никогда не болел. А кто болел один раза в году? А кто два и более раз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5050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ff5050"/>
                </a:solidFill>
                <a:latin typeface="Comic Sans MS"/>
              </a:rPr>
              <a:t>Посмотрите, мы привыкли к тому, что человеку естественно болеть! А ведь это неверная установка! Давайте изменим установку и запомним: что человеку естественно быть здоровым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5" descr="Картинка 4 из 183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-146160"/>
            <a:ext cx="9144000" cy="7004160"/>
          </a:xfrm>
          <a:prstGeom prst="rect">
            <a:avLst/>
          </a:prstGeom>
          <a:ln w="0">
            <a:noFill/>
          </a:ln>
        </p:spPr>
      </p:pic>
      <p:sp>
        <p:nvSpPr>
          <p:cNvPr id="113" name="Line 7"/>
          <p:cNvSpPr/>
          <p:nvPr/>
        </p:nvSpPr>
        <p:spPr>
          <a:xfrm flipH="1">
            <a:off x="685800" y="1676520"/>
            <a:ext cx="7315200" cy="373356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Line 8"/>
          <p:cNvSpPr/>
          <p:nvPr/>
        </p:nvSpPr>
        <p:spPr>
          <a:xfrm>
            <a:off x="1066680" y="1676520"/>
            <a:ext cx="7391520" cy="373356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omic Sans MS"/>
              </a:rPr>
              <a:t>Сегодня медики утверждают: здоровье человека на 10% зависит от наследственности, на 5% от работы медиков. Остальные 85 % в руках самого человека. Значит, наше здоровье зависит от наших привычек, от наших усилий по его укреплению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50000">
              <a:srgbClr val="47762f"/>
            </a:gs>
            <a:gs pos="100000">
              <a:srgbClr val="99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380880" y="380520"/>
            <a:ext cx="87631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Ученые доказывают, что человек должен жить 150-200 лет! Так, например, древние греки (пеласги) считали, что умереть в 70 лет- это почти то же самое, что умереть в колыбели. Как свидетельствуют историки, продолжительность жизни пеласгов составляла около 200 лет. При этом до конца своих дней они сохраняли жизненные силы и не седел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Олег</cp:lastModifiedBy>
  <dcterms:modified xsi:type="dcterms:W3CDTF">2012-01-19T18:12:16Z</dcterms:modified>
  <cp:revision>4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