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77C6-A39D-4542-9C7F-7DC0D085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74EE-DF0B-4CBC-A374-6FE53AAC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7E17-8485-4B15-AAE6-C4965CC4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98A5-7213-4D22-A022-3B9ACB65C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A1B4-A5FD-496F-A7DD-596CE41B9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9E97-8C15-4786-AEF4-0CCBF10D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4BD7-35D2-4733-9939-2266F9F9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1146-E930-4E20-B0CF-7D25ACEF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17DD-A24C-4DA4-85CC-2BB01F9B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C682-F835-4171-B461-836EC17A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6329-D828-477F-B976-913727EC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74F9-E9A6-4679-84F4-F06FE550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FFFB-0227-4210-8DC8-B926C9BF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D7A4-8ED6-4168-8F97-4BBD346E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7F95-C3ED-437A-913E-96B51B09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67E4-A696-4969-A3E2-23D322DC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F737-9CC1-47E3-A547-5FF5FB2A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AC01-5CE1-4D2C-A90F-6819E588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09DB-E939-442E-99B9-D684C078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3DF6-AD5F-4EFB-ADE8-30E7AD96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9A25-69A9-4FBD-8F62-1B1AED30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6663-69FB-4191-884E-DE140286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C60D-A521-482F-A050-50359D66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7268-5CD3-4289-82E5-D02BBEB2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B185-E8F3-4523-A0EF-4CFCCC4B3C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2EAF-6547-4BE0-827E-2DA2F8E5C11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orum.hayastan.com/uploads/monthly_03_2008/post-23605-120561935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ownload.loveradio.ru/pub/16426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rod.tomsk.ru/2007/jul/mens_weekend6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9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 Black"/>
              </a:rPr>
              <a:t>Здоровый образ жизни-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основа счастливого человека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Автор разработк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Козлова Ирина Алексеевна учитель географии и биологии МАОУСОШ № 8 города Старая Русса Новгородской области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99ff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i?id=66083871&amp;tov=4"/>
          <p:cNvPicPr/>
          <p:nvPr/>
        </p:nvPicPr>
        <p:blipFill>
          <a:blip r:embed="rId1"/>
          <a:stretch/>
        </p:blipFill>
        <p:spPr>
          <a:xfrm rot="3353400">
            <a:off x="3645000" y="1916640"/>
            <a:ext cx="3059280" cy="45594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Как закаляться, чтобы не простужаться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ужно закаливаться постепенно, начиная с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екунд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заканчива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минут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вильное пит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о только поколение правильно питающихся людей возродит человечество и сделает болезни столь редким явлением, что на них будут смотреть, как на нечто необыкновенное. А молодому растущему организму еженедельно требуется 30 видов разнообразных продуктов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i?id=185658569&amp;tov=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i?id=37165832&amp;tov=6"/>
          <p:cNvPicPr/>
          <p:nvPr/>
        </p:nvPicPr>
        <p:blipFill>
          <a:blip r:embed="rId2"/>
          <a:stretch/>
        </p:blipFill>
        <p:spPr>
          <a:xfrm rot="21095400">
            <a:off x="2133360" y="5358960"/>
            <a:ext cx="1904760" cy="149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i?id=85282625&amp;tov=0"/>
          <p:cNvPicPr/>
          <p:nvPr/>
        </p:nvPicPr>
        <p:blipFill>
          <a:blip r:embed="rId3"/>
          <a:stretch/>
        </p:blipFill>
        <p:spPr>
          <a:xfrm>
            <a:off x="6934320" y="4267080"/>
            <a:ext cx="1768320" cy="226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i?id=5574096&amp;tov=4"/>
          <p:cNvPicPr/>
          <p:nvPr/>
        </p:nvPicPr>
        <p:blipFill>
          <a:blip r:embed="rId4"/>
          <a:stretch/>
        </p:blipFill>
        <p:spPr>
          <a:xfrm rot="1306800">
            <a:off x="3657240" y="4267080"/>
            <a:ext cx="3124080" cy="197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i?id=145498711&amp;tov=8"/>
          <p:cNvPicPr/>
          <p:nvPr/>
        </p:nvPicPr>
        <p:blipFill>
          <a:blip r:embed="rId5"/>
          <a:stretch/>
        </p:blipFill>
        <p:spPr>
          <a:xfrm rot="1613400">
            <a:off x="304560" y="3276720"/>
            <a:ext cx="1460520" cy="1733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?id=93127506&amp;tov=3"/>
          <p:cNvPicPr/>
          <p:nvPr/>
        </p:nvPicPr>
        <p:blipFill>
          <a:blip r:embed="rId6"/>
          <a:stretch/>
        </p:blipFill>
        <p:spPr>
          <a:xfrm rot="20946600">
            <a:off x="5181120" y="380520"/>
            <a:ext cx="1847880" cy="188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i?id=7758744&amp;tov=8"/>
          <p:cNvPicPr/>
          <p:nvPr/>
        </p:nvPicPr>
        <p:blipFill>
          <a:blip r:embed="rId7"/>
          <a:stretch/>
        </p:blipFill>
        <p:spPr>
          <a:xfrm>
            <a:off x="3276720" y="1828800"/>
            <a:ext cx="5105160" cy="260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i?id=43421940&amp;tov=6"/>
          <p:cNvPicPr/>
          <p:nvPr/>
        </p:nvPicPr>
        <p:blipFill>
          <a:blip r:embed="rId8"/>
          <a:stretch/>
        </p:blipFill>
        <p:spPr>
          <a:xfrm rot="1992000">
            <a:off x="6171840" y="13716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i?id=182888925&amp;tov=8"/>
          <p:cNvPicPr/>
          <p:nvPr/>
        </p:nvPicPr>
        <p:blipFill>
          <a:blip r:embed="rId9"/>
          <a:stretch/>
        </p:blipFill>
        <p:spPr>
          <a:xfrm rot="1421400">
            <a:off x="3048120" y="533520"/>
            <a:ext cx="2114280" cy="159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i?id=83248998&amp;tov=0"/>
          <p:cNvPicPr/>
          <p:nvPr/>
        </p:nvPicPr>
        <p:blipFill>
          <a:blip r:embed="rId10"/>
          <a:stretch/>
        </p:blipFill>
        <p:spPr>
          <a:xfrm>
            <a:off x="0" y="509112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i?id=71550800&amp;tov=3"/>
          <p:cNvPicPr/>
          <p:nvPr/>
        </p:nvPicPr>
        <p:blipFill>
          <a:blip r:embed="rId11"/>
          <a:stretch/>
        </p:blipFill>
        <p:spPr>
          <a:xfrm rot="19867200">
            <a:off x="1523880" y="4114800"/>
            <a:ext cx="228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i?id=50199848&amp;tov=0"/>
          <p:cNvPicPr/>
          <p:nvPr/>
        </p:nvPicPr>
        <p:blipFill>
          <a:blip r:embed="rId12"/>
          <a:stretch/>
        </p:blipFill>
        <p:spPr>
          <a:xfrm>
            <a:off x="1676520" y="2514600"/>
            <a:ext cx="2352600" cy="1776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i?id=50983686&amp;tov=3"/>
          <p:cNvPicPr/>
          <p:nvPr/>
        </p:nvPicPr>
        <p:blipFill>
          <a:blip r:embed="rId13"/>
          <a:stretch/>
        </p:blipFill>
        <p:spPr>
          <a:xfrm rot="19927800">
            <a:off x="380880" y="990360"/>
            <a:ext cx="2862360" cy="2235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i?id=203930939&amp;tov=6"/>
          <p:cNvPicPr/>
          <p:nvPr/>
        </p:nvPicPr>
        <p:blipFill>
          <a:blip r:embed="rId14"/>
          <a:stretch/>
        </p:blipFill>
        <p:spPr>
          <a:xfrm>
            <a:off x="304920" y="-152280"/>
            <a:ext cx="2743200" cy="155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86169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2222222"/>
          <p:cNvPicPr/>
          <p:nvPr/>
        </p:nvPicPr>
        <p:blipFill>
          <a:blip r:embed="rId1"/>
          <a:stretch/>
        </p:blipFill>
        <p:spPr>
          <a:xfrm>
            <a:off x="533520" y="304920"/>
            <a:ext cx="3657600" cy="2617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1(2)"/>
          <p:cNvPicPr/>
          <p:nvPr/>
        </p:nvPicPr>
        <p:blipFill>
          <a:blip r:embed="rId2"/>
          <a:stretch/>
        </p:blipFill>
        <p:spPr>
          <a:xfrm>
            <a:off x="3886200" y="304920"/>
            <a:ext cx="4853160" cy="6248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йййй"/>
          <p:cNvPicPr/>
          <p:nvPr/>
        </p:nvPicPr>
        <p:blipFill>
          <a:blip r:embed="rId3"/>
          <a:stretch/>
        </p:blipFill>
        <p:spPr>
          <a:xfrm>
            <a:off x="533520" y="2895480"/>
            <a:ext cx="350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380520"/>
            <a:ext cx="8388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19196638_K_41"/>
          <p:cNvPicPr/>
          <p:nvPr/>
        </p:nvPicPr>
        <p:blipFill>
          <a:blip r:embed="rId1"/>
          <a:stretch/>
        </p:blipFill>
        <p:spPr>
          <a:xfrm>
            <a:off x="533520" y="457200"/>
            <a:ext cx="4292640" cy="586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71617296_1299359920_smayl"/>
          <p:cNvPicPr/>
          <p:nvPr/>
        </p:nvPicPr>
        <p:blipFill>
          <a:blip r:embed="rId2"/>
          <a:stretch/>
        </p:blipFill>
        <p:spPr>
          <a:xfrm>
            <a:off x="4648320" y="3276720"/>
            <a:ext cx="4267080" cy="3020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lappingHands"/>
          <p:cNvPicPr/>
          <p:nvPr/>
        </p:nvPicPr>
        <p:blipFill>
          <a:blip r:embed="rId3"/>
          <a:stretch/>
        </p:blipFill>
        <p:spPr>
          <a:xfrm>
            <a:off x="4800600" y="533520"/>
            <a:ext cx="35812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Здоровый человек!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доровый человек живёт полноценной жизнью и приносит большую пользу обществу. Здоровый образ жизни – система поведения человека, включая физическую культуру, творчество, высоконравственное отношение ко всему окружающем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85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лияние социальной сред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а человека также воздействует социальная среда. Например, малыши пытаются копировать взрослых, для подростков важно мнение сверстников. Но влияние окружающих может быть не только положительным, но и отрицате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Социальные сети"/>
          <p:cNvPicPr/>
          <p:nvPr/>
        </p:nvPicPr>
        <p:blipFill>
          <a:blip r:embed="rId1"/>
          <a:stretch/>
        </p:blipFill>
        <p:spPr>
          <a:xfrm>
            <a:off x="4267080" y="3962520"/>
            <a:ext cx="3962520" cy="2565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?id=223588157&amp;tov=0"/>
          <p:cNvPicPr/>
          <p:nvPr/>
        </p:nvPicPr>
        <p:blipFill>
          <a:blip r:embed="rId1"/>
          <a:stretch/>
        </p:blipFill>
        <p:spPr>
          <a:xfrm>
            <a:off x="0" y="-187200"/>
            <a:ext cx="9144000" cy="7045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520" y="-4575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Поро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Физический, психический, моральный и экономический ущерб человеку и обществу наносят пьянство, алкоголизм, наркомания, курение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395280" y="476280"/>
            <a:ext cx="741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 - пробуют вс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5" name="Picture 3" descr="Картинка 77 из 146690"/>
          <p:cNvPicPr/>
          <p:nvPr/>
        </p:nvPicPr>
        <p:blipFill>
          <a:blip r:embed="rId1"/>
          <a:stretch/>
        </p:blipFill>
        <p:spPr>
          <a:xfrm>
            <a:off x="1258920" y="1762200"/>
            <a:ext cx="68403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2"/>
          <p:cNvSpPr txBox="1"/>
          <p:nvPr/>
        </p:nvSpPr>
        <p:spPr>
          <a:xfrm>
            <a:off x="611280" y="333360"/>
            <a:ext cx="7921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-вредных последств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буд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7" name="Picture 3" descr="Картинка 92 из 146690"/>
          <p:cNvPicPr/>
          <p:nvPr/>
        </p:nvPicPr>
        <p:blipFill>
          <a:blip r:embed="rId1"/>
          <a:stretch/>
        </p:blipFill>
        <p:spPr>
          <a:xfrm>
            <a:off x="2195640" y="1928880"/>
            <a:ext cx="5545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Comic Sans MS"/>
              </a:rPr>
              <a:t>Задачи уро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ать представление, что такое здоровый образ жизн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бедить учащихся о необходимости быть здоровы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ъяснить роль здорового образа жизни и деятельности человека, развитии общ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ыяснить факторы здоров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332000" y="404640"/>
            <a:ext cx="6191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, если н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нравится прекрат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ём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Picture 3" descr="Картинка 110 из 146690"/>
          <p:cNvPicPr/>
          <p:nvPr/>
        </p:nvPicPr>
        <p:blipFill>
          <a:blip r:embed="rId1"/>
          <a:stretch/>
        </p:blipFill>
        <p:spPr>
          <a:xfrm>
            <a:off x="900000" y="2612880"/>
            <a:ext cx="70930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755640" y="476280"/>
            <a:ext cx="463860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 пьяного ум слепой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1" name="Picture 3" descr="Картинка 1 из 146690"/>
          <p:cNvPicPr/>
          <p:nvPr/>
        </p:nvPicPr>
        <p:blipFill>
          <a:blip r:embed="rId1"/>
          <a:stretch/>
        </p:blipFill>
        <p:spPr>
          <a:xfrm>
            <a:off x="1763640" y="1943280"/>
            <a:ext cx="738036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187280" y="333360"/>
            <a:ext cx="66200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ино полюбил - семью разори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3" name="Picture 3" descr="Картинка 19 из 59"/>
          <p:cNvPicPr/>
          <p:nvPr/>
        </p:nvPicPr>
        <p:blipFill>
          <a:blip r:embed="rId1"/>
          <a:stretch/>
        </p:blipFill>
        <p:spPr>
          <a:xfrm>
            <a:off x="971640" y="1333440"/>
            <a:ext cx="73803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ы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Ж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Е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РО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ЖИМ Д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АЛИ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11"/>
          <p:cNvPicPr/>
          <p:nvPr/>
        </p:nvPicPr>
        <p:blipFill>
          <a:blip r:embed="rId1"/>
          <a:stretch/>
        </p:blipFill>
        <p:spPr>
          <a:xfrm>
            <a:off x="4267080" y="1295280"/>
            <a:ext cx="464832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Картинка 11 из 99837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Картинка 18 из 13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23840"/>
            <a:ext cx="9296280" cy="6981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Каждому хочется быть умным, красивым, сильным, здоровым. На протяжении веков люди вырабатывали правила оптимального поведения, следуя которым можно с наибольшей эффективностью поддерживать здоровье тела и духа. Ещё в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XIX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в. Артур Шопенгауэр говорил: «Вообще 9/10 нашего счастья основано на здоровье. При нем всё становится источником наслаждения, тогда как без него решительно никакое внешнее благо не может доставить удовольств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 Black"/>
              </a:rPr>
              <a:t>Виктори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914400"/>
            <a:ext cx="8007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.Согласны ли вы, что зарядка – источник бодрости и здоровь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2.Верно ли, что жевательная резинка сохраняет зуб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3.Верно ли, что кактусы снимают излучение от компьютер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4.Верно ли, что от курения ежегодно погибает более  10 000 человек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5.Правда ли, что съев банан поднимается настроени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6.Верно ли, что морковь замедляет процесс старения организм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7.Правда ли, что есть безвредные наркотик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45720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8.Отказаться от курения легк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9.Правда ли, что молоко полезнее йогурт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0.Взрослые чаще, чем дети, ломают ног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1.Правда ли, что недостаток солнца вызывает депрессию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2.Правда ли, что летом можно запастись витаминами на целый год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3.Правда ли, что детям до 15 лет нельзя заниматься тяжёлой атлетикой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4.Правда ли, что ежедневно надо выпить 2 стакана молок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5.Правда ли, что ребёнку достаточно спать ночью 8 часов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51814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286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9" descr="Веселая-зарядка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Картинка 14 из 138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52280"/>
            <a:ext cx="8305560" cy="6553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днимите, пожалуйста руки, кто никогда не болел. А кто болел один раза в году? А кто два и более раз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смотрите, мы привыкли к тому, что человеку естественно болеть! А ведь это неверная установка! Давайте изменим установку и запомним: что человеку естественно быть здоровы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Картинка 4 из 18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616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H="1">
            <a:off x="685800" y="1676520"/>
            <a:ext cx="731520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1066680" y="1676520"/>
            <a:ext cx="739152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Сегодня медики утверждают: здоровье человека на 10% зависит от наследственности, на 5% от работы медиков. Остальные 85 % в руках самого человека. Значит, наше здоровье зависит от наших привычек, от наших усилий по его укрепл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47762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ченые доказывают, что человек должен жить 150-200 лет! Так, например, древние греки (пеласги) считали, что умереть в 70 лет- это почти то же самое, что умереть в колыбели. Как свидетельствуют историки, продолжительность жизни пеласгов составляла около 200 лет. При этом до конца своих дней они сохраняли жизненные силы и не сед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9T18:12:16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