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50E-C05F-4C6C-8E9D-561B47DF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678-0890-45E7-9E3E-F57E95A0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3D62-B1E8-4C72-B646-BC12502F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AFC-B90E-4610-A3A6-671003F1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0936-6D57-4CD8-95EA-4ABB5F79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3A9F-7EBC-4A18-8DF5-8335ED69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A08E-B311-43A3-B456-61102B5D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2ED5-2CEA-44B4-B02A-292C1DF7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1AC9-F857-4D30-B61E-6DAA045F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C5B9-8CE8-4C74-8C9C-149CA28A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AE31-901B-4365-A86D-A74C50DD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579-8B86-439C-92B5-70698FAF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D849-5A15-4745-8554-873F92C6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C72D-720C-419A-8FBB-047E6FB6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B35D-56B3-4FDF-BFB9-9694E63B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D0D2-EC8F-4926-8AD3-F8E6D037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954E-999B-4DA8-9BC6-5BC6EEDC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ABB0-7495-4604-9288-2D38031A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80C1-2076-4F39-9F00-5CEF2F1B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32C-2684-424C-A9C8-C463F37C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676-68DB-41D9-AE55-04A96F2A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B80-BE4D-4DF6-963E-8DB59289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75C-8CE2-4A06-AFE5-5E799759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A5F-02C0-457A-B073-8267E310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40B5-22F5-44B4-BEF6-9415CEBFBF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4896-3191-4A9F-93AD-CFF448CBF7CF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00"/>
                </a:solidFill>
                <a:latin typeface="Times New Roman"/>
              </a:rPr>
              <a:t>Новые виды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Приходько Альбина Анатол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МОУ «Дубровская СОШ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Бактерии в лаке для волос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icrobacterium hatanonis – новый вид экстремофильных (то есть способных жить и размножаться в экстремальных условиях среды) бактерий, обнаруженный в лаке для воло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643280" y="198756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альма, которая цветет до смерти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ahina spectabilis – новый вид и род пальм, обнаруженных в северо-западной части острова Мадагаскар. Известно всего около 100 экземпляров этого удивительного дерева, которое образует гигантские соцветия, и после плодоношения умирает. Новый вид весьма далек в родственном отношении от остальных 170 видов пальм Мадагаскара, зато близок к нескольким видам, произрастающим в Азии (фото – John Dransfiel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03280" y="4581360"/>
            <a:ext cx="58881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игантский палочни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hobaeticus chain – самое длинное в мире насекомое, с длиной тела 35,6 см и общей длиной (включая ноги) 56,7 см. Этот гигант относится к отряду палочников и обитает в Малаз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8483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рошечный морской конек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ippocampus satomiae – самый маленький известный представитель морских коньков, достигающий всего лишь 1,38 см в длину и обитающий в Индонез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19280" y="4087800"/>
            <a:ext cx="60483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Барбадосская змея-нит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ptotyphlops carlae – самая маленькая в мире змея, не превышающая в длину 10,4 см. Она была обнаружена на Антильских островах и получила свое название в честь жены исследователя, Карлы Анн Х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7070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лизень-привидение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nochlamys ysbryda – хищный слизень, ведущий ночной образ жизни, и впервые обнаруженный в одном из наиболее хорошо изученных районов Уэльса (Великобритания). Видовое название "ysbryda" по-валлийски означает "привидение" или "дух" (фото – Ben Rowson). Также показаны лезвия зубов, каждое 0.5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763640" y="4186080"/>
            <a:ext cx="58327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Червеобразная улитк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Opisthostoma vermiculum – необычный брюхоногий моллюск, раковина которого закручивается сразу по четырем осям. К тому же обороты раковинки опистосомы три раза отделаются друг от друга и два раза срастаются обратно, формируя уникальный по своему строению домик. В норме спирально закрученные раковины улиток имею всего три оси и приросшие друг к другу обороты раков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218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амая древняя живородящая рыб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piscis attenboroughi, или рыба-мама, жила около 380 миллионов лет назад, и ее ископаемые остатки были обнаружены в западной Австралии. Интересным является тот факт что "рыба-мама" сохранилась в ископаемом состоянии в процессе произведения на свет своего детеныша, что является редчайшей находкой и одновременно самыми первыми зарегистрированными родами среди позвоночных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8172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фе без кофеин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offea charrieriana – новый вид бескофеинового кофе, произрастающий в Камеруне. Камерун является центром видового разнообразия кофе и новый дикий вид, возможно, будет использоваться для создания культурных сортов кофе, не содержащих кофе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619280" y="4292640"/>
            <a:ext cx="6264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6:50:47Z</dcterms:created>
  <dc:creator>Маша</dc:creator>
  <dc:description/>
  <dc:language>en-US</dc:language>
  <cp:lastModifiedBy>Олег</cp:lastModifiedBy>
  <dcterms:modified xsi:type="dcterms:W3CDTF">2011-12-01T17:06:28Z</dcterms:modified>
  <cp:revision>8</cp:revision>
  <dc:subject/>
  <dc:title>Новые виды</dc:title>
</cp:coreProperties>
</file>