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9BF4-9883-448F-BF08-3E3061DE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4675-DE1E-49A6-B4B7-4C6E6184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21E1-D6BE-421B-A5CB-5C59BCB7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7D3D-6F32-462A-BC7C-C1BF06CF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6B61-3F97-4901-B52E-7EB60DA2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D411-96B8-4284-AF48-EC295EB5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3CB5-7B26-4AE4-9549-8C138C43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87DE-8346-4425-A06B-E331EB62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FB41-8649-4D22-9259-81A1420B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48A5-FC21-4473-87C9-D1474868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9830-132D-419C-96B3-544FC1C6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CD8-C5CF-46EF-AE03-7C60D1C8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E24E-6EFA-4361-B320-3967792E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53E0-7D0A-4D04-A362-B6CE08A8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5B31-3B7B-4156-BE1F-CEF4BF8B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B398-5BC1-48C9-8D19-368BE88D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B3FB-4521-48C3-B9F7-F2844C65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B8FB-EB5A-4194-AF9B-26189A83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EA9-E31B-4A4B-ABB8-EC1EA5CF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7CEF-752A-4C32-B359-8E74A78C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337E-6956-4932-A482-A70DF200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4F0-2040-4D16-A046-494463D8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656A-30EA-4754-B719-23A0568D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F93-E1EC-489C-A426-4C002E2B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F5C9-376C-433C-8347-B726CA6D148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C93F-A5A9-4C3E-9A72-FF31BFE42CD2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00"/>
                </a:solidFill>
                <a:latin typeface="Times New Roman"/>
              </a:rPr>
              <a:t>Новые виды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Приходько Альбина Анатол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МОУ «Дубровская СОШ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Бактерии в лаке для волос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icrobacterium hatanonis – новый вид экстремофильных (то есть способных жить и размножаться в экстремальных условиях среды) бактерий, обнаруженный в лаке для воло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643280" y="198756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альма, которая цветет до смерти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ahina spectabilis – новый вид и род пальм, обнаруженных в северо-западной части острова Мадагаскар. Известно всего около 100 экземпляров этого удивительного дерева, которое образует гигантские соцветия, и после плодоношения умирает. Новый вид весьма далек в родственном отношении от остальных 170 видов пальм Мадагаскара, зато близок к нескольким видам, произрастающим в Азии (фото – John Dransfiel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03280" y="4581360"/>
            <a:ext cx="58881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игантский палочни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hobaeticus chain – самое длинное в мире насекомое, с длиной тела 35,6 см и общей длиной (включая ноги) 56,7 см. Этот гигант относится к отряду палочников и обитает в Малаз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8483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рошечный морской конек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ippocampus satomiae – самый маленький известный представитель морских коньков, достигающий всего лишь 1,38 см в длину и обитающий в Индонез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19280" y="4087800"/>
            <a:ext cx="60483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Барбадосская змея-нит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ptotyphlops carlae – самая маленькая в мире змея, не превышающая в длину 10,4 см. Она была обнаружена на Антильских островах и получила свое название в честь жены исследователя, Карлы Анн Х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7070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лизень-привидение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nochlamys ysbryda – хищный слизень, ведущий ночной образ жизни, и впервые обнаруженный в одном из наиболее хорошо изученных районов Уэльса (Великобритания). Видовое название "ysbryda" по-валлийски означает "привидение" или "дух" (фото – Ben Rowson). Также показаны лезвия зубов, каждое 0.5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763640" y="4186080"/>
            <a:ext cx="58327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Червеобразная улитк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Opisthostoma vermiculum – необычный брюхоногий моллюск, раковина которого закручивается сразу по четырем осям. К тому же обороты раковинки опистосомы три раза отделаются друг от друга и два раза срастаются обратно, формируя уникальный по своему строению домик. В норме спирально закрученные раковины улиток имею всего три оси и приросшие друг к другу обороты раков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218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амая древняя живородящая рыб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piscis attenboroughi, или рыба-мама, жила около 380 миллионов лет назад, и ее ископаемые остатки были обнаружены в западной Австралии. Интересным является тот факт что "рыба-мама" сохранилась в ископаемом состоянии в процессе произведения на свет своего детеныша, что является редчайшей находкой и одновременно самыми первыми зарегистрированными родами среди позвоночных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8172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фе без кофеин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offea charrieriana – новый вид бескофеинового кофе, произрастающий в Камеруне. Камерун является центром видового разнообразия кофе и новый дикий вид, возможно, будет использоваться для создания культурных сортов кофе, не содержащих кофе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619280" y="4292640"/>
            <a:ext cx="6264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6:50:47Z</dcterms:created>
  <dc:creator>Маша</dc:creator>
  <dc:description/>
  <dc:language>en-US</dc:language>
  <cp:lastModifiedBy>Олег</cp:lastModifiedBy>
  <dcterms:modified xsi:type="dcterms:W3CDTF">2011-12-01T17:06:28Z</dcterms:modified>
  <cp:revision>8</cp:revision>
  <dc:subject/>
  <dc:title>Новые виды</dc:title>
</cp:coreProperties>
</file>