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2DB-FE06-4ED4-B83D-8ACCB83D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31E-A4FA-47F7-A9C3-7C3E25DC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904-27FD-490D-A5F1-19369C61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D200-3D88-4C36-BF08-D9776428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86B1-1A14-46D7-8A46-20E79BDB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45F1-C39C-477E-AE14-0D54BB86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BE05-8D24-42DF-B394-EFCFFDD2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2030-DE46-41D0-B0A1-D056BD3D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0845-82D4-4118-8043-ACC28641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207E-7E42-4307-AF85-C4B2F9B9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3DB4-A49B-462D-8C71-6B424967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F820-9BED-41D0-96B6-84FFB356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054B-FEB3-4E8F-9685-380C63A2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D73B-1F54-456D-8A01-BB268795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C490-8E34-4D01-8732-5021FA1F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669C-E6D3-4E32-A303-C3DE0A1D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F751-661B-4A14-ADF4-7059C5F2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B0D-15AC-4D73-BAA5-6FB52DAC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2CD-B180-48F7-A278-050E16CE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8BD-D9E2-4028-8BF0-587174B5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392-FC5A-4FF2-9265-0A1976F9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981-CDEE-422A-A2AD-BD9A3310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043-306A-4BB4-84B4-EB75F7BB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8D2-185B-4C18-9E9B-BFD28317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2876-EE15-4AE2-96DF-52F17FE25F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E7F6-8E25-412E-ACB9-32AB3CF10EF9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00"/>
                </a:solidFill>
                <a:latin typeface="Times New Roman"/>
              </a:rPr>
              <a:t>Новые виды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Приходько Альбина Анатол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МОУ «Дубровская СОШ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Бактерии в лаке для волос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icrobacterium hatanonis – новый вид экстремофильных (то есть способных жить и размножаться в экстремальных условиях среды) бактерий, обнаруженный в лаке для воло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643280" y="198756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альма, которая цветет до смерти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ahina spectabilis – новый вид и род пальм, обнаруженных в северо-западной части острова Мадагаскар. Известно всего около 100 экземпляров этого удивительного дерева, которое образует гигантские соцветия, и после плодоношения умирает. Новый вид весьма далек в родственном отношении от остальных 170 видов пальм Мадагаскара, зато близок к нескольким видам, произрастающим в Азии (фото – John Dransfiel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03280" y="4581360"/>
            <a:ext cx="58881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игантский палочни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hobaeticus chain – самое длинное в мире насекомое, с длиной тела 35,6 см и общей длиной (включая ноги) 56,7 см. Этот гигант относится к отряду палочников и обитает в Малаз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8483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рошечный морской конек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ippocampus satomiae – самый маленький известный представитель морских коньков, достигающий всего лишь 1,38 см в длину и обитающий в Индонез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19280" y="4087800"/>
            <a:ext cx="60483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Барбадосская змея-нит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ptotyphlops carlae – самая маленькая в мире змея, не превышающая в длину 10,4 см. Она была обнаружена на Антильских островах и получила свое название в честь жены исследователя, Карлы Анн Х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7070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лизень-привидение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nochlamys ysbryda – хищный слизень, ведущий ночной образ жизни, и впервые обнаруженный в одном из наиболее хорошо изученных районов Уэльса (Великобритания). Видовое название "ysbryda" по-валлийски означает "привидение" или "дух" (фото – Ben Rowson). Также показаны лезвия зубов, каждое 0.5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763640" y="4186080"/>
            <a:ext cx="58327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Червеобразная улитк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Opisthostoma vermiculum – необычный брюхоногий моллюск, раковина которого закручивается сразу по четырем осям. К тому же обороты раковинки опистосомы три раза отделаются друг от друга и два раза срастаются обратно, формируя уникальный по своему строению домик. В норме спирально закрученные раковины улиток имею всего три оси и приросшие друг к другу обороты раков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218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амая древняя живородящая рыб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piscis attenboroughi, или рыба-мама, жила около 380 миллионов лет назад, и ее ископаемые остатки были обнаружены в западной Австралии. Интересным является тот факт что "рыба-мама" сохранилась в ископаемом состоянии в процессе произведения на свет своего детеныша, что является редчайшей находкой и одновременно самыми первыми зарегистрированными родами среди позвоночных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8172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фе без кофеин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offea charrieriana – новый вид бескофеинового кофе, произрастающий в Камеруне. Камерун является центром видового разнообразия кофе и новый дикий вид, возможно, будет использоваться для создания культурных сортов кофе, не содержащих кофе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619280" y="4292640"/>
            <a:ext cx="6264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6:50:47Z</dcterms:created>
  <dc:creator>Маша</dc:creator>
  <dc:description/>
  <dc:language>en-US</dc:language>
  <cp:lastModifiedBy>Олег</cp:lastModifiedBy>
  <dcterms:modified xsi:type="dcterms:W3CDTF">2011-12-01T17:06:28Z</dcterms:modified>
  <cp:revision>8</cp:revision>
  <dc:subject/>
  <dc:title>Новые виды</dc:title>
</cp:coreProperties>
</file>