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8D8-FADD-4004-A07D-EA8081B4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094-9F32-4EEB-9DCF-49355A67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382-6DF7-479B-8E31-BE7F33E9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310-D642-4A66-8391-496C7414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438C-8D4E-4187-8F8A-F2B3B52C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E4D5-E2E5-49C5-873C-C3B685B8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52E0-F5FD-4C12-99A4-B7F9867A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A715-1B32-4B02-BD6C-966FCD6A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F469-0719-4F25-8C23-96A595FC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B4A-8A8F-453A-BC0F-AB92D91B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CFE6-36A5-4939-BD0F-8CC81BC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CB3-121C-44D9-8D99-792FFFF8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45E0-3DA3-4DBA-8C3F-1E7315F0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6E3D-DA62-4823-96D0-F1B96B6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74C3-27D4-49EB-A037-FF102342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7AB1-4008-469A-B8E8-FF4B8EEE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E457-66FC-4404-972E-3F60A8BA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685-BC2B-4B81-B475-44223B21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C76-C29A-4991-96B8-C57AB11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B34-3A9E-4BEA-B2E1-1A6FCDB7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9F5-B9B6-46F8-A680-6D2B3D63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D14-733B-43C7-8975-468CD812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07A-342B-4C27-B748-63090797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F16-0292-4268-A39C-89359B65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157B-CD08-4B89-8651-A228580DB4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B745-994C-4E2D-8001-2346DDF1EA7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00"/>
                </a:solidFill>
                <a:latin typeface="Times New Roman"/>
              </a:rPr>
              <a:t>Новые виды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Приходько Альбина Анатол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Arial"/>
              </a:rPr>
              <a:t>МОУ «Дубровская СОШ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актерии в лаке для волос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icrobacterium hatanonis – новый вид экстремофильных (то есть способных жить и размножаться в экстремальных условиях среды) бактерий, обнаруженный в лаке для воло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4643280" y="198756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Пальма, которая цветет до смерти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ahina spectabilis – новый вид и род пальм, обнаруженных в северо-западной части острова Мадагаскар. Известно всего около 100 экземпляров этого удивительного дерева, которое образует гигантские соцветия, и после плодоношения умирает. Новый вид весьма далек в родственном отношении от остальных 170 видов пальм Мадагаскара, зато близок к нескольким видам, произрастающим в Азии (фото – John Dransfiel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03280" y="4581360"/>
            <a:ext cx="5888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гантский палочник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hobaeticus chain – самое длинное в мире насекомое, с длиной тела 35,6 см и общей длиной (включая ноги) 56,7 см. Этот гигант относится к отряду палочников и обитает в Малаз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848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рошечный морской конек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ippocampus satomiae – самый маленький известный представитель морских коньков, достигающий всего лишь 1,38 см в длину и обитающий в Индонез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087800"/>
            <a:ext cx="6048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Барбадосская змея-нит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ptotyphlops carlae – самая маленькая в мире змея, не превышающая в длину 10,4 см. Она была обнаружена на Антильских островах и получила свое название в честь жены исследователя, Карлы Анн Х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707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лизень-привидение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nochlamys ysbryda – хищный слизень, ведущий ночной образ жизни, и впервые обнаруженный в одном из наиболее хорошо изученных районов Уэльса (Великобритания). Видовое название "ysbryda" по-валлийски означает "привидение" или "дух" (фото – Ben Rowson). Также показаны лезвия зубов, каждое 0.5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763640" y="4186080"/>
            <a:ext cx="583272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ервеобразная улитк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Opisthostoma vermiculum – необычный брюхоногий моллюск, раковина которого закручивается сразу по четырем осям. К тому же обороты раковинки опистосомы три раза отделаются друг от друга и два раза срастаются обратно, формируя уникальный по своему строению домик. В норме спирально закрученные раковины улиток имею всего три оси и приросшие друг к другу обороты раков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218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амая древняя живородящая рыб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piscis attenboroughi, или рыба-мама, жила около 380 миллионов лет назад, и ее ископаемые остатки были обнаружены в западной Австралии. Интересным является тот факт что "рыба-мама" сохранилась в ископаемом состоянии в процессе произведения на свет своего детеныша, что является редчайшей находкой и одновременно самыми первыми зарегистрированными родами среди позвоночных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817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фе без кофеина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offea charrieriana – новый вид бескофеинового кофе, произрастающий в Камеруне. Камерун является центром видового разнообразия кофе и новый дикий вид, возможно, будет использоваться для создания культурных сортов кофе, не содержащих кофе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619280" y="4292640"/>
            <a:ext cx="626436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6:50:47Z</dcterms:created>
  <dc:creator>Маша</dc:creator>
  <dc:description/>
  <dc:language>en-US</dc:language>
  <cp:lastModifiedBy>Олег</cp:lastModifiedBy>
  <dcterms:modified xsi:type="dcterms:W3CDTF">2011-12-01T17:06:28Z</dcterms:modified>
  <cp:revision>8</cp:revision>
  <dc:subject/>
  <dc:title>Новые виды</dc:title>
</cp:coreProperties>
</file>