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5C5-A223-4C50-98D7-6B647324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F5D-B873-4233-8032-974062FA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02A-CA6F-44D3-A7E2-6D062B55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41D-F5A8-437C-9113-2BB33CF9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093C-1E7E-4998-85BE-113D4BE6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FC6F-7A97-4C60-80CA-9C6BCA4B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9A65-EBD4-4C61-99B3-9E10608A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9527-00D3-43B1-A4E4-17B6E96B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C47D-A100-4A17-ACE3-A286DA24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26B8-9146-492B-9C7C-33AB0126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A6D7-441D-4623-8839-AEF9410B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738-EE9A-4475-A9ED-1C6DED99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0BE4-1DAF-4A81-88A7-8CF83074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F5BF-BD65-49C1-AC79-9BE3AE0A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623A-8703-4009-ADC3-D9D7C09C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1D9C-E1DE-4C02-A19F-DC157527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6A4F-E2FB-4B1F-90A7-E5D7F8A7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6A0-16ED-4DBC-B73D-F2EC4F18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AA6-E99C-4C37-A573-86C740F6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DF2-AE89-484B-9340-F3245C22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BBC-34A0-4FBE-BFCB-8307F011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717-55CC-4013-860A-61C51DC0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B21-7B56-40ED-AC44-457A0295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1BB-B50E-4807-B837-369E4891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D657-7098-4099-BA1A-E5780690CE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75ED-E944-4067-B413-A994F120F46E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Олег</cp:lastModifiedBy>
  <dcterms:modified xsi:type="dcterms:W3CDTF">2011-12-01T17:06:28Z</dcterms:modified>
  <cp:revision>8</cp:revision>
  <dc:subject/>
  <dc:title>Новые виды</dc:title>
</cp:coreProperties>
</file>