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15.jpeg" ContentType="image/jpeg"/>
  <Override PartName="/ppt/media/image14.jpeg" ContentType="image/jpeg"/>
  <Override PartName="/ppt/media/image11.jpeg" ContentType="image/jpeg"/>
  <Override PartName="/ppt/media/image9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5.png" ContentType="image/pn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BF522-339F-47D9-8B8A-77234422E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421DB-F1FF-47FE-A143-04538E6E4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7B4C0-42E7-42AB-8784-C476BCD91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2F455-E577-4471-BBD0-5386DB421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F50DD-DB70-47ED-8C3E-3FC9CBD76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77E58-313D-4C71-9725-59B34271B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A25EB-DB8A-48D6-BEC0-8BD06142E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EBC80-F6C6-48C2-A8A3-61A3CAB88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51B47-086C-4A8E-BF62-F47BACE12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89709-87DC-4B0C-8035-C55808D1B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C10FC-52D5-40FE-A436-96E2BB63B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6D640-DDF0-4F3C-9273-DA4DF26DF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02E33-1196-4685-8408-C1B7E6C54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01D43-80F8-4B43-95B7-444121654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885B0-7542-4863-9006-24D75A11F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DD9D9-89B8-45E0-9F24-FF06A269E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E26DD-796C-4E96-8993-AE3CEC631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27760-1B2F-4A12-8A3C-54EDF93EC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7FC6B-6DBA-4D83-8865-664989366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78DC1-6C16-4876-8751-EB684BE29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AB39C-1C97-4D1D-8129-FA4D4372D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62E23-E310-4D9C-A801-B3313A039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21070-CB87-45C2-B2EC-B27D73F94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83488-212D-4AFE-B709-FD4CEE6A9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6925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56925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67749"/>
                </a:gs>
                <a:gs pos="100000">
                  <a:srgbClr val="56925a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a9e6d"/>
                </a:gs>
                <a:gs pos="100000">
                  <a:srgbClr val="56925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6a9e6d"/>
                </a:gs>
                <a:gs pos="100000">
                  <a:srgbClr val="56925a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67749"/>
                </a:gs>
                <a:gs pos="100000">
                  <a:srgbClr val="56925a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a9e6d"/>
                </a:gs>
                <a:gs pos="100000">
                  <a:srgbClr val="56925a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0236E-5711-4C80-A2B5-401E079EA1B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a9a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a9a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56925a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6925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67749"/>
                </a:gs>
                <a:gs pos="100000">
                  <a:srgbClr val="56925a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67749"/>
                </a:gs>
                <a:gs pos="100000">
                  <a:srgbClr val="56925a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a9e6d"/>
                </a:gs>
                <a:gs pos="100000">
                  <a:srgbClr val="56925a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a9e6d"/>
                </a:gs>
                <a:gs pos="100000">
                  <a:srgbClr val="56925a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2AF20-D14E-417C-8C35-59D6DDB0BE0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33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5a9a5f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Black"/>
              </a:rPr>
              <a:t>Процессы жизнедеятельности одноклеточных животных </a:t>
            </a:r>
            <a:endParaRPr b="1" lang="en-US" sz="48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80000" y="4868640"/>
            <a:ext cx="39924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11класс 3 урок 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 Автор: Кудяшева Вера Григорьевна, учитель биологии МОУ СОШ №12 Сыктывкара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Black"/>
              </a:rPr>
              <a:t>Раздражимость-таксис 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Фототаксис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Хемотаксис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Термотаксис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Геотаксис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Black"/>
              </a:rPr>
              <a:t>Способность «узнавать « друг друга 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403280" y="2060640"/>
            <a:ext cx="7345440" cy="39607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Black"/>
              </a:rPr>
              <a:t>Постройка собственных домиков для защиты 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0" y="2060640"/>
            <a:ext cx="4286160" cy="37447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4572000" y="2133720"/>
            <a:ext cx="4103640" cy="38163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Black"/>
              </a:rPr>
              <a:t>Роль в природе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838080" y="1904760"/>
            <a:ext cx="3927600" cy="41907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395280" y="1916280"/>
            <a:ext cx="4248000" cy="410508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5580000" y="1484280"/>
            <a:ext cx="2521080" cy="244944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4"/>
          <a:stretch/>
        </p:blipFill>
        <p:spPr>
          <a:xfrm>
            <a:off x="5508720" y="4005360"/>
            <a:ext cx="2735280" cy="20876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Black"/>
              </a:rPr>
              <a:t>Круговорот веществ в биогеоценозе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Деструкторы –переваривание бактерий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Хищники растительноядные расщепляют животный материа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Black"/>
              </a:rPr>
              <a:t>Домашняя работа : </a:t>
            </a:r>
            <a:br>
              <a:rPr sz="4400"/>
            </a:b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Прочитать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§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  <a:ea typeface="Arial"/>
              </a:rPr>
              <a:t>3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  <a:ea typeface="Arial"/>
              </a:rPr>
              <a:t>Рабочая тетрадь стр. 7-8 (1по7)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Black"/>
              </a:rPr>
              <a:t>Контрольные вопросы : </a:t>
            </a:r>
            <a:br>
              <a:rPr sz="4400"/>
            </a:b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ак поглощают и переваривают одноклеточные организмы ?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еречислите способы передвижения одноклеточных организмов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Arial Black"/>
              </a:rPr>
              <a:t>Клетка –выполняющая все функции живого существа   </a:t>
            </a:r>
            <a:endParaRPr b="1" lang="en-US" sz="40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99ff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итание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99ff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риём пищ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99ff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Удержание пищ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99ff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ереваривание пищ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99ff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Движени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99ff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Раздражимость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99ff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«Узнавание « друг друг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99ff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остройка «домиков»  и защита от неблагоприятных условий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99ff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Роль в природ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Black"/>
              </a:rPr>
              <a:t>Способы питания 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Автотрофы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Гетеротрофы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042920" y="2565360"/>
            <a:ext cx="3024360" cy="39592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5076720" y="2708280"/>
            <a:ext cx="3313080" cy="38163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Black"/>
              </a:rPr>
              <a:t>Способы приёма пищи 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716360" y="206028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755640" y="1557360"/>
            <a:ext cx="8064360" cy="47512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Black"/>
              </a:rPr>
              <a:t>Выделение веществ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900000" y="1916280"/>
            <a:ext cx="6985080" cy="41767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Black"/>
              </a:rPr>
              <a:t>Захват пищи 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377200" cy="43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900000" y="1916280"/>
            <a:ext cx="7272360" cy="41050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Black"/>
              </a:rPr>
              <a:t>Удержание пищи 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Трихоцисты –тонкие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трекательные нити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324000" y="1484280"/>
            <a:ext cx="4321080" cy="43419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Black"/>
              </a:rPr>
              <a:t>Автолиз –саморазрушение 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39592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Лизосомы способны переваривать практически всё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Автолиз может действовать после гибели организма или затрагивает отдельные клетк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4950000" y="1773360"/>
            <a:ext cx="4194000" cy="50846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Black"/>
              </a:rPr>
              <a:t>Движение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95280" y="1628640"/>
            <a:ext cx="8532720" cy="4680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7T13:48:24Z</dcterms:created>
  <dc:creator>Admin</dc:creator>
  <dc:description/>
  <dc:language>en-US</dc:language>
  <cp:lastModifiedBy>Admin</cp:lastModifiedBy>
  <dcterms:modified xsi:type="dcterms:W3CDTF">2011-12-02T16:08:43Z</dcterms:modified>
  <cp:revision>5</cp:revision>
  <dc:subject/>
  <dc:title>Процессы жизнедеятельности одноклеточных животных </dc:title>
</cp:coreProperties>
</file>