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A17B-F95F-4D1B-9F04-EC7439EC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6A74-EFB8-4D63-B7C6-2993B4A7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4A47-EA34-43A2-A66A-01FFBE6C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EDA3-8EE2-4A01-8C8F-1778D921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2825-BB45-4292-A2B2-905B8BD3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3B92-FBA8-427B-8D08-98E0C8C5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0B50-37D1-465F-83DC-6130C026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F770-1B41-4A6B-BBA6-9B9BCBA5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581D-56B4-40E7-8611-2E0929AC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5EC9-A913-4AEB-9C0E-DB891896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7194-726F-4361-BCF6-369C955F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C37B-3770-43E4-B8F3-A0946311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AF1C-7CCA-4E44-8300-D452DD08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A7E7-C0CF-4231-9E01-4E0C2688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9390-1F67-496D-9110-A595054A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6535-06E1-4A39-85FC-F89E1322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2C02-D934-4E17-A4BD-8C08A5EB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38CF-F88E-4981-A4ED-E9AE0D25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0B95-DC84-4228-A63A-C9255AA7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63EB-F66C-49C6-A753-E807CD5A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4538-0384-4DD6-8626-D36BDD6F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CE08-EEAA-4FCC-82B2-67B8DFB3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9FFA-AAB6-4C82-B6FB-97DC9EC0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E428-E2EA-442A-B832-A8F71272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A669-F35A-4F09-863B-B7A3060938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8284-6222-44D5-ACFE-8CA2BDF31B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Black"/>
              </a:rPr>
              <a:t>Процессы жизнедеятельности одноклеточных животных </a:t>
            </a:r>
            <a:endParaRPr b="1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80000" y="4868640"/>
            <a:ext cx="399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11класс 3 урок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Автор: Кудяшева Вера Григорьевна, учитель биологии МОУ СОШ №12 Сыктывкар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Раздражимость-таксис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Фототаксис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Хемотаксис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ермотаксис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еотаксис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Способность «узнавать « друг друга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7345440" cy="396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Постройка собственных домиков для защиты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4286160" cy="3744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4103640" cy="381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Роль в природ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4248000" cy="4105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580000" y="1484280"/>
            <a:ext cx="2521080" cy="2449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508720" y="4005360"/>
            <a:ext cx="2735280" cy="2087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Круговорот веществ в биогеоценоз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еструкторы –переваривание бактерий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Хищники растительноядные расщепляют животный материа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Домашняя работа : </a:t>
            </a:r>
            <a:br>
              <a:rPr sz="4400"/>
            </a:b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читать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3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Рабочая тетрадь стр. 7-8 (1по7)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Контрольные вопросы : </a:t>
            </a:r>
            <a:br>
              <a:rPr sz="4400"/>
            </a:b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поглощают и переваривают одноклеточные организмы 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ечислите способы передвижения одноклеточных организмов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 Black"/>
              </a:rPr>
              <a:t>Клетка –выполняющая все функции живого существа   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итани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ём пищ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держание пищ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реваривание пищ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виж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дражимость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Узнавание « друг друг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тройка «домиков»  и защита от неблагоприятных условий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оль в природ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Способы питания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втотроф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етеротроф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3024360" cy="3959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076720" y="2708280"/>
            <a:ext cx="3313080" cy="381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Способы приёма пищи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6360" y="206028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8064360" cy="4751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Выделение веществ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6985080" cy="417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Захват пищи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3772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272360" cy="4105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Удержание пищи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ихоцисты –тонк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рекательные ни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321080" cy="4341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Автолиз –саморазрушение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3959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изосомы способны переваривать практически всё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втолиз может действовать после гибели организма или затрагивает отдельные кле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950000" y="1773360"/>
            <a:ext cx="4194000" cy="5084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Движени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532720" cy="468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3:48:24Z</dcterms:created>
  <dc:creator>Admin</dc:creator>
  <dc:description/>
  <dc:language>en-US</dc:language>
  <cp:lastModifiedBy>Admin</cp:lastModifiedBy>
  <dcterms:modified xsi:type="dcterms:W3CDTF">2011-12-02T16:08:43Z</dcterms:modified>
  <cp:revision>5</cp:revision>
  <dc:subject/>
  <dc:title>Процессы жизнедеятельности одноклеточных животных </dc:title>
</cp:coreProperties>
</file>