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BAF-1F27-4578-A486-8BB3024E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DA1-4C1D-4F24-ACB5-96C466B7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93F-B0E7-4CAF-A0DA-51EBCCAA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E5A2-31DE-47BB-BB8E-693D1616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8A54-43F3-4F64-B693-AF586E7E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F09D-41DE-42C2-BB30-5CDCE00A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D343-357D-43AF-AF53-7333B0D0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CEEE-B4F4-41FC-A324-DE675B02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3D4D-9AF8-497E-8AB9-2FBEAF7C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707F-C075-4FFF-A5B7-490C16F4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5C34-0F47-44F9-AB7E-EA60774E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5D0-7599-4368-BDCA-38F5C5B6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0CB9-7D7D-49B2-94F1-27587117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52DB-1983-4156-9E46-EC013336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2816-6AA9-4DA5-94A0-8B267211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D518-718E-45C1-B035-7CFA418E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2769-1C18-4BDE-ADBF-C00B601C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1144-C7D8-4CCA-AC2B-99B7FFA7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A2C-9544-4730-BC94-33858724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166-4C3B-4B3B-BB92-24B230F6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9BD-F947-4CCE-99ED-050FC13F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253-1DD1-4EE1-906C-27BE13D6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A16-230D-47A7-BD8C-0D6EAFFD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836-DCD3-4DFB-B30A-2618E5CE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01F7-AB09-4252-980E-29D4E0ADF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56925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6925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7749"/>
                </a:gs>
                <a:gs pos="100000">
                  <a:srgbClr val="56925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e6d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8985-FA06-4EDF-847A-B54D3C3CA6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a9a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Black"/>
              </a:rPr>
              <a:t>Процессы жизнедеятельности одноклеточных животных </a:t>
            </a:r>
            <a:endParaRPr b="1" lang="en-US" sz="48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80000" y="4868640"/>
            <a:ext cx="399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11класс 3 урок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Автор: Кудяшева Вера Григорьевна, учитель биологии МОУ СОШ №12 Сыктывка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аздражимость-таксис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от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е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ерм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отаксис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ность «узнавать « друг друга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345440" cy="396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Постройка собственных домиков для защиты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6160" cy="3744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0364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Роль в природ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4248000" cy="41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521080" cy="2449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273528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руговорот веществ в биогеоценоз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еструкторы –переваривание бактерий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Хищники растительноядные расщепляют животный мате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омашняя работа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3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чая тетрадь стр. 7-8 (1по7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Контрольные вопросы : </a:t>
            </a:r>
            <a:br>
              <a:rPr sz="4400"/>
            </a:b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поглощают и переваривают одноклеточные организмы 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ечислите способы передвижения одноклеточных организмов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 Black"/>
              </a:rPr>
              <a:t>Клетка –выполняющая все функции живого существа   </a:t>
            </a:r>
            <a:endParaRPr b="1" lang="en-US" sz="40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тани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ём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держ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варивание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ви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ражимость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Узнавание « друг друг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йка «домиков»  и защита от неблагоприятных условий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оль в природ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итания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етеротроф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2565360"/>
            <a:ext cx="3024360" cy="395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313080" cy="381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Способы приёма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6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064360" cy="47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Выделение веществ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985080" cy="41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Захват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72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272360" cy="41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Удержание пищи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ихоцисты –тонк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рекательные ни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321080" cy="434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Автолиз –саморазрушение 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59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зосомы способны переваривать практически всё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лиз может действовать после гибели организма или затрагивает отдельные клет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0000" y="1773360"/>
            <a:ext cx="4194000" cy="5084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Black"/>
              </a:rPr>
              <a:t>Движение</a:t>
            </a:r>
            <a:endParaRPr b="1" lang="en-US" sz="44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53272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48:24Z</dcterms:created>
  <dc:creator>Admin</dc:creator>
  <dc:description/>
  <dc:language>en-US</dc:language>
  <cp:lastModifiedBy>Admin</cp:lastModifiedBy>
  <dcterms:modified xsi:type="dcterms:W3CDTF">2011-12-02T16:08:43Z</dcterms:modified>
  <cp:revision>5</cp:revision>
  <dc:subject/>
  <dc:title>Процессы жизнедеятельности одноклеточных животных </dc:title>
</cp:coreProperties>
</file>