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0EB-21C0-44B3-89A0-F4840A94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220-C010-4DCA-BED5-1EF68648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416B-6BEA-4262-97FA-BDD25B18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02A-1C1E-471E-8DC5-9DD53CA4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4DD2-042D-4D11-AB97-EDB27C58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49C3-B49A-426B-A309-F22C7047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D83-BA71-47C2-B352-E28FC858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168C-5E8D-4B61-94CA-32C10D91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C90C-CBD9-4A67-9C87-315BFBE1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D1DC-0F34-408D-A985-9CE98C6A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CD2E-7982-4EE7-B5BE-0EFE9F6C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F9A-4930-46B1-80A0-58C30976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94AA-FEF9-4F6F-A25D-34D777FE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9238-8B37-47B2-9264-1AC3DC3F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C9B2-14EC-421F-B859-217CD23C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7A9C-D7B7-4EC0-874C-06BD1509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F78B-3DD8-4C76-8B4C-95704172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6BB-4F79-4FB2-9AEA-1DE641B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92B-8150-4979-A740-ACD0AA95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198-3A51-4A5A-9AFE-95DBFE4F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7B9-1C0A-48B6-9696-37455FD7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8E7-CFF2-46F4-A108-CDA60E01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D98-7A11-4E97-BACF-AC3DF6A6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76D-D860-4BB2-80C0-0EC455B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6D97-FCDB-4ED9-BF65-388C00D1A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190-D892-4F81-81BA-D3515E317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Процессы жизнедеятельности одноклеточных животных 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80000" y="4868640"/>
            <a:ext cx="399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1класс 3 урок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Автор: Кудяшева Вера Григорьевна, учитель биологии МОУ СОШ №12 Сыктывк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аздражимость-таксис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т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е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р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ность «узнавать « друг друга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34544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Постройка собственных домиков для защи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6160" cy="374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оль в природ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248000" cy="41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73528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руговорот веществ в биогеоценоз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структоры –переваривание бактерий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ищники растительноядные расщепляют животный 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омашняя работа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чая тетрадь стр. 7-8 (1по7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онтрольные вопросы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глощают и переваривают одноклеточные организмы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способы передвижения одноклеточных организмо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Клетка –выполняющая все функции живого существа  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ём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рж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варив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и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ражимость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знавание « друг др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йка «домиков»  и защита от неблагоприятных услов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в прир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итания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395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риёма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6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ыделение веществ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хват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72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27236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Удержание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ихоцисты –тонк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ательные ни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21080" cy="434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втолиз –саморазрушение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зосомы способны переваривать практически всё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лиз может действовать после гибели организма или затрагивает отдельн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1773360"/>
            <a:ext cx="419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виже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3272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48:24Z</dcterms:created>
  <dc:creator>Admin</dc:creator>
  <dc:description/>
  <dc:language>en-US</dc:language>
  <cp:lastModifiedBy>Admin</cp:lastModifiedBy>
  <dcterms:modified xsi:type="dcterms:W3CDTF">2011-12-02T16:08:43Z</dcterms:modified>
  <cp:revision>5</cp:revision>
  <dc:subject/>
  <dc:title>Процессы жизнедеятельности одноклеточных животных </dc:title>
</cp:coreProperties>
</file>