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176C-A0BE-4AD9-8D41-BAAA245F7A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3DAA-C530-44F8-A16C-BF5CD6B9D2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Влияние алкоголя на кровеносную сист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A4E0-727D-48D3-A690-50FE238FE8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8FC6-B660-4AAC-881F-63B593FD72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96FF-D975-4A71-90A2-10878FC899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B517-33D0-444D-B13B-077C2955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B4A9-6CAB-4E22-99FA-17458D35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53363-D09A-4E40-8BBE-9670D3ED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70C77-C213-48FB-88AB-05901E28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6A5ED-DF46-4427-BFB3-3C0D9C35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B292A-3F7C-4171-9787-7EE0BE65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136EE-F9C2-4AF2-872C-EC7391CA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7D3C8-D4E7-41BD-85CA-6FC4B595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D399D-96E7-48ED-A958-A4EBA89C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00742-D055-4F66-A298-476B87F2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42AA4-3F7D-421D-8C2D-F9DC206E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51CA-8048-4DFB-9EF3-14B677F6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0B2A-FF4B-4AD3-9B49-C76845F2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BBAB-22A5-4BE0-B9CA-FD3EDEC7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8E0C-9903-4C6C-8052-4022D666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5117-BFA9-428F-AD86-1A8D4013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FCF2-3AB8-4AE7-BE48-1DC1D01B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2CCC-CDEC-4A68-965F-A1854677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E375-E459-40E6-9F24-E2B0CBF5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B84F-9872-4350-ABD5-2BCD0AA0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DCCF-962F-4AA7-947A-B6514AF3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D3A8-143E-4374-BCE1-F72B91EA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FDA9-A04A-4356-8BDB-8105A2D1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B7E1-EE70-4120-8A3C-7C966FB6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F15C-C064-433B-9450-6354FB68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D8A3-CF48-4C96-B6D4-10F8DD59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39079-5E46-4332-86FB-11FAB885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DE25B-A1CB-4094-945B-ABA4CF17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8E767-C8E3-45C9-942A-56F231C9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EBE35-D871-487B-B57C-A875618A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CFC48-2F84-4B40-9BB0-AF56A081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5165-9AD0-48A7-B980-07B4B4D8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E9BF4-F030-42E2-9E0F-53FF6C39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D6628-BD98-4EF6-8270-54A1CC83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30D36-9340-4EF9-A322-1C3F3F56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D6F0D-05AB-4854-8720-D8C3DBA1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CD8E3-C23D-4559-8F03-2C00FCEE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2421B-EC3C-45C1-8016-5F77B46F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FB7A8-DD93-46AA-BD54-8690B42A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0FD07-5537-4D5D-AB74-837DC236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A86FC-F456-4E5F-BA09-9791ADD3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2AB00-222D-46A2-904B-0B48EDDF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D406-779D-479D-94D6-5925CBAD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080C5-45C0-4842-B38E-F3EDA53B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961B9-3D12-45FB-A51F-A8C76FED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CAA59-816E-4844-A4E3-08016FF6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C4402-56F4-4A17-879E-7697ED6F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635B5-6887-4007-BDD5-BBBB3F7F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AE5BC-8A9A-47EB-B772-CD90D8C5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EE77A-0C9B-47A9-B397-9B24C0E8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8C067-A790-4139-8BCA-FD3692E8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76E80-F3B4-4956-88E0-30F7968A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F29E9-D0B2-42D2-A2B3-784FFEFD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B46A-E570-4CEE-95AB-D0931EFD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E99E5-2BAE-40C6-A0D7-57032228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55AA7-46A0-4D8B-B4CC-14DB8788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CCCE2-8B65-4B79-BC17-B165AC07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D8066-FAA0-46DE-AC95-5D13059D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C4031-C9F6-47D6-B5A8-218488CB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1EBF4-EFE5-4015-AF98-1254B2CA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E5F8F-B6D7-44DD-9792-10592427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9F669-B2A7-42C1-BF8D-9386A1FA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775D9-679C-466C-9400-E2C71554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0F226-6066-4116-A988-18BAEA07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5044-406C-43D6-9F3A-E6AFEAC5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79E5C-F528-47B2-8E0F-5166D52D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88B7B-266F-4D4F-85DE-97C37D52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88C40-AC57-452E-8111-A6FE5BF6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8F5A6-13E8-40FB-BBA7-3BF295E6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4A3CD-C5AC-4E52-8855-E513094A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A8B09-5225-451E-BEC1-14B49853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03561-A655-4BF1-B99E-AF484D92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2D6B0-5D67-4584-893F-EBF7B535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A4B99-7597-4759-A836-2DD8DB72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1AA42-E980-4EFD-84CF-8624B971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89DD-0957-4226-A30D-4EA1FB0C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961B2-38D2-4389-B180-F3B871A8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C38EB-9A98-40C8-A1B6-AF83720A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E4ECA-375B-47E0-BCAF-81ED2BA4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CBEA6-4F1A-4D22-B61D-40516FBE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36BDB-93B0-429C-8BB3-91FEBC0E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8C86A-7F69-4157-924D-FEC4D250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287A8-8A1F-4781-AD1A-A498DCAF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648C6-E9A4-4DE7-939C-C73DF575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1E723-2F15-4F54-A321-A891C195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E31E6-4DB4-448E-93CA-FC6DCE01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5732-23F4-4B32-B3EE-E38E9838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80AB2-666E-4422-BDAE-3D609519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85636-BB6D-4E68-B62F-BAA0B649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B4FE1-5BAD-4584-ACB3-107E0401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1EC06-32D3-47AD-86EC-F1B9CAB4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BA613-DAC9-40EA-8213-26BA3A61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4AE83-6148-49D3-9443-DA445E49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533BC-4B39-4994-8C5C-7E35746B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BADA9-1182-4074-871F-47013A01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5E8E2-528C-4D45-9F30-960DC4B3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C26AE-3FB9-42AF-A49D-2ED475DF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447A-CC39-4771-AA3B-C158824B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38849-EB9A-45BF-9022-D72EB7F1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0EDAA-092C-4661-91EC-695FB002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BBCC1-0097-4C5B-8315-126F1CE8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FD6ED-B141-4C81-A24F-7EC7E32F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E35F4-49C4-485A-B9B7-10F58155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DC205-9402-43AA-9465-A313BB38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858F3-FDA4-4D93-9975-B3DC4D8D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BEA5E-2514-4AFE-BE51-B569B693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AFE05-8097-4D65-8388-DCF52ECE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EBE05-579F-4B38-AC3E-E4398872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A6C5-B6F9-4333-859E-DC47D780B84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AE4D-83EC-450E-ADD6-A2DA9F2C182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BBBE-4DDC-4C23-9E39-980D309225B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BEF8-7875-463E-8394-2C0B9B194F0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57F9-1BCB-484E-A432-5074A1C5ECE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99E3-DC88-4177-9C42-5C1A678E1BA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CEA1-81E8-4F3D-A924-AE9C48843CE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5BB8-9B2A-4009-AA47-2AB48357C25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E07E-B328-413A-B41A-416710C8B65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-6480" y="-792000"/>
            <a:ext cx="9156960" cy="62290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0" y="6720840"/>
            <a:ext cx="850104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Сердце 3"/>
          <p:cNvSpPr/>
          <p:nvPr/>
        </p:nvSpPr>
        <p:spPr>
          <a:xfrm>
            <a:off x="6215040" y="1500120"/>
            <a:ext cx="2714760" cy="2643120"/>
          </a:xfrm>
          <a:prstGeom prst="pie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WordArt 5"/>
          <p:cNvSpPr txBox="1"/>
          <p:nvPr/>
        </p:nvSpPr>
        <p:spPr>
          <a:xfrm>
            <a:off x="285840" y="-428760"/>
            <a:ext cx="557208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тема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10" name="WordArt 6" descr=""/>
          <p:cNvPicPr/>
          <p:nvPr/>
        </p:nvPicPr>
        <p:blipFill>
          <a:blip r:embed="rId6"/>
          <a:stretch/>
        </p:blipFill>
        <p:spPr>
          <a:xfrm>
            <a:off x="-6480" y="1060560"/>
            <a:ext cx="5943600" cy="4194000"/>
          </a:xfrm>
          <a:prstGeom prst="rect">
            <a:avLst/>
          </a:prstGeom>
          <a:ln w="0">
            <a:noFill/>
          </a:ln>
        </p:spPr>
      </p:pic>
      <p:sp>
        <p:nvSpPr>
          <p:cNvPr id="411" name="WordArt 7"/>
          <p:cNvSpPr txBox="1"/>
          <p:nvPr/>
        </p:nvSpPr>
        <p:spPr>
          <a:xfrm>
            <a:off x="4572000" y="5929200"/>
            <a:ext cx="43578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Мокринская В. М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12" name="Прямоугольник 9" descr=""/>
          <p:cNvPicPr/>
          <p:nvPr/>
        </p:nvPicPr>
        <p:blipFill>
          <a:blip r:embed="rId7"/>
          <a:stretch/>
        </p:blipFill>
        <p:spPr>
          <a:xfrm>
            <a:off x="-6480" y="5224320"/>
            <a:ext cx="5011920" cy="1189080"/>
          </a:xfrm>
          <a:prstGeom prst="rect">
            <a:avLst/>
          </a:prstGeom>
          <a:ln w="0">
            <a:noFill/>
          </a:ln>
        </p:spPr>
      </p:pic>
      <p:pic>
        <p:nvPicPr>
          <p:cNvPr id="413" name="Прямоугольник 11" descr=""/>
          <p:cNvPicPr/>
          <p:nvPr/>
        </p:nvPicPr>
        <p:blipFill>
          <a:blip r:embed="rId8"/>
          <a:stretch/>
        </p:blipFill>
        <p:spPr>
          <a:xfrm>
            <a:off x="4853160" y="5029200"/>
            <a:ext cx="42973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441" name="TextBox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84cc4"/>
                </a:solidFill>
                <a:latin typeface="Arial"/>
              </a:rPr>
              <a:t>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212760"/>
            <a:ext cx="91569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3214800" y="2928960"/>
            <a:ext cx="2357280" cy="1571760"/>
          </a:xfrm>
          <a:prstGeom prst="rect">
            <a:avLst/>
          </a:prstGeom>
          <a:ln w="0">
            <a:noFill/>
          </a:ln>
        </p:spPr>
      </p:pic>
      <p:sp>
        <p:nvSpPr>
          <p:cNvPr id="444" name="TextBox 6"/>
          <p:cNvSpPr/>
          <p:nvPr/>
        </p:nvSpPr>
        <p:spPr>
          <a:xfrm flipV="1" rot="10800000">
            <a:off x="3071880" y="240120"/>
            <a:ext cx="27144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нарко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7"/>
          <p:cNvSpPr/>
          <p:nvPr/>
        </p:nvSpPr>
        <p:spPr>
          <a:xfrm flipV="1" rot="10800000">
            <a:off x="571320" y="159120"/>
            <a:ext cx="221436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никот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0"/>
          <p:cNvSpPr/>
          <p:nvPr/>
        </p:nvSpPr>
        <p:spPr>
          <a:xfrm>
            <a:off x="6357960" y="214200"/>
            <a:ext cx="235728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2"/>
          <p:cNvSpPr/>
          <p:nvPr/>
        </p:nvSpPr>
        <p:spPr>
          <a:xfrm flipV="1" rot="10800000">
            <a:off x="5929200" y="1018080"/>
            <a:ext cx="32148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гиподина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54"/>
          <p:cNvSpPr/>
          <p:nvPr/>
        </p:nvSpPr>
        <p:spPr>
          <a:xfrm>
            <a:off x="5214960" y="4714920"/>
            <a:ext cx="364320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атеросклеро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7"/>
          <p:cNvSpPr/>
          <p:nvPr/>
        </p:nvSpPr>
        <p:spPr>
          <a:xfrm>
            <a:off x="2714760" y="5643720"/>
            <a:ext cx="421452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тромбофлеб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31"/>
          <p:cNvSpPr/>
          <p:nvPr/>
        </p:nvSpPr>
        <p:spPr>
          <a:xfrm>
            <a:off x="214200" y="1000080"/>
            <a:ext cx="22860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9"/>
          <p:cNvSpPr/>
          <p:nvPr/>
        </p:nvSpPr>
        <p:spPr>
          <a:xfrm flipV="1" rot="10800000">
            <a:off x="285840" y="4857840"/>
            <a:ext cx="328608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гипертони</a:t>
            </a:r>
            <a:r>
              <a:rPr b="1" lang="ru-RU" sz="3600" spc="-1" strike="noStrike">
                <a:solidFill>
                  <a:srgbClr val="c20e86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39"/>
          <p:cNvSpPr/>
          <p:nvPr/>
        </p:nvSpPr>
        <p:spPr>
          <a:xfrm>
            <a:off x="6215040" y="3429000"/>
            <a:ext cx="242892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инсуль</a:t>
            </a:r>
            <a:r>
              <a:rPr b="0" lang="ru-RU" sz="4000" spc="-1" strike="noStrike">
                <a:solidFill>
                  <a:srgbClr val="c20e86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41"/>
          <p:cNvSpPr/>
          <p:nvPr/>
        </p:nvSpPr>
        <p:spPr>
          <a:xfrm>
            <a:off x="285840" y="3071880"/>
            <a:ext cx="2500200" cy="1312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20e86"/>
                </a:solidFill>
                <a:latin typeface="Arial"/>
              </a:rPr>
              <a:t>Инфаркт миокар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43"/>
          <p:cNvSpPr/>
          <p:nvPr/>
        </p:nvSpPr>
        <p:spPr>
          <a:xfrm>
            <a:off x="2071800" y="1785960"/>
            <a:ext cx="5286240" cy="1068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20e86"/>
                </a:solidFill>
                <a:latin typeface="Arial"/>
              </a:rPr>
              <a:t>Сердечно- сосудистые            заболе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Стрелка вправо 45"/>
          <p:cNvSpPr/>
          <p:nvPr/>
        </p:nvSpPr>
        <p:spPr>
          <a:xfrm flipV="1" rot="5400000">
            <a:off x="3870360" y="1298520"/>
            <a:ext cx="642960" cy="46080"/>
          </a:xfrm>
          <a:prstGeom prst="rightArrow">
            <a:avLst>
              <a:gd name="adj1" fmla="val 50000"/>
              <a:gd name="adj2" fmla="val 4993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Стрелка вниз 46"/>
          <p:cNvSpPr/>
          <p:nvPr/>
        </p:nvSpPr>
        <p:spPr>
          <a:xfrm rot="18429000">
            <a:off x="3157200" y="656640"/>
            <a:ext cx="55800" cy="1138320"/>
          </a:xfrm>
          <a:prstGeom prst="downArrow">
            <a:avLst>
              <a:gd name="adj1" fmla="val 50000"/>
              <a:gd name="adj2" fmla="val 4977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Стрелка вправо 47"/>
          <p:cNvSpPr/>
          <p:nvPr/>
        </p:nvSpPr>
        <p:spPr>
          <a:xfrm flipV="1" rot="2161800">
            <a:off x="2606760" y="1305000"/>
            <a:ext cx="572760" cy="63360"/>
          </a:xfrm>
          <a:prstGeom prst="rightArrow">
            <a:avLst>
              <a:gd name="adj1" fmla="val 50000"/>
              <a:gd name="adj2" fmla="val 5009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Стрелка влево 48"/>
          <p:cNvSpPr/>
          <p:nvPr/>
        </p:nvSpPr>
        <p:spPr>
          <a:xfrm rot="19444800">
            <a:off x="4838760" y="1068480"/>
            <a:ext cx="1587600" cy="4608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Стрелка влево 49"/>
          <p:cNvSpPr/>
          <p:nvPr/>
        </p:nvSpPr>
        <p:spPr>
          <a:xfrm flipV="1" rot="19713600">
            <a:off x="5181120" y="1418400"/>
            <a:ext cx="538560" cy="4608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Стрелка вправо 53"/>
          <p:cNvSpPr/>
          <p:nvPr/>
        </p:nvSpPr>
        <p:spPr>
          <a:xfrm flipV="1">
            <a:off x="2857680" y="3786120"/>
            <a:ext cx="285480" cy="46080"/>
          </a:xfrm>
          <a:prstGeom prst="rightArrow">
            <a:avLst>
              <a:gd name="adj1" fmla="val 50000"/>
              <a:gd name="adj2" fmla="val 4990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Стрелка влево 54"/>
          <p:cNvSpPr/>
          <p:nvPr/>
        </p:nvSpPr>
        <p:spPr>
          <a:xfrm flipV="1">
            <a:off x="5643720" y="3882960"/>
            <a:ext cx="428400" cy="46080"/>
          </a:xfrm>
          <a:prstGeom prst="leftArrow">
            <a:avLst>
              <a:gd name="adj1" fmla="val 50000"/>
              <a:gd name="adj2" fmla="val 4992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Стрелка вверх 55"/>
          <p:cNvSpPr/>
          <p:nvPr/>
        </p:nvSpPr>
        <p:spPr>
          <a:xfrm rot="2826600">
            <a:off x="2829600" y="4308840"/>
            <a:ext cx="52560" cy="457200"/>
          </a:xfrm>
          <a:prstGeom prst="upArrow">
            <a:avLst>
              <a:gd name="adj1" fmla="val 50000"/>
              <a:gd name="adj2" fmla="val 4985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Стрелка вверх 56"/>
          <p:cNvSpPr/>
          <p:nvPr/>
        </p:nvSpPr>
        <p:spPr>
          <a:xfrm>
            <a:off x="4429080" y="4643280"/>
            <a:ext cx="46080" cy="85752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трелка влево 57"/>
          <p:cNvSpPr/>
          <p:nvPr/>
        </p:nvSpPr>
        <p:spPr>
          <a:xfrm flipV="1" rot="2052000">
            <a:off x="5927400" y="4392360"/>
            <a:ext cx="550800" cy="46080"/>
          </a:xfrm>
          <a:prstGeom prst="leftArrow">
            <a:avLst>
              <a:gd name="adj1" fmla="val 50000"/>
              <a:gd name="adj2" fmla="val 49971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-428760" y="0"/>
            <a:ext cx="9572760" cy="7072200"/>
          </a:xfrm>
          <a:prstGeom prst="rect">
            <a:avLst/>
          </a:prstGeom>
          <a:ln w="0">
            <a:noFill/>
          </a:ln>
        </p:spPr>
      </p:pic>
      <p:sp>
        <p:nvSpPr>
          <p:cNvPr id="466" name="TextBox 6"/>
          <p:cNvSpPr/>
          <p:nvPr/>
        </p:nvSpPr>
        <p:spPr>
          <a:xfrm>
            <a:off x="1500120" y="1285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7"/>
          <p:cNvSpPr/>
          <p:nvPr/>
        </p:nvSpPr>
        <p:spPr>
          <a:xfrm>
            <a:off x="357120" y="2286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8"/>
          <p:cNvSpPr/>
          <p:nvPr/>
        </p:nvSpPr>
        <p:spPr>
          <a:xfrm>
            <a:off x="785880" y="6072120"/>
            <a:ext cx="214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-428760" y="-500040"/>
            <a:ext cx="9786960" cy="7643880"/>
          </a:xfrm>
          <a:prstGeom prst="rect">
            <a:avLst/>
          </a:prstGeom>
          <a:ln w="0">
            <a:noFill/>
          </a:ln>
        </p:spPr>
      </p:pic>
      <p:cxnSp>
        <p:nvCxnSpPr>
          <p:cNvPr id="470" name="Прямая со стрелкой 10"/>
          <p:cNvCxnSpPr/>
          <p:nvPr/>
        </p:nvCxnSpPr>
        <p:spPr>
          <a:xfrm flipV="1">
            <a:off x="571680" y="1285560"/>
            <a:ext cx="2160" cy="216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71" name="TextBox 9"/>
          <p:cNvSpPr/>
          <p:nvPr/>
        </p:nvSpPr>
        <p:spPr>
          <a:xfrm>
            <a:off x="6715080" y="6429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"/>
          <p:cNvPicPr/>
          <p:nvPr/>
        </p:nvPicPr>
        <p:blipFill>
          <a:blip r:embed="rId2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152280"/>
            <a:ext cx="9156960" cy="1603080"/>
          </a:xfrm>
          <a:prstGeom prst="rect">
            <a:avLst/>
          </a:prstGeom>
          <a:ln w="0">
            <a:noFill/>
          </a:ln>
        </p:spPr>
      </p:pic>
      <p:sp>
        <p:nvSpPr>
          <p:cNvPr id="476" name="TextBox 6"/>
          <p:cNvSpPr/>
          <p:nvPr/>
        </p:nvSpPr>
        <p:spPr>
          <a:xfrm>
            <a:off x="3214800" y="1643040"/>
            <a:ext cx="257148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Физические упраж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8"/>
          <p:cNvSpPr/>
          <p:nvPr/>
        </p:nvSpPr>
        <p:spPr>
          <a:xfrm flipV="1" rot="10800000">
            <a:off x="6072120" y="1606320"/>
            <a:ext cx="264312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Активный образ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2"/>
          <p:cNvSpPr/>
          <p:nvPr/>
        </p:nvSpPr>
        <p:spPr>
          <a:xfrm>
            <a:off x="2643120" y="5214960"/>
            <a:ext cx="4071960" cy="1373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c4c2c"/>
                </a:solidFill>
                <a:uFillTx/>
                <a:latin typeface="Arial"/>
              </a:rPr>
              <a:t>Это способствует укреплению сердечной мышц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4"/>
          <p:cNvSpPr/>
          <p:nvPr/>
        </p:nvSpPr>
        <p:spPr>
          <a:xfrm>
            <a:off x="357120" y="1643040"/>
            <a:ext cx="2428920" cy="1373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Посильный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2322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7"/>
          <p:cNvSpPr/>
          <p:nvPr/>
        </p:nvSpPr>
        <p:spPr>
          <a:xfrm flipV="1" rot="10800000">
            <a:off x="428400" y="3179520"/>
            <a:ext cx="4071960" cy="1800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Увеличивается объем крови, протекающей через сердечную мыш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9"/>
          <p:cNvSpPr/>
          <p:nvPr/>
        </p:nvSpPr>
        <p:spPr>
          <a:xfrm>
            <a:off x="5000760" y="2786040"/>
            <a:ext cx="3571920" cy="2226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Улучшается снабжение сердца кислородом и питательными ве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Выгнутая влево стрелка 18"/>
          <p:cNvSpPr/>
          <p:nvPr/>
        </p:nvSpPr>
        <p:spPr>
          <a:xfrm rot="18385200">
            <a:off x="502560" y="4426560"/>
            <a:ext cx="1050840" cy="2795400"/>
          </a:xfrm>
          <a:custGeom>
            <a:avLst/>
            <a:gdLst>
              <a:gd name="textAreaLeft" fmla="*/ 140760 w 1050840"/>
              <a:gd name="textAreaRight" fmla="*/ 910080 w 1050840"/>
              <a:gd name="textAreaTop" fmla="*/ 600120 h 2795400"/>
              <a:gd name="textAreaBottom" fmla="*/ 2063880 h 27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78" stAng="-5400000" swAng="-5400000"/>
                <a:lnTo>
                  <a:pt x="0" y="11308"/>
                </a:lnTo>
                <a:arcTo wR="21600" hR="9278" stAng="10800000" swAng="-3539289"/>
                <a:lnTo>
                  <a:pt x="16200" y="21305"/>
                </a:lnTo>
                <a:lnTo>
                  <a:pt x="21600" y="19570"/>
                </a:lnTo>
                <a:lnTo>
                  <a:pt x="16200" y="17245"/>
                </a:lnTo>
                <a:lnTo>
                  <a:pt x="16200" y="18260"/>
                </a:lnTo>
                <a:arcTo wR="21600" hR="9278" stAng="7260711" swAng="3376892"/>
                <a:lnTo>
                  <a:pt x="130" y="10293"/>
                </a:lnTo>
                <a:arcTo wR="21600" hR="9278" stAng="-10637603" swAng="5237603"/>
                <a:close/>
              </a:path>
              <a:path fill="darkenLess" w="21600" h="21600">
                <a:moveTo>
                  <a:pt x="21600" y="0"/>
                </a:moveTo>
                <a:arcTo wR="21600" hR="9278" stAng="-5400000" swAng="-5400000"/>
                <a:lnTo>
                  <a:pt x="0" y="9278"/>
                </a:lnTo>
                <a:arcTo wR="21600" hR="9278" stAng="10800000" swAng="-162397"/>
                <a:lnTo>
                  <a:pt x="130" y="10293"/>
                </a:lnTo>
                <a:arcTo wR="21600" hR="9278" stAng="-10637603" swAng="5237603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Выгнутая вправо стрелка 19"/>
          <p:cNvSpPr/>
          <p:nvPr/>
        </p:nvSpPr>
        <p:spPr>
          <a:xfrm rot="3010200">
            <a:off x="7541640" y="4733640"/>
            <a:ext cx="866880" cy="2514600"/>
          </a:xfrm>
          <a:custGeom>
            <a:avLst/>
            <a:gdLst>
              <a:gd name="textAreaLeft" fmla="*/ 115920 w 866880"/>
              <a:gd name="textAreaRight" fmla="*/ 750960 w 866880"/>
              <a:gd name="textAreaTop" fmla="*/ 547200 h 2514600"/>
              <a:gd name="textAreaBottom" fmla="*/ 18590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04" stAng="-5400000" swAng="5400000"/>
                <a:lnTo>
                  <a:pt x="21600" y="11265"/>
                </a:lnTo>
                <a:arcTo wR="21600" hR="9404" stAng="0" swAng="3559782"/>
                <a:lnTo>
                  <a:pt x="5400" y="21301"/>
                </a:lnTo>
                <a:lnTo>
                  <a:pt x="0" y="19739"/>
                </a:lnTo>
                <a:lnTo>
                  <a:pt x="5400" y="17578"/>
                </a:lnTo>
                <a:lnTo>
                  <a:pt x="5400" y="18509"/>
                </a:lnTo>
                <a:arcTo wR="21600" hR="9404" stAng="3559782" swAng="-3411051"/>
                <a:lnTo>
                  <a:pt x="21494" y="10335"/>
                </a:lnTo>
                <a:arcTo wR="21600" hR="9404" stAng="-148731" swAng="-5251269"/>
                <a:close/>
              </a:path>
              <a:path fill="darkenLess" w="21600" h="21600">
                <a:moveTo>
                  <a:pt x="0" y="0"/>
                </a:moveTo>
                <a:arcTo wR="21600" hR="9404" stAng="-5400000" swAng="5400000"/>
                <a:lnTo>
                  <a:pt x="21600" y="11265"/>
                </a:lnTo>
                <a:arcTo wR="21600" hR="9404" stAng="0" swAng="-148731"/>
                <a:lnTo>
                  <a:pt x="21494" y="10335"/>
                </a:lnTo>
                <a:arcTo wR="21600" hR="9404" stAng="-148731" swAng="-525126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Box 1"/>
          <p:cNvSpPr/>
          <p:nvPr/>
        </p:nvSpPr>
        <p:spPr>
          <a:xfrm>
            <a:off x="428760" y="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7030a0"/>
                </a:solidFill>
                <a:uFillTx/>
                <a:latin typeface="Arial"/>
              </a:rPr>
              <a:t>Приемы остановки кровоте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0" y="642960"/>
            <a:ext cx="9144000" cy="74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Капиллярное кровоте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Обработайте края  раны йо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Отрежьте квадратный кусок бинта и сложите его вчетверо. Нанесите на сложенный бинт мазь и приложите к ране, сверху положите вату и сделайте по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Артериальное кровоте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ризнаки: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Алая кровь. Текущая пульсирующей струй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Необходимо наложить жгут. Он накладывается на одежду или (кусок ткани).чтобы не повредить кожу, выше 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Сделайте жгутом 2-3 оборота, пока не перестанет прощупываться пульсация. Жгут накладывают на  1,5-2 ча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Вложить записку с обозначением времени наложения жг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На рану- стерильная повязка.  Пострадавшего доставить в боль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20e86"/>
                </a:solidFill>
                <a:latin typeface="Arial"/>
              </a:rPr>
              <a:t>Венозное кровотечение. 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ризнаки: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емная кровь, вытекающая непрерывной струй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При повреждении крупного венозного сосуда наложите жг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При повреждении мелкого сосуда- давящую по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6"/>
          <p:cNvSpPr/>
          <p:nvPr/>
        </p:nvSpPr>
        <p:spPr>
          <a:xfrm>
            <a:off x="714240" y="114300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34b38"/>
                </a:solidFill>
                <a:uFillTx/>
                <a:latin typeface="Franklin Gothic Book"/>
              </a:rPr>
              <a:t>ЗАД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7"/>
          <p:cNvSpPr/>
          <p:nvPr/>
        </p:nvSpPr>
        <p:spPr>
          <a:xfrm>
            <a:off x="0" y="1857240"/>
            <a:ext cx="9144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ВИЖЕНИЕ КРОВИ ПО КРОВЕНОСНЫМ СОСУДА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АМЫЙ КРУПНЫЙ СОСУ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АСНЫЕ КРОВЯНЫЕ КЛЕТ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ОВЬ, НАСЫЩЕННАЯ УГЛЕКИСЛЫМ ГАЗ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УТЬ КРОВИ ОТ ЛЕВОГО ЖЕЛУДОЧКА ДО ПРАВОГО ПРЕДСЕРД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БЕЛЫЕ КРОВЯНЫЕ КЛЕТ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Прямоугольник 8" descr=""/>
          <p:cNvPicPr/>
          <p:nvPr/>
        </p:nvPicPr>
        <p:blipFill>
          <a:blip r:embed="rId1"/>
          <a:stretch/>
        </p:blipFill>
        <p:spPr>
          <a:xfrm>
            <a:off x="706320" y="-212760"/>
            <a:ext cx="84441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2"/>
          <p:cNvSpPr/>
          <p:nvPr/>
        </p:nvSpPr>
        <p:spPr>
          <a:xfrm>
            <a:off x="0" y="0"/>
            <a:ext cx="914400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7. ПРЕПАРАТ ИЗ УБИТЫХ ИЛИ ОСЛАБЛЕННЫХ МИКРООРГАНИЗМ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8. СПОСОБНОСТЬ ОРГАНИЗМА ЗАЩИЩАТЬСЯ ОТ ИНФЕКЦИОННОГО ВОЗДЕЙСТВ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9.КРОВЕНОСНЫЕ СОСУДЫ, ПО КОТОРЫМ КРОВЬ ДВИЖЕТСЯ К СЕРДЦ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0.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человек, предоставляющий часть своей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КРОВИ ДЛЯ ПЕРЕЛИВА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1. ВЕЩЕСТВО, ВХОДЯЩЕЕ В СОСТАВ ЭРИТРОЦИТ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2. ЖИДКАЯ ЧАСТЬ КРОВ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3. ГРУППА КРОВИ УНИВЕРСИЛЬНОГО ДОНОР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23"/>
          <p:cNvSpPr/>
          <p:nvPr/>
        </p:nvSpPr>
        <p:spPr>
          <a:xfrm>
            <a:off x="0" y="0"/>
            <a:ext cx="9144000" cy="71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.Кровь, насыщенная кислородо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. Периодическое толчкообраз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ебание стенки аорты, синхронно сокращению сердц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. Путь от правого желудочка до левого предсерд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. Сосуды, несущие кровь от сердц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.Вещества, вырабатываемые лейкоцитами на чужеродный бело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.Явление склеивания эритроцито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4500720" y="6858000"/>
            <a:ext cx="71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Прямоугольник 7" descr=""/>
          <p:cNvPicPr/>
          <p:nvPr/>
        </p:nvPicPr>
        <p:blipFill>
          <a:blip r:embed="rId1"/>
          <a:stretch/>
        </p:blipFill>
        <p:spPr>
          <a:xfrm>
            <a:off x="-262080" y="109440"/>
            <a:ext cx="9412560" cy="8510760"/>
          </a:xfrm>
          <a:prstGeom prst="rect">
            <a:avLst/>
          </a:prstGeom>
          <a:ln w="0">
            <a:noFill/>
          </a:ln>
        </p:spPr>
      </p:pic>
      <p:pic>
        <p:nvPicPr>
          <p:cNvPr id="421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212760"/>
            <a:ext cx="94424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212760"/>
            <a:ext cx="8637840" cy="11397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4"/>
          <p:cNvSpPr/>
          <p:nvPr/>
        </p:nvSpPr>
        <p:spPr>
          <a:xfrm flipV="1" rot="10800000">
            <a:off x="0" y="82116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Эритроциты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сные кровяные клетки.  Они очень малы. В 1 кубическом  мм их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5 млн</a:t>
            </a: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релые эритроциты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не имеют ядер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клетки 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двояковогнут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ормы, не способны к самостоятельному движению. Внутри клеток  находиться гемоглобин – соединение белка и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желез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ритроциты зарождаются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в красном костном мозг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а разрушаются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в селезенке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ая функция эритроцитов- транспорт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газ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Заболевание, связанное с уменьшением количества эритроцитов в крови, называется 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малокровием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(анемие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Блок-схема: магнитный диск 1"/>
          <p:cNvSpPr/>
          <p:nvPr/>
        </p:nvSpPr>
        <p:spPr>
          <a:xfrm>
            <a:off x="2071800" y="2000160"/>
            <a:ext cx="2357280" cy="3143520"/>
          </a:xfrm>
          <a:prstGeom prst="flowChartMagneticDisk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УС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Загнутый угол 6"/>
          <p:cNvSpPr/>
          <p:nvPr/>
        </p:nvSpPr>
        <p:spPr>
          <a:xfrm>
            <a:off x="5429160" y="1928880"/>
            <a:ext cx="2214720" cy="28573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олоко 1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40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Прямоугольник 7" descr=""/>
          <p:cNvPicPr/>
          <p:nvPr/>
        </p:nvPicPr>
        <p:blipFill>
          <a:blip r:embed="rId1"/>
          <a:stretch/>
        </p:blipFill>
        <p:spPr>
          <a:xfrm>
            <a:off x="-244440" y="1463760"/>
            <a:ext cx="2475000" cy="196848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317520" y="1944720"/>
            <a:ext cx="1279440" cy="1279440"/>
          </a:xfrm>
          <a:prstGeom prst="rect">
            <a:avLst/>
          </a:prstGeom>
          <a:ln w="0">
            <a:noFill/>
          </a:ln>
        </p:spPr>
      </p:pic>
      <p:pic>
        <p:nvPicPr>
          <p:cNvPr id="428" name="Прямая соединительная линия 10" descr=""/>
          <p:cNvPicPr/>
          <p:nvPr/>
        </p:nvPicPr>
        <p:blipFill>
          <a:blip r:embed="rId3"/>
          <a:stretch/>
        </p:blipFill>
        <p:spPr>
          <a:xfrm>
            <a:off x="249120" y="1938240"/>
            <a:ext cx="1433520" cy="1285920"/>
          </a:xfrm>
          <a:prstGeom prst="rect">
            <a:avLst/>
          </a:prstGeom>
          <a:ln w="0">
            <a:noFill/>
          </a:ln>
        </p:spPr>
      </p:pic>
      <p:sp>
        <p:nvSpPr>
          <p:cNvPr id="429" name="TextBox 13"/>
          <p:cNvSpPr/>
          <p:nvPr/>
        </p:nvSpPr>
        <p:spPr>
          <a:xfrm>
            <a:off x="428760" y="3643200"/>
            <a:ext cx="128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4"/>
          <p:cNvSpPr/>
          <p:nvPr/>
        </p:nvSpPr>
        <p:spPr>
          <a:xfrm>
            <a:off x="7715160" y="1714680"/>
            <a:ext cx="107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5"/>
          <p:cNvSpPr/>
          <p:nvPr/>
        </p:nvSpPr>
        <p:spPr>
          <a:xfrm>
            <a:off x="7786800" y="3714840"/>
            <a:ext cx="107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Выгнутая вверх стрелка 16"/>
          <p:cNvSpPr/>
          <p:nvPr/>
        </p:nvSpPr>
        <p:spPr>
          <a:xfrm rot="13042800">
            <a:off x="6352920" y="4572720"/>
            <a:ext cx="1842840" cy="730440"/>
          </a:xfrm>
          <a:custGeom>
            <a:avLst/>
            <a:gdLst>
              <a:gd name="textAreaLeft" fmla="*/ 392040 w 1842840"/>
              <a:gd name="textAreaRight" fmla="*/ 1359360 w 1842840"/>
              <a:gd name="textAreaTop" fmla="*/ 97560 h 730440"/>
              <a:gd name="textAreaBottom" fmla="*/ 632880 h 73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96" hR="21600" stAng="10800000" swAng="5400000"/>
                <a:lnTo>
                  <a:pt x="11335" y="0"/>
                </a:lnTo>
                <a:arcTo wR="9196" hR="21600" stAng="-5400000" swAng="3525784"/>
                <a:lnTo>
                  <a:pt x="21308" y="16200"/>
                </a:lnTo>
                <a:lnTo>
                  <a:pt x="19461" y="21600"/>
                </a:lnTo>
                <a:lnTo>
                  <a:pt x="17029" y="16200"/>
                </a:lnTo>
                <a:lnTo>
                  <a:pt x="18099" y="16200"/>
                </a:lnTo>
                <a:arcTo wR="9196" hR="21600" stAng="-1874216" swAng="-3354547"/>
                <a:lnTo>
                  <a:pt x="10265" y="147"/>
                </a:lnTo>
                <a:arcTo wR="9196" hR="21600" stAng="-5571238" swAng="-5228762"/>
                <a:close/>
              </a:path>
              <a:path fill="darkenLess" w="21600" h="21600">
                <a:moveTo>
                  <a:pt x="0" y="21600"/>
                </a:moveTo>
                <a:arcTo wR="9196" hR="21600" stAng="10800000" swAng="5400000"/>
                <a:lnTo>
                  <a:pt x="9196" y="0"/>
                </a:lnTo>
                <a:arcTo wR="9196" hR="21600" stAng="-5400000" swAng="171238"/>
                <a:lnTo>
                  <a:pt x="10265" y="147"/>
                </a:lnTo>
                <a:arcTo wR="9196" hR="21600" stAng="-5571238" swAng="-5228762"/>
                <a:close/>
              </a:path>
            </a:pathLst>
          </a:custGeom>
          <a:solidFill>
            <a:srgbClr val="0d0d0d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7748640" y="3876840"/>
            <a:ext cx="1139760" cy="1493640"/>
          </a:xfrm>
          <a:prstGeom prst="rect">
            <a:avLst/>
          </a:prstGeom>
          <a:ln w="0">
            <a:noFill/>
          </a:ln>
        </p:spPr>
      </p:pic>
      <p:pic>
        <p:nvPicPr>
          <p:cNvPr id="434" name="Прямая соединительная линия 19" descr=""/>
          <p:cNvPicPr/>
          <p:nvPr/>
        </p:nvPicPr>
        <p:blipFill>
          <a:blip r:embed="rId5"/>
          <a:stretch/>
        </p:blipFill>
        <p:spPr>
          <a:xfrm>
            <a:off x="7607160" y="3943440"/>
            <a:ext cx="1354320" cy="1420560"/>
          </a:xfrm>
          <a:prstGeom prst="rect">
            <a:avLst/>
          </a:prstGeom>
          <a:ln w="0">
            <a:noFill/>
          </a:ln>
        </p:spPr>
      </p:pic>
      <p:pic>
        <p:nvPicPr>
          <p:cNvPr id="435" name="Прямоугольник 13" descr=""/>
          <p:cNvPicPr/>
          <p:nvPr/>
        </p:nvPicPr>
        <p:blipFill>
          <a:blip r:embed="rId6"/>
          <a:stretch/>
        </p:blipFill>
        <p:spPr>
          <a:xfrm>
            <a:off x="493560" y="-225360"/>
            <a:ext cx="81932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-1719360" y="-6480"/>
            <a:ext cx="10442520" cy="3054600"/>
          </a:xfrm>
          <a:prstGeom prst="rect">
            <a:avLst/>
          </a:prstGeom>
          <a:ln w="0">
            <a:noFill/>
          </a:ln>
        </p:spPr>
      </p:pic>
      <p:sp>
        <p:nvSpPr>
          <p:cNvPr id="437" name="TextBox 2"/>
          <p:cNvSpPr/>
          <p:nvPr/>
        </p:nvSpPr>
        <p:spPr>
          <a:xfrm>
            <a:off x="285840" y="30718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c7154"/>
                </a:solidFill>
                <a:latin typeface="Arial"/>
              </a:rPr>
              <a:t>(Что такое вакцина?  Кто впервые в мире применил вакцинацию? Зачем нужны прививки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42840" y="-6480"/>
            <a:ext cx="8955000" cy="1420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7:43:45Z</dcterms:created>
  <dc:creator>Admin</dc:creator>
  <dc:description/>
  <dc:language>en-US</dc:language>
  <cp:lastModifiedBy>Admin</cp:lastModifiedBy>
  <dcterms:modified xsi:type="dcterms:W3CDTF">2011-04-02T06:29:06Z</dcterms:modified>
  <cp:revision>172</cp:revision>
  <dc:subject/>
  <dc:title>Слайд 1</dc:title>
</cp:coreProperties>
</file>