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5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8.png" ContentType="image/png"/>
  <Override PartName="/ppt/media/image1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CFC76-49E2-4B6B-B35C-45122F54A2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BDE9E-D9DF-4063-9EA8-1F4617C848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Влияние алкоголя на кровеносную систему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BB856-2A9A-4448-82FB-A21EC6F29B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0DEB1-7513-4517-ABBA-3D43F1BC97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ED6AE-DDC6-4B44-9EA4-A67FE7B71F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2AD5-26E5-46A0-9232-FE4FF8F86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255F-A56E-4F18-B3B1-79F2C59D8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072BA8-2339-4F60-A2E4-357FA6F0B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E356A5-769E-438A-8F30-97100568A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147191-C3B0-4376-943D-34BDFC166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5F737B-9F4A-4BEA-983B-2B7A67E3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570251-1A65-4770-80BC-8C770309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4360BB-1C2B-47FC-B487-E23420EDD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AFF2EC-0993-4B56-9BFF-DE5827112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8C37A6-477F-4EE7-B0E3-30F203032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F44DE2-F2A6-4A3B-B5F2-FBB458E76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E48E-A72B-4CF3-8779-F3006A68A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BE54-1BA2-45FF-993C-696272416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CBA2F-F56B-40D0-A1FB-46BD310C0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8E0AD-4CDF-41C2-8626-23015D80C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05512-CEB5-470A-B88D-03A82DB5E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9D8F1-49B5-410F-8714-FC6BDAAAA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D0044-E0AD-48F6-8D76-0495606C4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97182-B27B-40BF-906A-34C4DEC23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01249-950E-4264-9375-5A0A4A567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45F0-5CAD-45D6-AF4D-74F3A3103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028C6-C252-4BC3-B033-CDD6323ED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4EA2D-EE17-466D-9F8C-C888325CB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58B38-4ECF-4081-A5CD-77E72C9E4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A0F37-67A9-4F44-BAFF-CEEFE1E5B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6C626-F539-4047-B220-AE5D520E3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5C077-009C-4D6C-8E32-BEA125515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C0DE0-7993-406D-9CD3-19FC35CDD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19C27-30C4-454D-B2A7-E78A90ADD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D8E0E-FBCB-495F-B572-6F0F05A7A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E9027-332C-4CF8-83B5-5A4DFDD07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B31C-09AB-477E-A8D8-FC19B445F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87390-B244-43C7-B3FD-797E740F4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62EE6-F7F4-4F9D-B4B2-90544502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4627D-F8DD-44D5-8710-0DCF1DE5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88DE0-FF92-44DD-89B8-978AB9DB2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6A89B-1CEE-401D-B632-DCCA261F9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10C1D-E6EE-453A-9CBE-1D334E634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5C37E-5378-4757-845D-E58FC76E4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29982-BF91-4072-B9FF-B0678988A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F6664-D342-45C0-A69C-14800D13B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6C623-4794-46AA-8C90-8A7A9C8AA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BF4F-9CDF-47A8-9B2E-5642B88C7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5634D-1E8E-487F-B793-D85DFB83D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38799-5069-4599-9B7C-EB22B1611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0DB48-B3AE-4E9B-993D-5EAE9ADDF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016CC-2DC7-4A74-8A19-B88F1269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626C2-8AD4-4877-9D9B-3A7B0EEC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734CF-8565-4AEC-B9D5-6BBB103C1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799A5-68EC-48C0-8491-771A6FE87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64AEA-4D87-466E-BEC8-5A518FA04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F6ED0-9F8E-4F18-B132-4811620E5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9A5DC-93EE-43F8-B4C0-F69CAF2F8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50E8-CE68-46A9-B973-7FE4ACD45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3D572E-D0BA-46B6-8D22-EE6C38F98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64ADE9-814E-4F49-8A81-83CDAA193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59FC65-BFC5-47B5-91B6-FD4AB896F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BC090F-757C-4D06-9FE2-29D893C7E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6BBF6-9F37-4F52-B2A6-99A07AA48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54770-E311-40A5-AF95-742958C6B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238B5-4485-4DDF-9958-D5780E5E6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FF36F-EDF3-4FA2-BE02-3298D6AE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1B43B5-56B2-4E49-B451-F41A70445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356BC-EA1B-464E-AE4E-8B03846BE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26D2-84FE-4E8C-8509-ADDB9B424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F0D999-4566-40D7-8B2A-051F70B68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589497-86D7-413C-B80E-C719FE621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8B01BB-7BA4-4042-B4CB-186707C77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DD8D68-0623-4255-93AC-29E828A41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6EDD6A-4286-4277-95A1-D4878A292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64C63A-22EE-47AE-AF20-60A4A3D97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69B6D4-2855-49F1-81E1-CF78B7E93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F3C123-AB27-47E0-8256-6B894A944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2101D5-2071-4C16-B58E-9179B6B1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B29D21-890F-4A11-BAEE-C0C57406E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D82A-FF2E-4306-8F32-B2D983930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ECA09E-CCC5-455A-8D19-C95BC2CC1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9E8B0A-BA83-4575-BEB9-9C5923ABA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3006F8-9022-434C-9794-C014E2157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116705-D416-4892-8719-7F1F6F96D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DB9895-3E9E-4CCC-8839-312E42E05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8B881B-E889-44CA-B226-D923F53C0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7746FE-2CEE-4813-9822-71CB53B2E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FC4E56-6C24-498B-9D50-2E3395DA4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438B50-3C15-4DE2-AB63-B1D4AE835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1D1EDB-7808-4165-B8CB-4B70469CF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9F25-FFB9-4F89-9C04-692E850AE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D98E7D-30A0-4E4D-9612-F879CDEE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ADD020-8776-4B87-AA3F-3271C9742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C56E9A-DECE-43EB-8B80-6219EBF9D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C7F508-3E06-4ECE-A7C5-218F59F93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3556B1-B0B1-48B4-8333-7ADFF6DF0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7AE56A-8A77-4DB9-B191-0EE1BBE6B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522A71-20D6-4DB5-86B8-45A8FB096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362C6C-E4C6-40E9-B0F6-55F52814B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D045B7-F340-421B-B450-B4091C4DA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BF0039-FEB2-4713-A7B5-DCD16E9F8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9A11-0231-4449-A674-7635A7AE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92EE6E-6FC1-4D16-96CD-516C13409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00883C-873E-4972-96ED-AEAAACE54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65B67E-601A-4DF5-9748-959AEA584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49A759-F20B-44A4-9722-A3FF24C02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23A061-0E92-4241-864B-7CDB5B757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704E80-B9DB-4394-92FA-4820D81C6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5DDE05-DBF8-47D1-BEBE-5B74694BB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607F69-24E4-4160-B572-434A53B63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8AF2D3-53BA-46FA-A343-74B2FBC80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F000F0-32A4-43BF-AC81-25DB73D52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406CD-AF86-4137-BF0A-3C788CB608A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C8835-40F6-46BF-8FF9-399025B0F6A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2771D-ACE9-411E-8498-660E31AE2B7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C4D83-3B8F-4EAB-878A-FD0F6359E9F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04352-5FA9-4E19-8713-EC5BD368A51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B72EB-C6C3-4EB9-8A70-752AB83FE7D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2E8BF-0FA5-4786-9476-7C6CE7E70D0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2901A-B0A4-49EE-AC51-F64B9A5F3BD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228CC-843C-4D49-B540-5ECFAE0C7F4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-6480" y="-792000"/>
            <a:ext cx="9156960" cy="622908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0" y="6720840"/>
            <a:ext cx="850104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8" name="Сердце 3"/>
          <p:cNvSpPr/>
          <p:nvPr/>
        </p:nvSpPr>
        <p:spPr>
          <a:xfrm>
            <a:off x="6215040" y="1500120"/>
            <a:ext cx="2714760" cy="2643120"/>
          </a:xfrm>
          <a:prstGeom prst="pie">
            <a:avLst/>
          </a:prstGeom>
          <a:solidFill>
            <a:srgbClr val="ff00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WordArt 5"/>
          <p:cNvSpPr txBox="1"/>
          <p:nvPr/>
        </p:nvSpPr>
        <p:spPr>
          <a:xfrm>
            <a:off x="285840" y="-428760"/>
            <a:ext cx="5572080" cy="135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тема урока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410" name="WordArt 6" descr=""/>
          <p:cNvPicPr/>
          <p:nvPr/>
        </p:nvPicPr>
        <p:blipFill>
          <a:blip r:embed="rId6"/>
          <a:stretch/>
        </p:blipFill>
        <p:spPr>
          <a:xfrm>
            <a:off x="-6480" y="1060560"/>
            <a:ext cx="5943600" cy="4194000"/>
          </a:xfrm>
          <a:prstGeom prst="rect">
            <a:avLst/>
          </a:prstGeom>
          <a:ln w="0">
            <a:noFill/>
          </a:ln>
        </p:spPr>
      </p:pic>
      <p:sp>
        <p:nvSpPr>
          <p:cNvPr id="411" name="WordArt 7"/>
          <p:cNvSpPr txBox="1"/>
          <p:nvPr/>
        </p:nvSpPr>
        <p:spPr>
          <a:xfrm>
            <a:off x="4572000" y="5929200"/>
            <a:ext cx="4357800" cy="7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Мокринская В. М.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12" name="Прямоугольник 9" descr=""/>
          <p:cNvPicPr/>
          <p:nvPr/>
        </p:nvPicPr>
        <p:blipFill>
          <a:blip r:embed="rId7"/>
          <a:stretch/>
        </p:blipFill>
        <p:spPr>
          <a:xfrm>
            <a:off x="-6480" y="5224320"/>
            <a:ext cx="5011920" cy="1189080"/>
          </a:xfrm>
          <a:prstGeom prst="rect">
            <a:avLst/>
          </a:prstGeom>
          <a:ln w="0">
            <a:noFill/>
          </a:ln>
        </p:spPr>
      </p:pic>
      <p:pic>
        <p:nvPicPr>
          <p:cNvPr id="413" name="Прямоугольник 11" descr=""/>
          <p:cNvPicPr/>
          <p:nvPr/>
        </p:nvPicPr>
        <p:blipFill>
          <a:blip r:embed="rId8"/>
          <a:stretch/>
        </p:blipFill>
        <p:spPr>
          <a:xfrm>
            <a:off x="4853160" y="5029200"/>
            <a:ext cx="4297320" cy="8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0" y="1000080"/>
            <a:ext cx="9144000" cy="6286680"/>
          </a:xfrm>
          <a:prstGeom prst="rect">
            <a:avLst/>
          </a:prstGeom>
          <a:ln w="0">
            <a:noFill/>
          </a:ln>
        </p:spPr>
      </p:pic>
      <p:sp>
        <p:nvSpPr>
          <p:cNvPr id="441" name="TextBox 3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84cc4"/>
                </a:solidFill>
                <a:latin typeface="Arial"/>
              </a:rPr>
              <a:t>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Прямоугольник 3" descr=""/>
          <p:cNvPicPr/>
          <p:nvPr/>
        </p:nvPicPr>
        <p:blipFill>
          <a:blip r:embed="rId2"/>
          <a:stretch/>
        </p:blipFill>
        <p:spPr>
          <a:xfrm>
            <a:off x="-6480" y="-212760"/>
            <a:ext cx="915696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"/>
          <p:cNvPicPr/>
          <p:nvPr/>
        </p:nvPicPr>
        <p:blipFill>
          <a:blip r:embed="rId1"/>
          <a:stretch/>
        </p:blipFill>
        <p:spPr>
          <a:xfrm>
            <a:off x="3214800" y="2928960"/>
            <a:ext cx="2357280" cy="1571760"/>
          </a:xfrm>
          <a:prstGeom prst="rect">
            <a:avLst/>
          </a:prstGeom>
          <a:ln w="0">
            <a:noFill/>
          </a:ln>
        </p:spPr>
      </p:pic>
      <p:sp>
        <p:nvSpPr>
          <p:cNvPr id="444" name="TextBox 6"/>
          <p:cNvSpPr/>
          <p:nvPr/>
        </p:nvSpPr>
        <p:spPr>
          <a:xfrm flipV="1" rot="10800000">
            <a:off x="3071880" y="240120"/>
            <a:ext cx="2714400" cy="64260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3cd60"/>
                </a:solidFill>
                <a:latin typeface="Arial"/>
              </a:rPr>
              <a:t>наркот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7"/>
          <p:cNvSpPr/>
          <p:nvPr/>
        </p:nvSpPr>
        <p:spPr>
          <a:xfrm flipV="1" rot="10800000">
            <a:off x="571320" y="159120"/>
            <a:ext cx="2214360" cy="64260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3cd60"/>
                </a:solidFill>
                <a:latin typeface="Arial"/>
              </a:rPr>
              <a:t>никот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Box 10"/>
          <p:cNvSpPr/>
          <p:nvPr/>
        </p:nvSpPr>
        <p:spPr>
          <a:xfrm>
            <a:off x="6357960" y="214200"/>
            <a:ext cx="2357280" cy="64260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3cd60"/>
                </a:solidFill>
                <a:latin typeface="Arial"/>
              </a:rPr>
              <a:t>алкого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12"/>
          <p:cNvSpPr/>
          <p:nvPr/>
        </p:nvSpPr>
        <p:spPr>
          <a:xfrm flipV="1" rot="10800000">
            <a:off x="5929200" y="1018080"/>
            <a:ext cx="3214800" cy="64260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3cd60"/>
                </a:solidFill>
                <a:latin typeface="Arial"/>
              </a:rPr>
              <a:t>гиподинам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54"/>
          <p:cNvSpPr/>
          <p:nvPr/>
        </p:nvSpPr>
        <p:spPr>
          <a:xfrm>
            <a:off x="5214960" y="4714920"/>
            <a:ext cx="3643200" cy="703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20e86"/>
                </a:solidFill>
                <a:latin typeface="Arial"/>
              </a:rPr>
              <a:t>атеросклеро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Box 57"/>
          <p:cNvSpPr/>
          <p:nvPr/>
        </p:nvSpPr>
        <p:spPr>
          <a:xfrm>
            <a:off x="2714760" y="5643720"/>
            <a:ext cx="4214520" cy="703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20e86"/>
                </a:solidFill>
                <a:latin typeface="Arial"/>
              </a:rPr>
              <a:t>тромбофлеби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31"/>
          <p:cNvSpPr/>
          <p:nvPr/>
        </p:nvSpPr>
        <p:spPr>
          <a:xfrm>
            <a:off x="214200" y="1000080"/>
            <a:ext cx="2286000" cy="64260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3cd60"/>
                </a:solidFill>
                <a:latin typeface="Arial"/>
              </a:rPr>
              <a:t>стрес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29"/>
          <p:cNvSpPr/>
          <p:nvPr/>
        </p:nvSpPr>
        <p:spPr>
          <a:xfrm flipV="1" rot="10800000">
            <a:off x="285840" y="4857840"/>
            <a:ext cx="3286080" cy="703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20e86"/>
                </a:solidFill>
                <a:latin typeface="Arial"/>
              </a:rPr>
              <a:t>гипертони</a:t>
            </a:r>
            <a:r>
              <a:rPr b="1" lang="ru-RU" sz="3600" spc="-1" strike="noStrike">
                <a:solidFill>
                  <a:srgbClr val="c20e86"/>
                </a:solidFill>
                <a:latin typeface="Arial"/>
              </a:rPr>
              <a:t>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39"/>
          <p:cNvSpPr/>
          <p:nvPr/>
        </p:nvSpPr>
        <p:spPr>
          <a:xfrm>
            <a:off x="6215040" y="3429000"/>
            <a:ext cx="2428920" cy="703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20e86"/>
                </a:solidFill>
                <a:latin typeface="Arial"/>
              </a:rPr>
              <a:t>инсуль</a:t>
            </a:r>
            <a:r>
              <a:rPr b="0" lang="ru-RU" sz="4000" spc="-1" strike="noStrike">
                <a:solidFill>
                  <a:srgbClr val="c20e86"/>
                </a:solidFill>
                <a:latin typeface="Arial"/>
              </a:rPr>
              <a:t>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41"/>
          <p:cNvSpPr/>
          <p:nvPr/>
        </p:nvSpPr>
        <p:spPr>
          <a:xfrm>
            <a:off x="285840" y="3071880"/>
            <a:ext cx="2500200" cy="13129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20e86"/>
                </a:solidFill>
                <a:latin typeface="Arial"/>
              </a:rPr>
              <a:t>Инфаркт миокар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43"/>
          <p:cNvSpPr/>
          <p:nvPr/>
        </p:nvSpPr>
        <p:spPr>
          <a:xfrm>
            <a:off x="2071800" y="1785960"/>
            <a:ext cx="5286240" cy="1068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c20e86"/>
                </a:solidFill>
                <a:latin typeface="Arial"/>
              </a:rPr>
              <a:t>Сердечно- сосудистые            заболе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Стрелка вправо 45"/>
          <p:cNvSpPr/>
          <p:nvPr/>
        </p:nvSpPr>
        <p:spPr>
          <a:xfrm flipV="1" rot="5400000">
            <a:off x="3870360" y="1298520"/>
            <a:ext cx="642960" cy="46080"/>
          </a:xfrm>
          <a:prstGeom prst="rightArrow">
            <a:avLst>
              <a:gd name="adj1" fmla="val 50000"/>
              <a:gd name="adj2" fmla="val 49934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Стрелка вниз 46"/>
          <p:cNvSpPr/>
          <p:nvPr/>
        </p:nvSpPr>
        <p:spPr>
          <a:xfrm rot="18429000">
            <a:off x="3157200" y="656640"/>
            <a:ext cx="55800" cy="1138320"/>
          </a:xfrm>
          <a:prstGeom prst="downArrow">
            <a:avLst>
              <a:gd name="adj1" fmla="val 50000"/>
              <a:gd name="adj2" fmla="val 49772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Стрелка вправо 47"/>
          <p:cNvSpPr/>
          <p:nvPr/>
        </p:nvSpPr>
        <p:spPr>
          <a:xfrm flipV="1" rot="2161800">
            <a:off x="2606760" y="1305000"/>
            <a:ext cx="572760" cy="63360"/>
          </a:xfrm>
          <a:prstGeom prst="rightArrow">
            <a:avLst>
              <a:gd name="adj1" fmla="val 50000"/>
              <a:gd name="adj2" fmla="val 50095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Стрелка влево 48"/>
          <p:cNvSpPr/>
          <p:nvPr/>
        </p:nvSpPr>
        <p:spPr>
          <a:xfrm rot="19444800">
            <a:off x="4838760" y="1068480"/>
            <a:ext cx="1587600" cy="46080"/>
          </a:xfrm>
          <a:prstGeom prst="leftArrow">
            <a:avLst>
              <a:gd name="adj1" fmla="val 50000"/>
              <a:gd name="adj2" fmla="val 49925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Стрелка влево 49"/>
          <p:cNvSpPr/>
          <p:nvPr/>
        </p:nvSpPr>
        <p:spPr>
          <a:xfrm flipV="1" rot="19713600">
            <a:off x="5181120" y="1418400"/>
            <a:ext cx="538560" cy="46080"/>
          </a:xfrm>
          <a:prstGeom prst="leftArrow">
            <a:avLst>
              <a:gd name="adj1" fmla="val 50000"/>
              <a:gd name="adj2" fmla="val 49997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Стрелка вправо 53"/>
          <p:cNvSpPr/>
          <p:nvPr/>
        </p:nvSpPr>
        <p:spPr>
          <a:xfrm flipV="1">
            <a:off x="2857680" y="3786120"/>
            <a:ext cx="285480" cy="46080"/>
          </a:xfrm>
          <a:prstGeom prst="rightArrow">
            <a:avLst>
              <a:gd name="adj1" fmla="val 50000"/>
              <a:gd name="adj2" fmla="val 49907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Стрелка влево 54"/>
          <p:cNvSpPr/>
          <p:nvPr/>
        </p:nvSpPr>
        <p:spPr>
          <a:xfrm flipV="1">
            <a:off x="5643720" y="3882960"/>
            <a:ext cx="428400" cy="46080"/>
          </a:xfrm>
          <a:prstGeom prst="leftArrow">
            <a:avLst>
              <a:gd name="adj1" fmla="val 50000"/>
              <a:gd name="adj2" fmla="val 49928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Стрелка вверх 55"/>
          <p:cNvSpPr/>
          <p:nvPr/>
        </p:nvSpPr>
        <p:spPr>
          <a:xfrm rot="2826600">
            <a:off x="2829600" y="4308840"/>
            <a:ext cx="52560" cy="457200"/>
          </a:xfrm>
          <a:prstGeom prst="upArrow">
            <a:avLst>
              <a:gd name="adj1" fmla="val 50000"/>
              <a:gd name="adj2" fmla="val 49856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Стрелка вверх 56"/>
          <p:cNvSpPr/>
          <p:nvPr/>
        </p:nvSpPr>
        <p:spPr>
          <a:xfrm>
            <a:off x="4429080" y="4643280"/>
            <a:ext cx="46080" cy="857520"/>
          </a:xfrm>
          <a:prstGeom prst="upArrow">
            <a:avLst>
              <a:gd name="adj1" fmla="val 50000"/>
              <a:gd name="adj2" fmla="val 4997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Стрелка влево 57"/>
          <p:cNvSpPr/>
          <p:nvPr/>
        </p:nvSpPr>
        <p:spPr>
          <a:xfrm flipV="1" rot="2052000">
            <a:off x="5927400" y="4392360"/>
            <a:ext cx="550800" cy="46080"/>
          </a:xfrm>
          <a:prstGeom prst="leftArrow">
            <a:avLst>
              <a:gd name="adj1" fmla="val 50000"/>
              <a:gd name="adj2" fmla="val 49971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Picture 2" descr=""/>
          <p:cNvPicPr/>
          <p:nvPr/>
        </p:nvPicPr>
        <p:blipFill>
          <a:blip r:embed="rId1"/>
          <a:stretch/>
        </p:blipFill>
        <p:spPr>
          <a:xfrm>
            <a:off x="-428760" y="0"/>
            <a:ext cx="9572760" cy="7072200"/>
          </a:xfrm>
          <a:prstGeom prst="rect">
            <a:avLst/>
          </a:prstGeom>
          <a:ln w="0">
            <a:noFill/>
          </a:ln>
        </p:spPr>
      </p:pic>
      <p:sp>
        <p:nvSpPr>
          <p:cNvPr id="466" name="TextBox 6"/>
          <p:cNvSpPr/>
          <p:nvPr/>
        </p:nvSpPr>
        <p:spPr>
          <a:xfrm>
            <a:off x="1500120" y="12859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Box 7"/>
          <p:cNvSpPr/>
          <p:nvPr/>
        </p:nvSpPr>
        <p:spPr>
          <a:xfrm>
            <a:off x="357120" y="22860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8"/>
          <p:cNvSpPr/>
          <p:nvPr/>
        </p:nvSpPr>
        <p:spPr>
          <a:xfrm>
            <a:off x="785880" y="6072120"/>
            <a:ext cx="214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2" descr=""/>
          <p:cNvPicPr/>
          <p:nvPr/>
        </p:nvPicPr>
        <p:blipFill>
          <a:blip r:embed="rId1"/>
          <a:stretch/>
        </p:blipFill>
        <p:spPr>
          <a:xfrm>
            <a:off x="-428760" y="-500040"/>
            <a:ext cx="9786960" cy="7643880"/>
          </a:xfrm>
          <a:prstGeom prst="rect">
            <a:avLst/>
          </a:prstGeom>
          <a:ln w="0">
            <a:noFill/>
          </a:ln>
        </p:spPr>
      </p:pic>
      <p:cxnSp>
        <p:nvCxnSpPr>
          <p:cNvPr id="470" name="Прямая со стрелкой 10"/>
          <p:cNvCxnSpPr/>
          <p:nvPr/>
        </p:nvCxnSpPr>
        <p:spPr>
          <a:xfrm flipV="1">
            <a:off x="571680" y="1285560"/>
            <a:ext cx="2160" cy="2160"/>
          </a:xfrm>
          <a:prstGeom prst="straightConnector1">
            <a:avLst/>
          </a:prstGeom>
          <a:ln w="10080">
            <a:solidFill>
              <a:srgbClr val="f0a22e"/>
            </a:solidFill>
            <a:miter/>
            <a:tailEnd len="med" type="arrow" w="med"/>
          </a:ln>
        </p:spPr>
      </p:cxnSp>
      <p:sp>
        <p:nvSpPr>
          <p:cNvPr id="471" name="TextBox 9"/>
          <p:cNvSpPr/>
          <p:nvPr/>
        </p:nvSpPr>
        <p:spPr>
          <a:xfrm>
            <a:off x="6715080" y="64296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1" descr=""/>
          <p:cNvPicPr/>
          <p:nvPr/>
        </p:nvPicPr>
        <p:blipFill>
          <a:blip r:embed="rId1"/>
          <a:stretch/>
        </p:blipFill>
        <p:spPr>
          <a:xfrm>
            <a:off x="2286000" y="171468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3" descr=""/>
          <p:cNvPicPr/>
          <p:nvPr/>
        </p:nvPicPr>
        <p:blipFill>
          <a:blip r:embed="rId2"/>
          <a:stretch/>
        </p:blipFill>
        <p:spPr>
          <a:xfrm>
            <a:off x="-214200" y="0"/>
            <a:ext cx="9358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Прямоугольник 2" descr=""/>
          <p:cNvPicPr/>
          <p:nvPr/>
        </p:nvPicPr>
        <p:blipFill>
          <a:blip r:embed="rId1"/>
          <a:stretch/>
        </p:blipFill>
        <p:spPr>
          <a:xfrm>
            <a:off x="-6480" y="-152280"/>
            <a:ext cx="9156960" cy="1603080"/>
          </a:xfrm>
          <a:prstGeom prst="rect">
            <a:avLst/>
          </a:prstGeom>
          <a:ln w="0">
            <a:noFill/>
          </a:ln>
        </p:spPr>
      </p:pic>
      <p:sp>
        <p:nvSpPr>
          <p:cNvPr id="476" name="TextBox 6"/>
          <p:cNvSpPr/>
          <p:nvPr/>
        </p:nvSpPr>
        <p:spPr>
          <a:xfrm>
            <a:off x="3214800" y="1643040"/>
            <a:ext cx="2571480" cy="9471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24139"/>
                </a:solidFill>
                <a:latin typeface="Arial"/>
              </a:rPr>
              <a:t>Физические упраж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8"/>
          <p:cNvSpPr/>
          <p:nvPr/>
        </p:nvSpPr>
        <p:spPr>
          <a:xfrm flipV="1" rot="10800000">
            <a:off x="6072120" y="1606320"/>
            <a:ext cx="2643120" cy="9471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24139"/>
                </a:solidFill>
                <a:latin typeface="Arial"/>
              </a:rPr>
              <a:t>Активный образ жиз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12"/>
          <p:cNvSpPr/>
          <p:nvPr/>
        </p:nvSpPr>
        <p:spPr>
          <a:xfrm>
            <a:off x="2643120" y="5214960"/>
            <a:ext cx="4071960" cy="13737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6c4c2c"/>
                </a:solidFill>
                <a:uFillTx/>
                <a:latin typeface="Arial"/>
              </a:rPr>
              <a:t>Это способствует укреплению сердечной мышцы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24"/>
          <p:cNvSpPr/>
          <p:nvPr/>
        </p:nvSpPr>
        <p:spPr>
          <a:xfrm>
            <a:off x="357120" y="1643040"/>
            <a:ext cx="2428920" cy="13737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24139"/>
                </a:solidFill>
                <a:latin typeface="Arial"/>
              </a:rPr>
              <a:t>Посильный тру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2322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17"/>
          <p:cNvSpPr/>
          <p:nvPr/>
        </p:nvSpPr>
        <p:spPr>
          <a:xfrm flipV="1" rot="10800000">
            <a:off x="428400" y="3179520"/>
            <a:ext cx="4071960" cy="18003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20e86"/>
                </a:solidFill>
                <a:latin typeface="Arial"/>
              </a:rPr>
              <a:t>Увеличивается объем крови, протекающей через сердечную мышц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19"/>
          <p:cNvSpPr/>
          <p:nvPr/>
        </p:nvSpPr>
        <p:spPr>
          <a:xfrm>
            <a:off x="5000760" y="2786040"/>
            <a:ext cx="3571920" cy="22269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20e86"/>
                </a:solidFill>
                <a:latin typeface="Arial"/>
              </a:rPr>
              <a:t>Улучшается снабжение сердца кислородом и питательными веществ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Выгнутая влево стрелка 18"/>
          <p:cNvSpPr/>
          <p:nvPr/>
        </p:nvSpPr>
        <p:spPr>
          <a:xfrm rot="18385200">
            <a:off x="502560" y="4426560"/>
            <a:ext cx="1050840" cy="2795400"/>
          </a:xfrm>
          <a:custGeom>
            <a:avLst/>
            <a:gdLst>
              <a:gd name="textAreaLeft" fmla="*/ 140760 w 1050840"/>
              <a:gd name="textAreaRight" fmla="*/ 910080 w 1050840"/>
              <a:gd name="textAreaTop" fmla="*/ 600120 h 2795400"/>
              <a:gd name="textAreaBottom" fmla="*/ 2063880 h 2795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78" stAng="-5400000" swAng="-5400000"/>
                <a:lnTo>
                  <a:pt x="0" y="11308"/>
                </a:lnTo>
                <a:arcTo wR="21600" hR="9278" stAng="10800000" swAng="-3539289"/>
                <a:lnTo>
                  <a:pt x="16200" y="21305"/>
                </a:lnTo>
                <a:lnTo>
                  <a:pt x="21600" y="19570"/>
                </a:lnTo>
                <a:lnTo>
                  <a:pt x="16200" y="17245"/>
                </a:lnTo>
                <a:lnTo>
                  <a:pt x="16200" y="18260"/>
                </a:lnTo>
                <a:arcTo wR="21600" hR="9278" stAng="7260711" swAng="3376892"/>
                <a:lnTo>
                  <a:pt x="130" y="10293"/>
                </a:lnTo>
                <a:arcTo wR="21600" hR="9278" stAng="-10637603" swAng="5237603"/>
                <a:close/>
              </a:path>
              <a:path fill="darkenLess" w="21600" h="21600">
                <a:moveTo>
                  <a:pt x="21600" y="0"/>
                </a:moveTo>
                <a:arcTo wR="21600" hR="9278" stAng="-5400000" swAng="-5400000"/>
                <a:lnTo>
                  <a:pt x="0" y="9278"/>
                </a:lnTo>
                <a:arcTo wR="21600" hR="9278" stAng="10800000" swAng="-162397"/>
                <a:lnTo>
                  <a:pt x="130" y="10293"/>
                </a:lnTo>
                <a:arcTo wR="21600" hR="9278" stAng="-10637603" swAng="5237603"/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Выгнутая вправо стрелка 19"/>
          <p:cNvSpPr/>
          <p:nvPr/>
        </p:nvSpPr>
        <p:spPr>
          <a:xfrm rot="3010200">
            <a:off x="7541640" y="4733640"/>
            <a:ext cx="866880" cy="2514600"/>
          </a:xfrm>
          <a:custGeom>
            <a:avLst/>
            <a:gdLst>
              <a:gd name="textAreaLeft" fmla="*/ 115920 w 866880"/>
              <a:gd name="textAreaRight" fmla="*/ 750960 w 866880"/>
              <a:gd name="textAreaTop" fmla="*/ 547200 h 2514600"/>
              <a:gd name="textAreaBottom" fmla="*/ 185904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404" stAng="-5400000" swAng="5400000"/>
                <a:lnTo>
                  <a:pt x="21600" y="11265"/>
                </a:lnTo>
                <a:arcTo wR="21600" hR="9404" stAng="0" swAng="3559782"/>
                <a:lnTo>
                  <a:pt x="5400" y="21301"/>
                </a:lnTo>
                <a:lnTo>
                  <a:pt x="0" y="19739"/>
                </a:lnTo>
                <a:lnTo>
                  <a:pt x="5400" y="17578"/>
                </a:lnTo>
                <a:lnTo>
                  <a:pt x="5400" y="18509"/>
                </a:lnTo>
                <a:arcTo wR="21600" hR="9404" stAng="3559782" swAng="-3411051"/>
                <a:lnTo>
                  <a:pt x="21494" y="10335"/>
                </a:lnTo>
                <a:arcTo wR="21600" hR="9404" stAng="-148731" swAng="-5251269"/>
                <a:close/>
              </a:path>
              <a:path fill="darkenLess" w="21600" h="21600">
                <a:moveTo>
                  <a:pt x="0" y="0"/>
                </a:moveTo>
                <a:arcTo wR="21600" hR="9404" stAng="-5400000" swAng="5400000"/>
                <a:lnTo>
                  <a:pt x="21600" y="11265"/>
                </a:lnTo>
                <a:arcTo wR="21600" hR="9404" stAng="0" swAng="-148731"/>
                <a:lnTo>
                  <a:pt x="21494" y="10335"/>
                </a:lnTo>
                <a:arcTo wR="21600" hR="9404" stAng="-148731" swAng="-5251269"/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extBox 1"/>
          <p:cNvSpPr/>
          <p:nvPr/>
        </p:nvSpPr>
        <p:spPr>
          <a:xfrm>
            <a:off x="428760" y="0"/>
            <a:ext cx="84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7030a0"/>
                </a:solidFill>
                <a:uFillTx/>
                <a:latin typeface="Arial"/>
              </a:rPr>
              <a:t>Приемы остановки кровотеч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2"/>
          <p:cNvSpPr/>
          <p:nvPr/>
        </p:nvSpPr>
        <p:spPr>
          <a:xfrm>
            <a:off x="0" y="642960"/>
            <a:ext cx="9144000" cy="74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20e86"/>
                </a:solidFill>
                <a:latin typeface="Arial"/>
              </a:rPr>
              <a:t>Капиллярное кровотеч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Обработайте края  раны йод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Отрежьте квадратный кусок бинта и сложите его вчетверо. Нанесите на сложенный бинт мазь и приложите к ране, сверху положите вату и сделайте повяз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20e86"/>
                </a:solidFill>
                <a:latin typeface="Arial"/>
              </a:rPr>
              <a:t>Артериальное кровотеч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7030a0"/>
                </a:solidFill>
                <a:uFillTx/>
                <a:latin typeface="Arial"/>
              </a:rPr>
              <a:t>Признаки: </a:t>
            </a:r>
            <a:r>
              <a:rPr b="1" lang="ru-RU" sz="2000" spc="-1" strike="noStrike">
                <a:solidFill>
                  <a:srgbClr val="ff3399"/>
                </a:solidFill>
                <a:latin typeface="Arial"/>
              </a:rPr>
              <a:t>Алая кровь. Текущая пульсирующей струйк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Необходимо наложить жгут. Он накладывается на одежду или (кусок ткани).чтобы не повредить кожу, выше ра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Сделайте жгутом 2-3 оборота, пока не перестанет прощупываться пульсация. Жгут накладывают на  1,5-2 час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Вложить записку с обозначением времени наложения жгу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На рану- стерильная повязка.  Пострадавшего доставить в больниц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20e86"/>
                </a:solidFill>
                <a:latin typeface="Arial"/>
              </a:rPr>
              <a:t>Венозное кровотечение. </a:t>
            </a:r>
            <a:r>
              <a:rPr b="1" lang="ru-RU" sz="2400" spc="-1" strike="noStrike" u="sng">
                <a:solidFill>
                  <a:srgbClr val="7030a0"/>
                </a:solidFill>
                <a:uFillTx/>
                <a:latin typeface="Arial"/>
              </a:rPr>
              <a:t>Признаки: </a:t>
            </a: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темная кровь, вытекающая непрерывной струй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При повреждении крупного венозного сосуда наложите жгу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При повреждении мелкого сосуда- давящую повяз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Box 6"/>
          <p:cNvSpPr/>
          <p:nvPr/>
        </p:nvSpPr>
        <p:spPr>
          <a:xfrm>
            <a:off x="714240" y="1143000"/>
            <a:ext cx="265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534b38"/>
                </a:solidFill>
                <a:uFillTx/>
                <a:latin typeface="Franklin Gothic Book"/>
              </a:rPr>
              <a:t>ЗАДАН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7"/>
          <p:cNvSpPr/>
          <p:nvPr/>
        </p:nvSpPr>
        <p:spPr>
          <a:xfrm>
            <a:off x="0" y="1857240"/>
            <a:ext cx="914400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ДВИЖЕНИЕ КРОВИ ПО КРОВЕНОСНЫМ СОСУДАМ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САМЫЙ КРУПНЫЙ СОСУД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КРАСНЫЕ КРОВЯНЫЕ КЛЕТК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КРОВЬ, НАСЫЩЕННАЯ УГЛЕКИСЛЫМ ГАЗОМ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ПУТЬ КРОВИ ОТ ЛЕВОГО ЖЕЛУДОЧКА ДО ПРАВОГО ПРЕДСЕРДИ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БЕЛЫЕ КРОВЯНЫЕ КЛЕТК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Прямоугольник 8" descr=""/>
          <p:cNvPicPr/>
          <p:nvPr/>
        </p:nvPicPr>
        <p:blipFill>
          <a:blip r:embed="rId1"/>
          <a:stretch/>
        </p:blipFill>
        <p:spPr>
          <a:xfrm>
            <a:off x="706320" y="-212760"/>
            <a:ext cx="844416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Box 2"/>
          <p:cNvSpPr/>
          <p:nvPr/>
        </p:nvSpPr>
        <p:spPr>
          <a:xfrm>
            <a:off x="0" y="0"/>
            <a:ext cx="9144000" cy="69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7. ПРЕПАРАТ ИЗ УБИТЫХ ИЛИ ОСЛАБЛЕННЫХ МИКРООРГАНИЗМОВ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8. СПОСОБНОСТЬ ОРГАНИЗМА ЗАЩИЩАТЬСЯ ОТ ИНФЕКЦИОННОГО ВОЗДЕЙСТВИ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9.КРОВЕНОСНЫЕ СОСУДЫ, ПО КОТОРЫМ КРОВЬ ДВИЖЕТСЯ К СЕРДЦУ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10. </a:t>
            </a: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человек, предоставляющий часть своей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 КРОВИ ДЛЯ ПЕРЕЛИВАНИ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11. ВЕЩЕСТВО, ВХОДЯЩЕЕ В СОСТАВ ЭРИТРОЦИТОВ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12. ЖИДКАЯ ЧАСТЬ КРОВ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13. ГРУППА КРОВИ УНИВЕРСИЛЬНОГО ДОНОР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Box 23"/>
          <p:cNvSpPr/>
          <p:nvPr/>
        </p:nvSpPr>
        <p:spPr>
          <a:xfrm>
            <a:off x="0" y="0"/>
            <a:ext cx="9144000" cy="71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4.Кровь, насыщенная кислородом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5. Периодическое толчкообразн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лебание стенки аорты, синхронно сокращению сердц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6. Путь от правого желудочка до левого предсерди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7. Сосуды, несущие кровь от сердц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8.Вещества, вырабатываемые лейкоцитами на чужеродный белок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9.Явление склеивания эритроцитов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3"/>
          <p:cNvSpPr/>
          <p:nvPr/>
        </p:nvSpPr>
        <p:spPr>
          <a:xfrm>
            <a:off x="4500720" y="6858000"/>
            <a:ext cx="71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Прямоугольник 7" descr=""/>
          <p:cNvPicPr/>
          <p:nvPr/>
        </p:nvPicPr>
        <p:blipFill>
          <a:blip r:embed="rId1"/>
          <a:stretch/>
        </p:blipFill>
        <p:spPr>
          <a:xfrm>
            <a:off x="-262080" y="109440"/>
            <a:ext cx="9412560" cy="8510760"/>
          </a:xfrm>
          <a:prstGeom prst="rect">
            <a:avLst/>
          </a:prstGeom>
          <a:ln w="0">
            <a:noFill/>
          </a:ln>
        </p:spPr>
      </p:pic>
      <p:pic>
        <p:nvPicPr>
          <p:cNvPr id="421" name="Прямоугольник 3" descr=""/>
          <p:cNvPicPr/>
          <p:nvPr/>
        </p:nvPicPr>
        <p:blipFill>
          <a:blip r:embed="rId2"/>
          <a:stretch/>
        </p:blipFill>
        <p:spPr>
          <a:xfrm>
            <a:off x="-6480" y="-212760"/>
            <a:ext cx="944244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Прямоугольник 2" descr=""/>
          <p:cNvPicPr/>
          <p:nvPr/>
        </p:nvPicPr>
        <p:blipFill>
          <a:blip r:embed="rId1"/>
          <a:stretch/>
        </p:blipFill>
        <p:spPr>
          <a:xfrm>
            <a:off x="-6480" y="-212760"/>
            <a:ext cx="8637840" cy="1139760"/>
          </a:xfrm>
          <a:prstGeom prst="rect">
            <a:avLst/>
          </a:prstGeom>
          <a:ln w="0">
            <a:noFill/>
          </a:ln>
        </p:spPr>
      </p:pic>
      <p:sp>
        <p:nvSpPr>
          <p:cNvPr id="423" name="TextBox 4"/>
          <p:cNvSpPr/>
          <p:nvPr/>
        </p:nvSpPr>
        <p:spPr>
          <a:xfrm flipV="1" rot="10800000">
            <a:off x="0" y="821160"/>
            <a:ext cx="914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20e86"/>
                </a:solidFill>
                <a:latin typeface="Arial"/>
              </a:rPr>
              <a:t>Эритроциты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расные кровяные клетки.  Они очень малы. В 1 кубическом  мм их </a:t>
            </a:r>
            <a:r>
              <a:rPr b="1" lang="ru-RU" sz="2800" spc="-1" strike="noStrike" u="sng">
                <a:solidFill>
                  <a:srgbClr val="c20e86"/>
                </a:solidFill>
                <a:uFillTx/>
                <a:latin typeface="Arial"/>
              </a:rPr>
              <a:t>5 млн</a:t>
            </a:r>
            <a:r>
              <a:rPr b="1" lang="ru-RU" sz="2800" spc="-1" strike="noStrike" u="sng">
                <a:solidFill>
                  <a:srgbClr val="990099"/>
                </a:solidFill>
                <a:uFillTx/>
                <a:latin typeface="Arial"/>
              </a:rPr>
              <a:t>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релые эритроциты </a:t>
            </a:r>
            <a:r>
              <a:rPr b="1" lang="ru-RU" sz="2800" spc="-1" strike="noStrike" u="sng">
                <a:solidFill>
                  <a:srgbClr val="c20e86"/>
                </a:solidFill>
                <a:uFillTx/>
                <a:latin typeface="Arial"/>
              </a:rPr>
              <a:t>не имеют ядер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о клетки </a:t>
            </a:r>
            <a:r>
              <a:rPr b="1" lang="ru-RU" sz="2800" spc="-1" strike="noStrike">
                <a:solidFill>
                  <a:srgbClr val="c20e86"/>
                </a:solidFill>
                <a:latin typeface="Arial"/>
              </a:rPr>
              <a:t>двояковогнуто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формы, не способны к самостоятельному движению. Внутри клеток  находиться гемоглобин – соединение белка и </a:t>
            </a:r>
            <a:r>
              <a:rPr b="1" lang="ru-RU" sz="2800" spc="-1" strike="noStrike" u="sng">
                <a:solidFill>
                  <a:srgbClr val="c20e86"/>
                </a:solidFill>
                <a:uFillTx/>
                <a:latin typeface="Arial"/>
              </a:rPr>
              <a:t>железа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ритроциты зарождаются </a:t>
            </a:r>
            <a:r>
              <a:rPr b="1" lang="ru-RU" sz="2800" spc="-1" strike="noStrike" u="sng">
                <a:solidFill>
                  <a:srgbClr val="c20e86"/>
                </a:solidFill>
                <a:uFillTx/>
                <a:latin typeface="Arial"/>
              </a:rPr>
              <a:t>в красном костном мозг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а разрушаются </a:t>
            </a:r>
            <a:r>
              <a:rPr b="1" lang="ru-RU" sz="2800" spc="-1" strike="noStrike" u="sng">
                <a:solidFill>
                  <a:srgbClr val="c20e86"/>
                </a:solidFill>
                <a:uFillTx/>
                <a:latin typeface="Arial"/>
              </a:rPr>
              <a:t>в селезенке</a:t>
            </a:r>
            <a:r>
              <a:rPr b="1" lang="ru-RU" sz="2800" spc="-1" strike="noStrike">
                <a:solidFill>
                  <a:srgbClr val="c20e86"/>
                </a:solidFill>
                <a:latin typeface="Arial"/>
              </a:rPr>
              <a:t>.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ная функция эритроцитов- транспорт </a:t>
            </a:r>
            <a:r>
              <a:rPr b="1" lang="ru-RU" sz="2800" spc="-1" strike="noStrike" u="sng">
                <a:solidFill>
                  <a:srgbClr val="c20e86"/>
                </a:solidFill>
                <a:uFillTx/>
                <a:latin typeface="Arial"/>
              </a:rPr>
              <a:t>газов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Заболевание, связанное с уменьшением количества эритроцитов в крови, называется  </a:t>
            </a:r>
            <a:r>
              <a:rPr b="1" lang="ru-RU" sz="2800" spc="-1" strike="noStrike" u="sng">
                <a:solidFill>
                  <a:srgbClr val="c20e86"/>
                </a:solidFill>
                <a:uFillTx/>
                <a:latin typeface="Arial"/>
              </a:rPr>
              <a:t>малокровием</a:t>
            </a:r>
            <a:r>
              <a:rPr b="1" lang="ru-RU" sz="2800" spc="-1" strike="noStrike">
                <a:solidFill>
                  <a:srgbClr val="c20e86"/>
                </a:solidFill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c20e86"/>
                </a:solidFill>
                <a:uFillTx/>
                <a:latin typeface="Arial"/>
              </a:rPr>
              <a:t>(анемией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Блок-схема: магнитный диск 1"/>
          <p:cNvSpPr/>
          <p:nvPr/>
        </p:nvSpPr>
        <p:spPr>
          <a:xfrm>
            <a:off x="2071800" y="2000160"/>
            <a:ext cx="2357280" cy="3143520"/>
          </a:xfrm>
          <a:prstGeom prst="flowChartMagneticDisk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МУС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Загнутый угол 6"/>
          <p:cNvSpPr/>
          <p:nvPr/>
        </p:nvSpPr>
        <p:spPr>
          <a:xfrm>
            <a:off x="5429160" y="1928880"/>
            <a:ext cx="2214720" cy="285732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Молоко 1 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Franklin Gothic Book"/>
              </a:rPr>
              <a:t>40 РУБ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Прямоугольник 7" descr=""/>
          <p:cNvPicPr/>
          <p:nvPr/>
        </p:nvPicPr>
        <p:blipFill>
          <a:blip r:embed="rId1"/>
          <a:stretch/>
        </p:blipFill>
        <p:spPr>
          <a:xfrm>
            <a:off x="-244440" y="1463760"/>
            <a:ext cx="2475000" cy="1968480"/>
          </a:xfrm>
          <a:prstGeom prst="rect">
            <a:avLst/>
          </a:prstGeom>
          <a:ln w="0">
            <a:noFill/>
          </a:ln>
        </p:spPr>
      </p:pic>
      <p:pic>
        <p:nvPicPr>
          <p:cNvPr id="427" name="Прямая соединительная линия 9" descr=""/>
          <p:cNvPicPr/>
          <p:nvPr/>
        </p:nvPicPr>
        <p:blipFill>
          <a:blip r:embed="rId2"/>
          <a:stretch/>
        </p:blipFill>
        <p:spPr>
          <a:xfrm>
            <a:off x="317520" y="1944720"/>
            <a:ext cx="1279440" cy="1279440"/>
          </a:xfrm>
          <a:prstGeom prst="rect">
            <a:avLst/>
          </a:prstGeom>
          <a:ln w="0">
            <a:noFill/>
          </a:ln>
        </p:spPr>
      </p:pic>
      <p:pic>
        <p:nvPicPr>
          <p:cNvPr id="428" name="Прямая соединительная линия 10" descr=""/>
          <p:cNvPicPr/>
          <p:nvPr/>
        </p:nvPicPr>
        <p:blipFill>
          <a:blip r:embed="rId3"/>
          <a:stretch/>
        </p:blipFill>
        <p:spPr>
          <a:xfrm>
            <a:off x="249120" y="1938240"/>
            <a:ext cx="1433520" cy="1285920"/>
          </a:xfrm>
          <a:prstGeom prst="rect">
            <a:avLst/>
          </a:prstGeom>
          <a:ln w="0">
            <a:noFill/>
          </a:ln>
        </p:spPr>
      </p:pic>
      <p:sp>
        <p:nvSpPr>
          <p:cNvPr id="429" name="TextBox 13"/>
          <p:cNvSpPr/>
          <p:nvPr/>
        </p:nvSpPr>
        <p:spPr>
          <a:xfrm>
            <a:off x="428760" y="3643200"/>
            <a:ext cx="128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Franklin Gothic Book"/>
              </a:rPr>
              <a:t>В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14"/>
          <p:cNvSpPr/>
          <p:nvPr/>
        </p:nvSpPr>
        <p:spPr>
          <a:xfrm>
            <a:off x="7715160" y="1714680"/>
            <a:ext cx="107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Franklin Gothic Book"/>
              </a:rPr>
              <a:t>И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Box 15"/>
          <p:cNvSpPr/>
          <p:nvPr/>
        </p:nvSpPr>
        <p:spPr>
          <a:xfrm>
            <a:off x="7786800" y="3714840"/>
            <a:ext cx="1071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Franklin Gothic Book"/>
              </a:rPr>
              <a:t>Е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Выгнутая вверх стрелка 16"/>
          <p:cNvSpPr/>
          <p:nvPr/>
        </p:nvSpPr>
        <p:spPr>
          <a:xfrm rot="13042800">
            <a:off x="6352920" y="4572720"/>
            <a:ext cx="1842840" cy="730440"/>
          </a:xfrm>
          <a:custGeom>
            <a:avLst/>
            <a:gdLst>
              <a:gd name="textAreaLeft" fmla="*/ 392040 w 1842840"/>
              <a:gd name="textAreaRight" fmla="*/ 1359360 w 1842840"/>
              <a:gd name="textAreaTop" fmla="*/ 97560 h 730440"/>
              <a:gd name="textAreaBottom" fmla="*/ 632880 h 730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96" hR="21600" stAng="10800000" swAng="5400000"/>
                <a:lnTo>
                  <a:pt x="11335" y="0"/>
                </a:lnTo>
                <a:arcTo wR="9196" hR="21600" stAng="-5400000" swAng="3525784"/>
                <a:lnTo>
                  <a:pt x="21308" y="16200"/>
                </a:lnTo>
                <a:lnTo>
                  <a:pt x="19461" y="21600"/>
                </a:lnTo>
                <a:lnTo>
                  <a:pt x="17029" y="16200"/>
                </a:lnTo>
                <a:lnTo>
                  <a:pt x="18099" y="16200"/>
                </a:lnTo>
                <a:arcTo wR="9196" hR="21600" stAng="-1874216" swAng="-3354547"/>
                <a:lnTo>
                  <a:pt x="10265" y="147"/>
                </a:lnTo>
                <a:arcTo wR="9196" hR="21600" stAng="-5571238" swAng="-5228762"/>
                <a:close/>
              </a:path>
              <a:path fill="darkenLess" w="21600" h="21600">
                <a:moveTo>
                  <a:pt x="0" y="21600"/>
                </a:moveTo>
                <a:arcTo wR="9196" hR="21600" stAng="10800000" swAng="5400000"/>
                <a:lnTo>
                  <a:pt x="9196" y="0"/>
                </a:lnTo>
                <a:arcTo wR="9196" hR="21600" stAng="-5400000" swAng="171238"/>
                <a:lnTo>
                  <a:pt x="10265" y="147"/>
                </a:lnTo>
                <a:arcTo wR="9196" hR="21600" stAng="-5571238" swAng="-5228762"/>
                <a:close/>
              </a:path>
            </a:pathLst>
          </a:custGeom>
          <a:solidFill>
            <a:srgbClr val="0d0d0d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7748640" y="3876840"/>
            <a:ext cx="1139760" cy="1493640"/>
          </a:xfrm>
          <a:prstGeom prst="rect">
            <a:avLst/>
          </a:prstGeom>
          <a:ln w="0">
            <a:noFill/>
          </a:ln>
        </p:spPr>
      </p:pic>
      <p:pic>
        <p:nvPicPr>
          <p:cNvPr id="434" name="Прямая соединительная линия 19" descr=""/>
          <p:cNvPicPr/>
          <p:nvPr/>
        </p:nvPicPr>
        <p:blipFill>
          <a:blip r:embed="rId5"/>
          <a:stretch/>
        </p:blipFill>
        <p:spPr>
          <a:xfrm>
            <a:off x="7607160" y="3943440"/>
            <a:ext cx="1354320" cy="1420560"/>
          </a:xfrm>
          <a:prstGeom prst="rect">
            <a:avLst/>
          </a:prstGeom>
          <a:ln w="0">
            <a:noFill/>
          </a:ln>
        </p:spPr>
      </p:pic>
      <p:pic>
        <p:nvPicPr>
          <p:cNvPr id="435" name="Прямоугольник 13" descr=""/>
          <p:cNvPicPr/>
          <p:nvPr/>
        </p:nvPicPr>
        <p:blipFill>
          <a:blip r:embed="rId6"/>
          <a:stretch/>
        </p:blipFill>
        <p:spPr>
          <a:xfrm>
            <a:off x="493560" y="-225360"/>
            <a:ext cx="819324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Заголовок 1" descr=""/>
          <p:cNvPicPr/>
          <p:nvPr/>
        </p:nvPicPr>
        <p:blipFill>
          <a:blip r:embed="rId1"/>
          <a:stretch/>
        </p:blipFill>
        <p:spPr>
          <a:xfrm>
            <a:off x="-1719360" y="-6480"/>
            <a:ext cx="10442520" cy="3054600"/>
          </a:xfrm>
          <a:prstGeom prst="rect">
            <a:avLst/>
          </a:prstGeom>
          <a:ln w="0">
            <a:noFill/>
          </a:ln>
        </p:spPr>
      </p:pic>
      <p:sp>
        <p:nvSpPr>
          <p:cNvPr id="437" name="TextBox 2"/>
          <p:cNvSpPr/>
          <p:nvPr/>
        </p:nvSpPr>
        <p:spPr>
          <a:xfrm>
            <a:off x="285840" y="307188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c7154"/>
                </a:solidFill>
                <a:latin typeface="Arial"/>
              </a:rPr>
              <a:t>(Что такое вакцина?  Кто впервые в мире применил вакцинацию? Зачем нужны прививки?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Заголовок 1" descr=""/>
          <p:cNvPicPr/>
          <p:nvPr/>
        </p:nvPicPr>
        <p:blipFill>
          <a:blip r:embed="rId1"/>
          <a:stretch/>
        </p:blipFill>
        <p:spPr>
          <a:xfrm>
            <a:off x="42840" y="-6480"/>
            <a:ext cx="8955000" cy="142092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2" descr=""/>
          <p:cNvPicPr/>
          <p:nvPr/>
        </p:nvPicPr>
        <p:blipFill>
          <a:blip r:embed="rId2"/>
          <a:stretch/>
        </p:blipFill>
        <p:spPr>
          <a:xfrm>
            <a:off x="0" y="928800"/>
            <a:ext cx="914400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7T17:43:45Z</dcterms:created>
  <dc:creator>Admin</dc:creator>
  <dc:description/>
  <dc:language>en-US</dc:language>
  <cp:lastModifiedBy>Admin</cp:lastModifiedBy>
  <dcterms:modified xsi:type="dcterms:W3CDTF">2011-04-02T06:29:06Z</dcterms:modified>
  <cp:revision>172</cp:revision>
  <dc:subject/>
  <dc:title>Слайд 1</dc:title>
</cp:coreProperties>
</file>