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8946-CC81-4C53-95D7-C0A783EC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7370-9B31-471F-8B4A-000F62CA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A43-691E-4E96-A6C8-E5095BE7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9A51-7737-417E-A2B7-EBC30247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DD05-5561-45DE-8FD5-4EA0012B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779D-85F9-43CC-BC96-992F4E8B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EC6-568F-4096-9008-95CDBB5A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FE6A-683B-4270-8A7E-ADE4911E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F80F-FBAA-4080-A458-1DB61A4E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84F-F840-4475-8639-FEA941AA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CE3E-E763-45F7-B0CA-32C25B76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583-6375-40BA-8427-FC11FA3A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615E-47B0-41FC-BFEB-0C036A2BDF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Куровская средняя общеобразовательная школа №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ый урок-игра : «Карнавал живот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иологии: Башурова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долгоживущая – японская кои – разновидность карпа. Число колец на чешуе одного кои соответствовало 228 го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70-80 лет живут осетры в Сев. Амер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00055"/>
          <p:cNvPicPr/>
          <p:nvPr/>
        </p:nvPicPr>
        <p:blipFill>
          <a:blip r:embed="rId1"/>
          <a:stretch/>
        </p:blipFill>
        <p:spPr>
          <a:xfrm>
            <a:off x="900000" y="1428840"/>
            <a:ext cx="755964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плодовитая – рыба-луна. За один нерест откладывает 300 млн икринок. Правда выживает 1% и рост бывает немаленький до 5- 6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ola11"/>
          <p:cNvPicPr/>
          <p:nvPr/>
        </p:nvPicPr>
        <p:blipFill>
          <a:blip r:embed="rId1"/>
          <a:stretch/>
        </p:blipFill>
        <p:spPr>
          <a:xfrm>
            <a:off x="611280" y="1700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ядовитая  - бородавчатка из Индийского океана. У нее большие ядовитые железы. Даже прикосновение к плавникам смертельно: остановка дыхания. Близкую ее родственницу – фугу употребляют в пищу. Правда повар проходит специальную подготовку и на экзамене должен сам съесть приготовленную рыб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одавчатка                                           Ф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214643057"/>
          <p:cNvPicPr/>
          <p:nvPr/>
        </p:nvPicPr>
        <p:blipFill>
          <a:blip r:embed="rId1"/>
          <a:stretch/>
        </p:blipFill>
        <p:spPr>
          <a:xfrm>
            <a:off x="108000" y="2781360"/>
            <a:ext cx="4176720" cy="33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1252622472_untitled_10"/>
          <p:cNvPicPr/>
          <p:nvPr/>
        </p:nvPicPr>
        <p:blipFill>
          <a:blip r:embed="rId2"/>
          <a:stretch/>
        </p:blipFill>
        <p:spPr>
          <a:xfrm>
            <a:off x="4356000" y="2781360"/>
            <a:ext cx="4680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глубоководная рыба была поймана у берегов Японии на глубине 7,7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_News_image_large_273370"/>
          <p:cNvPicPr/>
          <p:nvPr/>
        </p:nvPicPr>
        <p:blipFill>
          <a:blip r:embed="rId1"/>
          <a:stretch/>
        </p:blipFill>
        <p:spPr>
          <a:xfrm>
            <a:off x="1187280" y="1700280"/>
            <a:ext cx="64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Лягушка и стиль плавания. Какая между ними связ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Можно ли сделать ренген грудной клетки лягу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чему жабы могут жить в более сухих местах. Чем лягуш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 чем сходство головастика и рыб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Брем говорил: « Жабы настоящее благословение тех мест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лились»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очему лягушки икру откладывают на мелковод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очему лягушка пучеглазая? Для чего еще использует лягушка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з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Почему говорят, что язык у лягушки шиворот-навывор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Комары , москиты никогда не кусают лягушку, хотя кожа у них го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2124000" y="476280"/>
            <a:ext cx="41767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Т У Р     А М Ф И Б И 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тритон"/>
          <p:cNvPicPr/>
          <p:nvPr/>
        </p:nvPicPr>
        <p:blipFill>
          <a:blip r:embed="rId1"/>
          <a:stretch/>
        </p:blipFill>
        <p:spPr>
          <a:xfrm>
            <a:off x="6300720" y="333360"/>
            <a:ext cx="2592360" cy="1924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прудовая"/>
          <p:cNvPicPr/>
          <p:nvPr/>
        </p:nvPicPr>
        <p:blipFill>
          <a:blip r:embed="rId2"/>
          <a:stretch/>
        </p:blipFill>
        <p:spPr>
          <a:xfrm>
            <a:off x="250920" y="404640"/>
            <a:ext cx="2089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ится рисунок предмета, который используется для подводного плавания. В основу положено строение конечности ляг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556000" y="1916280"/>
            <a:ext cx="3600360" cy="25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сты сконструировал Луи де Карпе в 1929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5" descr="1895.jpg"/>
          <p:cNvPicPr/>
          <p:nvPr/>
        </p:nvPicPr>
        <p:blipFill>
          <a:blip r:embed="rId1"/>
          <a:stretch/>
        </p:blipFill>
        <p:spPr>
          <a:xfrm>
            <a:off x="2500200" y="2357280"/>
            <a:ext cx="51181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оведению лягушек можно определить по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молчит к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прыгает на берегу и квакает к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шумит река, закричит лягушка – будет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квакает вечером с трелью к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и держатся на поверхности и квакают, выставля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дочки к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жаба2"/>
          <p:cNvPicPr/>
          <p:nvPr/>
        </p:nvPicPr>
        <p:blipFill>
          <a:blip r:embed="rId1"/>
          <a:stretch/>
        </p:blipFill>
        <p:spPr>
          <a:xfrm>
            <a:off x="1763640" y="0"/>
            <a:ext cx="53578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Е  -  СА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амандра                                                            самая малень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саламандра2"/>
          <p:cNvPicPr/>
          <p:nvPr/>
        </p:nvPicPr>
        <p:blipFill>
          <a:blip r:embed="rId1"/>
          <a:stretch/>
        </p:blipFill>
        <p:spPr>
          <a:xfrm>
            <a:off x="468360" y="1341360"/>
            <a:ext cx="3962520" cy="338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сам мал"/>
          <p:cNvPicPr/>
          <p:nvPr/>
        </p:nvPicPr>
        <p:blipFill>
          <a:blip r:embed="rId2"/>
          <a:stretch/>
        </p:blipFill>
        <p:spPr>
          <a:xfrm>
            <a:off x="4788000" y="1413000"/>
            <a:ext cx="39621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5075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я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чему змея  часто высовывает язы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Змеи видят и слышат плохо. Однако они охотятся в сумер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у змеи взгляд немигающ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Почему крокодил  «плачет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Гадюки уходя на зимовку собираются вместе в клубок. Зачем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Гаттерия – живое ископаемое.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очему змея, когда движется – полз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У какой рептилии меняется цвет кожи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рокодил и аллигатор – как их разли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2627280" y="333360"/>
            <a:ext cx="3073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      Т У Р         Р Е П Т И Л И И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5" descr="кркгнига"/>
          <p:cNvPicPr/>
          <p:nvPr/>
        </p:nvPicPr>
        <p:blipFill>
          <a:blip r:embed="rId1"/>
          <a:stretch/>
        </p:blipFill>
        <p:spPr>
          <a:xfrm>
            <a:off x="6012000" y="765000"/>
            <a:ext cx="2931840" cy="215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кр книга"/>
          <p:cNvPicPr/>
          <p:nvPr/>
        </p:nvPicPr>
        <p:blipFill>
          <a:blip r:embed="rId2"/>
          <a:stretch/>
        </p:blipFill>
        <p:spPr>
          <a:xfrm>
            <a:off x="108000" y="836640"/>
            <a:ext cx="2808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5280" y="2130120"/>
            <a:ext cx="496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137440" cy="6193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826920" y="404640"/>
            <a:ext cx="763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навал животны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5" descr="Bird"/>
          <p:cNvPicPr/>
          <p:nvPr/>
        </p:nvPicPr>
        <p:blipFill>
          <a:blip r:embed="rId1"/>
          <a:stretch/>
        </p:blipFill>
        <p:spPr>
          <a:xfrm>
            <a:off x="2843280" y="1916280"/>
            <a:ext cx="319392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ы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очему ласточек не бьет током, когда они сидят на провод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чему птицы не падают с деревьев, когда спя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се птицы машут крыльями, но не все летают. Какие птицы не лет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чему птицы в зимнюю стужу нахохлив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Что является для птиц более страшным: голод или хол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Для чего воробьи принимают песочные ван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Какую роль выполняет белок в яйц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Могут ли птицы нести яйца без скорлуп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Нефть вызывает гибель птиц при ее разливе в воде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2340000" y="260280"/>
            <a:ext cx="36720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 Т У Р        П Т И Ц Ы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5" descr="B22W6574-1-снигирь-на-белом"/>
          <p:cNvPicPr/>
          <p:nvPr/>
        </p:nvPicPr>
        <p:blipFill>
          <a:blip r:embed="rId1"/>
          <a:stretch/>
        </p:blipFill>
        <p:spPr>
          <a:xfrm>
            <a:off x="6516720" y="5493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орел"/>
          <p:cNvPicPr/>
          <p:nvPr/>
        </p:nvPicPr>
        <p:blipFill>
          <a:blip r:embed="rId2"/>
          <a:stretch/>
        </p:blipFill>
        <p:spPr>
          <a:xfrm>
            <a:off x="250920" y="692280"/>
            <a:ext cx="2663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всю историю цивилизации прекратили свое существование около 200 видов птиц, причем 43 из н х исчезли за последние 20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тающие в Австралии сорные куры согревают свои яйца в «инкубаторах» - зарывают в холмики, состоящие их земли и гниющих растений. Курам удается поддерживать температуру 33 град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епогодой певчие птицы молчат, а чайки, вороны, галки, наоборот, истошно кричат. Куры и воробьи чистятся и купаются в п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кушка обладает способностью нести разные по цвету яйца, в зависимости от того, какие яйца у птиц-хозя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птичек колибри быстрый полет. Делая 60 взмахов в секунде, они могут развивать скорость 100 км/час. За 100 часов они преодолевают расстояние 900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763640" y="333360"/>
            <a:ext cx="4321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 ИНТЕРЕСН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ПТИЦ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3" descr="памятник.jpg"/>
          <p:cNvPicPr/>
          <p:nvPr/>
        </p:nvPicPr>
        <p:blipFill>
          <a:blip r:embed="rId1"/>
          <a:stretch/>
        </p:blipFill>
        <p:spPr>
          <a:xfrm>
            <a:off x="0" y="928800"/>
            <a:ext cx="3973680" cy="5715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памятник1.jpg"/>
          <p:cNvPicPr/>
          <p:nvPr/>
        </p:nvPicPr>
        <p:blipFill>
          <a:blip r:embed="rId2"/>
          <a:stretch/>
        </p:blipFill>
        <p:spPr>
          <a:xfrm>
            <a:off x="4000680" y="928800"/>
            <a:ext cx="50004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3" descr="памятник2.jpg"/>
          <p:cNvPicPr/>
          <p:nvPr/>
        </p:nvPicPr>
        <p:blipFill>
          <a:blip r:embed="rId1"/>
          <a:stretch/>
        </p:blipFill>
        <p:spPr>
          <a:xfrm>
            <a:off x="142920" y="28584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памятник5.jpg"/>
          <p:cNvPicPr/>
          <p:nvPr/>
        </p:nvPicPr>
        <p:blipFill>
          <a:blip r:embed="rId2"/>
          <a:stretch/>
        </p:blipFill>
        <p:spPr>
          <a:xfrm>
            <a:off x="2214720" y="3362400"/>
            <a:ext cx="5162400" cy="34956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памятник 3.jpg"/>
          <p:cNvPicPr/>
          <p:nvPr/>
        </p:nvPicPr>
        <p:blipFill>
          <a:blip r:embed="rId3"/>
          <a:stretch/>
        </p:blipFill>
        <p:spPr>
          <a:xfrm>
            <a:off x="4500720" y="142920"/>
            <a:ext cx="4086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О СОБА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Эта симпатичная собачка первой побывала в космо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ак называется наука о собак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 переводе с японского порода называется «Драгоценнос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Судя по названию эти собаки умеют ловить л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Только у собак этой породы фиолетовый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Одичавшие собаки утрачивают эту способ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азвание этой собаки произошло от слова «овца». Возможно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и первыми пастух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Название породы произошло от немецкого слова «лужица». Им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промокшего до нитки. Кто э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Почему в жаркий день собака высовывает язы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1908000" y="260280"/>
            <a:ext cx="46087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 Т У Р      М Л Е К О П И Т А Ю Щ И Е.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42600" y="35676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обака Ла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laika-kosmos.jpg"/>
          <p:cNvPicPr/>
          <p:nvPr/>
        </p:nvPicPr>
        <p:blipFill>
          <a:blip r:embed="rId1"/>
          <a:stretch/>
        </p:blipFill>
        <p:spPr>
          <a:xfrm>
            <a:off x="2786040" y="357120"/>
            <a:ext cx="45007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- Пеки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5" descr="photo190.jpg"/>
          <p:cNvPicPr/>
          <p:nvPr/>
        </p:nvPicPr>
        <p:blipFill>
          <a:blip r:embed="rId1"/>
          <a:stretch/>
        </p:blipFill>
        <p:spPr>
          <a:xfrm>
            <a:off x="1214280" y="1071720"/>
            <a:ext cx="60724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– фокстерь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1259822740_49.jpg"/>
          <p:cNvPicPr/>
          <p:nvPr/>
        </p:nvPicPr>
        <p:blipFill>
          <a:blip r:embed="rId1"/>
          <a:stretch/>
        </p:blipFill>
        <p:spPr>
          <a:xfrm>
            <a:off x="1071720" y="1000080"/>
            <a:ext cx="63579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42960" y="500040"/>
            <a:ext cx="71294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Чау-ч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3" descr="image7821.jpg"/>
          <p:cNvPicPr/>
          <p:nvPr/>
        </p:nvPicPr>
        <p:blipFill>
          <a:blip r:embed="rId1"/>
          <a:stretch/>
        </p:blipFill>
        <p:spPr>
          <a:xfrm>
            <a:off x="1219320" y="1071720"/>
            <a:ext cx="6495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85520" y="428400"/>
            <a:ext cx="6986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Овч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3" descr="3118351.jpg"/>
          <p:cNvPicPr/>
          <p:nvPr/>
        </p:nvPicPr>
        <p:blipFill>
          <a:blip r:embed="rId1"/>
          <a:stretch/>
        </p:blipFill>
        <p:spPr>
          <a:xfrm>
            <a:off x="1714680" y="1000080"/>
            <a:ext cx="4929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856720" cy="66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задание.                                             ЗАГАД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самом омуте живет                                    Драчун и забия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зяин глубины                                                   Живет в в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ет он огромный рот,                                     Когти на спин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глазки чуть видны.                                           А щука не прогло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нее во рту пила,                                              С зубастой трехметровой рыб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водой живет она.                                        Знакомство было бы ошиб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х пугала, всех глота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теперь в котел поп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ованный в бронзу с боков,                        Не человек, не зверь, а с ус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плыл в темноте коле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гая в лесах трос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пейками чешу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763640" y="333360"/>
            <a:ext cx="2762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ТУР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 Р Ы Б Ы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Пу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2" descr="Pudel_big1.jpg"/>
          <p:cNvPicPr/>
          <p:nvPr/>
        </p:nvPicPr>
        <p:blipFill>
          <a:blip r:embed="rId1"/>
          <a:stretch/>
        </p:blipFill>
        <p:spPr>
          <a:xfrm>
            <a:off x="2928960" y="357120"/>
            <a:ext cx="5227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Живот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4_2.jpg"/>
          <p:cNvPicPr/>
          <p:nvPr/>
        </p:nvPicPr>
        <p:blipFill>
          <a:blip r:embed="rId1"/>
          <a:stretch/>
        </p:blipFill>
        <p:spPr>
          <a:xfrm>
            <a:off x="214200" y="714240"/>
            <a:ext cx="5143680" cy="37864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23098117_kot_v_sapogah_kremenchug.jpg"/>
          <p:cNvPicPr/>
          <p:nvPr/>
        </p:nvPicPr>
        <p:blipFill>
          <a:blip r:embed="rId2"/>
          <a:stretch/>
        </p:blipFill>
        <p:spPr>
          <a:xfrm>
            <a:off x="5500800" y="1857240"/>
            <a:ext cx="333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4" descr="d90c651613ab.jpg"/>
          <p:cNvPicPr/>
          <p:nvPr/>
        </p:nvPicPr>
        <p:blipFill>
          <a:blip r:embed="rId1"/>
          <a:stretch/>
        </p:blipFill>
        <p:spPr>
          <a:xfrm>
            <a:off x="5429160" y="1857240"/>
            <a:ext cx="3571920" cy="476280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6" descr="Sobaka.jpg"/>
          <p:cNvPicPr/>
          <p:nvPr/>
        </p:nvPicPr>
        <p:blipFill>
          <a:blip r:embed="rId2"/>
          <a:stretch/>
        </p:blipFill>
        <p:spPr>
          <a:xfrm>
            <a:off x="142920" y="714240"/>
            <a:ext cx="51642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2" descr="balto_statue.jpg"/>
          <p:cNvPicPr/>
          <p:nvPr/>
        </p:nvPicPr>
        <p:blipFill>
          <a:blip r:embed="rId1"/>
          <a:stretch/>
        </p:blipFill>
        <p:spPr>
          <a:xfrm>
            <a:off x="142920" y="500040"/>
            <a:ext cx="4565520" cy="4365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t_1185_1250345078.jpg"/>
          <p:cNvPicPr/>
          <p:nvPr/>
        </p:nvPicPr>
        <p:blipFill>
          <a:blip r:embed="rId2"/>
          <a:stretch/>
        </p:blipFill>
        <p:spPr>
          <a:xfrm>
            <a:off x="5000760" y="500040"/>
            <a:ext cx="37796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памятники6.jpg"/>
          <p:cNvPicPr/>
          <p:nvPr/>
        </p:nvPicPr>
        <p:blipFill>
          <a:blip r:embed="rId1"/>
          <a:stretch/>
        </p:blipFill>
        <p:spPr>
          <a:xfrm>
            <a:off x="142920" y="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памятник0.jpg"/>
          <p:cNvPicPr/>
          <p:nvPr/>
        </p:nvPicPr>
        <p:blipFill>
          <a:blip r:embed="rId2"/>
          <a:stretch/>
        </p:blipFill>
        <p:spPr>
          <a:xfrm>
            <a:off x="5334120" y="28584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5" descr="895097.jpg"/>
          <p:cNvPicPr/>
          <p:nvPr/>
        </p:nvPicPr>
        <p:blipFill>
          <a:blip r:embed="rId3"/>
          <a:stretch/>
        </p:blipFill>
        <p:spPr>
          <a:xfrm>
            <a:off x="0" y="2955960"/>
            <a:ext cx="5200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Чешуя рыб «паспорт» и «медицинская книжка»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ав ли ученик сказав:» Рыбы спят зимой с закрыт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зам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ескарь, вырвавшись из пасти щуки оказался раненым. Его   собратья бросились в рассыпную. Как это объясн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ова роль слизи на теле ры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Акула сломала зуб. Останется ли она беззуб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очему у рыб разная окрас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Из чего делают шпротные консервы и рыбные палоч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После дождя клев в водоеме усилился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ая рыба в Амазонке самая опасн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Электрический сом попался на удочку. Какие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ют рыбо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Рыболовы возвращаясь с рыбалки кладут в корзину крапив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етки ольхи. Почему так поступают рыболо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Какой биологический смысл имеет живорож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92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слов, в которых перепутаны буквы, составьте названия ры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ФЬЛЕО                      ТАМНИЙ                        РТЛП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ЕУГЛБ                        ДЬСТРЕЯЛ                   УБОРГ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СТРЕ                        АЗНСА                          ЮВРСЕАГ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АЛТСРЕИИ                МЕСАГ                          АНАГ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ятся две рыбы, которые фигурируют в басне И. Крылова. Как называется басня? Какие это ры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2411280" y="333360"/>
            <a:ext cx="3638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квенныеи головоломк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203640" y="4581360"/>
            <a:ext cx="1849320" cy="141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лещик, потр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стерляди кусоче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асня «Демьянова ух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2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крупная рыба – китовая акула. Питается планктоном. Самая большая была длиной 12,65см и охват – 7 м. вес – 15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2340000" y="189000"/>
            <a:ext cx="408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Самые - Самые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5" descr="Безымянный акула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маленькая морская рыбка – карликовый бычок из Черного моря. Длина – 2,1 см, вес  -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malen_kaja_bychok"/>
          <p:cNvPicPr/>
          <p:nvPr/>
        </p:nvPicPr>
        <p:blipFill>
          <a:blip r:embed="rId1"/>
          <a:stretch/>
        </p:blipFill>
        <p:spPr>
          <a:xfrm>
            <a:off x="468360" y="126828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быстрая рыба – это рыба-парусник. Скорость 109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унец 104км/ 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arlin"/>
          <p:cNvPicPr/>
          <p:nvPr/>
        </p:nvPicPr>
        <p:blipFill>
          <a:blip r:embed="rId1"/>
          <a:stretch/>
        </p:blipFill>
        <p:spPr>
          <a:xfrm>
            <a:off x="1403280" y="1413000"/>
            <a:ext cx="6481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6:13:56Z</dcterms:created>
  <dc:creator>Bashurov</dc:creator>
  <dc:description/>
  <dc:language>en-US</dc:language>
  <cp:lastModifiedBy>Олег</cp:lastModifiedBy>
  <dcterms:modified xsi:type="dcterms:W3CDTF">2011-12-29T18:46:09Z</dcterms:modified>
  <cp:revision>18</cp:revision>
  <dc:subject/>
  <dc:title>Слайд 1</dc:title>
</cp:coreProperties>
</file>