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10.jpeg" ContentType="image/jpeg"/>
  <Override PartName="/ppt/media/image5.jpeg" ContentType="image/jpeg"/>
  <Override PartName="/ppt/media/image13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25.jpeg" ContentType="image/jpeg"/>
  <Override PartName="/ppt/media/image2.png" ContentType="image/png"/>
  <Override PartName="/ppt/media/image3.png" ContentType="image/png"/>
  <Override PartName="/ppt/media/image17.jpeg" ContentType="image/jpeg"/>
  <Override PartName="/ppt/media/image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3275-A6DF-496B-B07B-0316903D9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6FC9-6908-4324-A98E-E462CAF98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AF9DDF-C21B-4CBB-AC00-2D7ACE0C7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CA77C5-4650-4D2E-875F-9310018F4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91A22B-1E11-45F1-ACBF-DD7612FAD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AF8650-81FA-42BD-A78B-06ED940C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793194-32EE-4DEC-B796-258AF95D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6A6E9C-59A2-4035-AC4E-D9A2FB55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08F223-3CB8-4787-825B-56E75B1AE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5AF5C8-94DC-4279-876B-06E4A7B75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E66DDD-8894-4A41-BDCD-765123BFC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9285-0764-4E6B-AA9B-F536B3857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4FF1-09B9-4D50-88B2-ECF589CFC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5F351-0BDF-475D-8450-79BC0CF54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B5829-D63A-4A47-A499-216B9CD39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8FA95-3DCB-4DA9-B70F-B1A07EB26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8ABF1-20FD-475A-82E9-016E81301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F10C6-B64E-4C25-AC4A-DF410598D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C21B3-8513-469E-8E51-3E18D54E9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56D54-D220-4EF8-B799-B6FA056E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2459-7277-4A6E-A962-BC8F4E1F8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FF36F-4A6B-4E45-B858-B8EC0A07C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3C272-AEEB-4432-8A80-D967E676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14EA6-5958-4410-BBFC-977869416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F3D67-066C-42F1-A3D7-1DD85B501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63871-878A-41BC-984A-AE0AD13B3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A0437-E810-4E0D-8373-5A17AD737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F059E-FE4D-4A4E-99CB-DB9790223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60174-2E78-4506-9780-BCDADEA5B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DD74D-C01E-42C1-AC8C-B85F28D8E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F79CF-70F9-480A-956C-50378DD94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3171-A3CF-484B-89E6-BD5B848E6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B9AE9-5FA3-41E3-BCE5-CD4C8D0DB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B7CF5-D51E-441B-8B74-857A2E9A8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4E6CB-6731-4748-B85D-49058309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7AFC0-7B4A-44C2-812E-2341ABB4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F8247-A276-4686-9B1F-E06388EBD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BBD60-3C8C-473B-A4BE-E882C48BD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DE06F-CB27-4625-B6A3-C29EC0ABA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31874-47FB-4225-B463-02920FF92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388F6-4551-4A7C-BF26-B0252A762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4ADB7-D491-4041-A001-7135E9CBC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E4AE-7929-4B3B-9B11-0F8597087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180F5-2768-4154-9919-57998CDAF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21592-A028-44A9-BE77-7A90F9223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356B9-DE86-4763-8237-10C94FF0F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CCD10-E015-4834-86FD-4BF0C83C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F93FD-F87A-4219-A9A8-95AB8B8B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8696D-0EE2-4AE7-8CB7-6DC0B5AB6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FA970-BB67-4543-A68F-6E10B4DF0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C3705-1BFB-476C-BFEC-65D616605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295A0-72B5-4DEA-99FD-C3834CE97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F156D-156C-4BB1-91C2-CF9CAC3A3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FC47-16D1-4B9A-A754-98F1B1F2B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7BB41B-FAA0-4275-8B34-ECFA2F3ED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C96E3-E009-4A0D-BE7A-B7DA1B5CB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859854-9E20-4804-80BC-76FC7A569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FEAA6-0CEE-4FB4-857C-EB2112CD0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E4CD1-C03E-4FD5-A611-5032118AC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E6F1A0-B359-4C33-A225-C8FEBDF72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5106E-8EEE-4B61-B13D-C3E5663E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F6D518-E8E4-475C-BDE4-7B4E622FB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8CAB4-36D5-4D22-8CB8-230FFCD4C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A3492E-F395-4499-AF88-F318BCFDE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F828-1502-4585-B185-C22A260F0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A52D91-C087-48BE-A284-E95E13775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CDD957-9D64-43F7-B1C2-1547C3933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DB733-CDAE-4162-B4F5-844275781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55B8F3-BCF3-4EE6-AAD1-1F48402FB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647DC3-069D-4BBE-AA32-22BF9FA08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34051E-D7F9-432B-8E31-5F372E247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2722BF-66CB-46E3-BC1E-2E9B4B9C7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27231C-208C-4576-9FEA-462AE1394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512FB0-13B2-4D1C-B2A2-F4832D51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8F45A0-A29A-47C6-B52A-A74D4666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5D63-2F0F-41F4-B953-5105567C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1110CF-2802-4FA1-A3E5-7501B377B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7F5FA9-C71A-4008-9C0B-1A6BFB728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1D17A6-3C0C-4FC3-9029-627C2D24C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2A540D-73FA-417D-AEC3-F607362AD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CDD8D3-EEA1-402F-BF9B-CCE954829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3A1994-5B0F-4AE0-9F66-11F47A674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A3B3FA-ADF5-48B3-972B-49D1A375D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554929-7510-44A7-9065-8335B3B0E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EC246C-6B68-4300-9280-CED153CED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67E401-0BD8-4D6F-9B64-8C2938FB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ECAD-0B9C-451D-BED2-1EE19BC30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23F92C-BF68-4BEC-8D07-6F9000211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E354C1-A286-4E34-B2C4-18D33217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D3BDDD-9FF7-4082-AE69-DA5FDE220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B5A3B7-39DF-4228-9009-B0C12B999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7F57A0-C1CE-44F2-B861-A9724CAD7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B777F0-D4A0-4386-83CC-E44F35EE3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27EF3E-9BC7-42BA-8B32-D93A0CC03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1BC1DD-C26A-414C-AB67-85A59FACA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6ED6B2-FD26-4CE7-A97A-2F7A935FA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4FC1E1-3BC3-408E-9E28-34B5AD3AD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D019-B2E9-443C-8D4A-763CEDA9F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342859-84C0-4C4A-843C-FC55959FC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C155F5-5002-4B94-8D95-865BF3BC5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5C0120-A631-4A69-B064-A8CB7A119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CF612A-CD74-4674-B0C4-69FEB3CCF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8670F3-D491-4456-B93B-E4513FF56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315679-748E-4527-98C7-369925CC0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5D3F39-016F-44DC-9B48-CD9FC057B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1A4DBB-DF4E-4EC3-A555-F02E78160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E93213-4F4A-462B-AF74-CC396EA48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EA9674-C0F1-443C-B648-E6B48EB1A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8A317-83FF-4EF2-8961-7990B6B72C1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5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01c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09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65D09-33BE-492B-8ED5-339305EBF6FF}" type="slidenum">
              <a:rPr b="0" lang="en-US" sz="1000" spc="-1" strike="noStrike">
                <a:solidFill>
                  <a:srgbClr val="a1b4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01594-3F18-4D7D-AB19-3B7DD02FF72F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4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4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93985-23AB-4092-853D-4D9A18CC548D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1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8F9E7-2A1C-4296-8600-F63C5251C638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24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01c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09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ABAA2-CE9B-4D4A-91BA-79327E7E5D12}" type="slidenum">
              <a:rPr b="0" lang="ru-RU" sz="1000" spc="-1" strike="noStrike">
                <a:solidFill>
                  <a:srgbClr val="a1b4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28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01c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09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7F34D-9B80-4CEC-ACDB-615F2D3BCAAF}" type="slidenum">
              <a:rPr b="0" lang="ru-RU" sz="1000" spc="-1" strike="noStrike">
                <a:solidFill>
                  <a:srgbClr val="a1b4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01c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09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5D024-A6DE-4A92-9FA4-6011F0234888}" type="slidenum">
              <a:rPr b="0" lang="ru-RU" sz="1000" spc="-1" strike="noStrike">
                <a:solidFill>
                  <a:srgbClr val="a1b4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01c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09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0A618-165D-4EB1-833D-A7E5AEC88C09}" type="slidenum">
              <a:rPr b="0" lang="ru-RU" sz="1000" spc="-1" strike="noStrike">
                <a:solidFill>
                  <a:srgbClr val="a1b4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2"/>
          <a:stretch/>
        </p:blipFill>
        <p:spPr>
          <a:xfrm>
            <a:off x="530280" y="1255680"/>
            <a:ext cx="8461440" cy="201132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1857240" y="4071600"/>
            <a:ext cx="5214960" cy="12970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лахова Г.Ф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химии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торой квалификационной категории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тламышевской СОШ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42960" y="8568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Times New Roman"/>
                <a:ea typeface="Times New Roman"/>
              </a:rPr>
              <a:t>Особенности пивного алкоголизма</a:t>
            </a:r>
            <a:br>
              <a:rPr sz="3200"/>
            </a:b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57200" y="1599840"/>
            <a:ext cx="8229600" cy="1971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Пиво переполняет кровеносные сосуды: возникает синдром «пивного сердца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9" name="Рисунок 6" descr="пиво20.jpg"/>
          <p:cNvPicPr/>
          <p:nvPr/>
        </p:nvPicPr>
        <p:blipFill>
          <a:blip r:embed="rId1"/>
          <a:stretch/>
        </p:blipFill>
        <p:spPr>
          <a:xfrm>
            <a:off x="3429000" y="3429000"/>
            <a:ext cx="23572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 txBox="1"/>
          <p:nvPr/>
        </p:nvSpPr>
        <p:spPr>
          <a:xfrm>
            <a:off x="500040" y="1999800"/>
            <a:ext cx="8183520" cy="20415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Verdana"/>
              </a:rPr>
              <a:t>Пиво наносит вред гормонам  человека: 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Verdana"/>
              </a:rPr>
              <a:t>сказывается влияние токсических веществ.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Мужчин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подавляется выработка мужского                          увеличивается выработка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женских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полового гормона – тестостерона                           половых гормонов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spcBef>
                <a:spcPts val="249"/>
              </a:spcBef>
              <a:buClr>
                <a:srgbClr val="0f6fc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разрастаются грудные железы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spcBef>
                <a:spcPts val="249"/>
              </a:spcBef>
              <a:buClr>
                <a:srgbClr val="0f6fc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становится шире таз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spcBef>
                <a:spcPts val="249"/>
              </a:spcBef>
              <a:buClr>
                <a:srgbClr val="0f6fc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появляется «пивной живот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Line 11"/>
          <p:cNvSpPr/>
          <p:nvPr/>
        </p:nvSpPr>
        <p:spPr>
          <a:xfrm flipH="1">
            <a:off x="3428640" y="1785960"/>
            <a:ext cx="647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13"/>
          <p:cNvSpPr/>
          <p:nvPr/>
        </p:nvSpPr>
        <p:spPr>
          <a:xfrm>
            <a:off x="5286240" y="1857240"/>
            <a:ext cx="43200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14"/>
          <p:cNvSpPr/>
          <p:nvPr/>
        </p:nvSpPr>
        <p:spPr>
          <a:xfrm>
            <a:off x="6429240" y="2786040"/>
            <a:ext cx="4608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Рисунок 9" descr="пиво3.jpg"/>
          <p:cNvPicPr/>
          <p:nvPr/>
        </p:nvPicPr>
        <p:blipFill>
          <a:blip r:embed="rId1"/>
          <a:stretch/>
        </p:blipFill>
        <p:spPr>
          <a:xfrm>
            <a:off x="1143000" y="3286080"/>
            <a:ext cx="357192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 txBox="1"/>
          <p:nvPr/>
        </p:nvSpPr>
        <p:spPr>
          <a:xfrm>
            <a:off x="428760" y="499680"/>
            <a:ext cx="8229600" cy="3614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89000"/>
          </a:bodyPr>
          <a:p>
            <a:pPr marL="235800" indent="-23580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Женщин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возрастает вероятность                                   кормящая мать,                 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заболевания раком                                         употребляющая пиво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становится грубее голос                                  эпилептические      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      судороги у ребенка                    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появляются «пивные усы»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Line 10"/>
          <p:cNvSpPr/>
          <p:nvPr/>
        </p:nvSpPr>
        <p:spPr>
          <a:xfrm flipH="1">
            <a:off x="3357360" y="1143000"/>
            <a:ext cx="431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11"/>
          <p:cNvSpPr/>
          <p:nvPr/>
        </p:nvSpPr>
        <p:spPr>
          <a:xfrm>
            <a:off x="5643720" y="1143000"/>
            <a:ext cx="576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Рисунок 7" descr="Безымянный.bmp"/>
          <p:cNvPicPr/>
          <p:nvPr/>
        </p:nvPicPr>
        <p:blipFill>
          <a:blip r:embed="rId1"/>
          <a:stretch/>
        </p:blipFill>
        <p:spPr>
          <a:xfrm>
            <a:off x="3714840" y="3643200"/>
            <a:ext cx="2923920" cy="2214720"/>
          </a:xfrm>
          <a:prstGeom prst="rect">
            <a:avLst/>
          </a:prstGeom>
          <a:ln w="0">
            <a:noFill/>
          </a:ln>
        </p:spPr>
      </p:pic>
      <p:sp>
        <p:nvSpPr>
          <p:cNvPr id="460" name="Стрелка вниз 8"/>
          <p:cNvSpPr/>
          <p:nvPr/>
        </p:nvSpPr>
        <p:spPr>
          <a:xfrm>
            <a:off x="6715080" y="2071800"/>
            <a:ext cx="71640" cy="285480"/>
          </a:xfrm>
          <a:prstGeom prst="downArrow">
            <a:avLst>
              <a:gd name="adj1" fmla="val 50000"/>
              <a:gd name="adj2" fmla="val 49812"/>
            </a:avLst>
          </a:prstGeom>
          <a:solidFill>
            <a:srgbClr val="0f6fc6"/>
          </a:solidFill>
          <a:ln w="424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Этиловый спирт пагубно влияет на клетки головного мозг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2" name="Рисунок 7" descr="пиво28.jpg"/>
          <p:cNvPicPr/>
          <p:nvPr/>
        </p:nvPicPr>
        <p:blipFill>
          <a:blip r:embed="rId1"/>
          <a:stretch/>
        </p:blipFill>
        <p:spPr>
          <a:xfrm>
            <a:off x="3500280" y="2071800"/>
            <a:ext cx="1905120" cy="2371680"/>
          </a:xfrm>
          <a:prstGeom prst="rect">
            <a:avLst/>
          </a:prstGeom>
          <a:ln w="0">
            <a:noFill/>
          </a:ln>
        </p:spPr>
      </p:pic>
      <p:sp>
        <p:nvSpPr>
          <p:cNvPr id="463" name="Прямоугольник 8"/>
          <p:cNvSpPr/>
          <p:nvPr/>
        </p:nvSpPr>
        <p:spPr>
          <a:xfrm>
            <a:off x="5572080" y="1857240"/>
            <a:ext cx="3000600" cy="642960"/>
          </a:xfrm>
          <a:prstGeom prst="rect">
            <a:avLst/>
          </a:prstGeom>
          <a:solidFill>
            <a:srgbClr val="0f6fc6"/>
          </a:solidFill>
          <a:ln w="424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Снижается способность к обучени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9"/>
          <p:cNvSpPr/>
          <p:nvPr/>
        </p:nvSpPr>
        <p:spPr>
          <a:xfrm>
            <a:off x="571680" y="1857240"/>
            <a:ext cx="2571480" cy="714600"/>
          </a:xfrm>
          <a:prstGeom prst="rect">
            <a:avLst/>
          </a:prstGeom>
          <a:solidFill>
            <a:srgbClr val="0f6fc6"/>
          </a:solidFill>
          <a:ln w="424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Снижается интеллек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Прямоугольник 10"/>
          <p:cNvSpPr/>
          <p:nvPr/>
        </p:nvSpPr>
        <p:spPr>
          <a:xfrm>
            <a:off x="2786040" y="5143680"/>
            <a:ext cx="3357720" cy="642600"/>
          </a:xfrm>
          <a:prstGeom prst="rect">
            <a:avLst/>
          </a:prstGeom>
          <a:solidFill>
            <a:srgbClr val="0f6fc6"/>
          </a:solidFill>
          <a:ln w="424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Снижается личностная оцен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885e9"/>
                </a:solidFill>
                <a:latin typeface="Verdana"/>
              </a:rPr>
              <a:t>Пиво – наркотик, вызывающий агрессию.</a:t>
            </a:r>
            <a:endParaRPr b="1" lang="en-US" sz="40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3142800" y="1928520"/>
            <a:ext cx="5543640" cy="3500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потребление пива является первой причиной искалеченных судеб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каждый десятый алкоголик моложе 18 ле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8" name="Рисунок 6" descr="пиво14.jpg"/>
          <p:cNvPicPr/>
          <p:nvPr/>
        </p:nvPicPr>
        <p:blipFill>
          <a:blip r:embed="rId1"/>
          <a:stretch/>
        </p:blipFill>
        <p:spPr>
          <a:xfrm>
            <a:off x="1071720" y="3989520"/>
            <a:ext cx="1643040" cy="1401480"/>
          </a:xfrm>
          <a:prstGeom prst="rect">
            <a:avLst/>
          </a:prstGeom>
          <a:ln w="0">
            <a:noFill/>
          </a:ln>
        </p:spPr>
      </p:pic>
      <p:pic>
        <p:nvPicPr>
          <p:cNvPr id="469" name="Рисунок 9" descr="пиво17.jpg"/>
          <p:cNvPicPr/>
          <p:nvPr/>
        </p:nvPicPr>
        <p:blipFill>
          <a:blip r:embed="rId2"/>
          <a:stretch/>
        </p:blipFill>
        <p:spPr>
          <a:xfrm>
            <a:off x="641520" y="1857240"/>
            <a:ext cx="200628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 txBox="1"/>
          <p:nvPr/>
        </p:nvSpPr>
        <p:spPr>
          <a:xfrm>
            <a:off x="503280" y="2071440"/>
            <a:ext cx="8183520" cy="17859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Пивной алкоголизм ведет к деградации поколений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1" name="Рисунок 3" descr="пиво12.jpg"/>
          <p:cNvPicPr/>
          <p:nvPr/>
        </p:nvPicPr>
        <p:blipFill>
          <a:blip r:embed="rId1"/>
          <a:stretch/>
        </p:blipFill>
        <p:spPr>
          <a:xfrm>
            <a:off x="3000240" y="3786120"/>
            <a:ext cx="287028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 txBox="1"/>
          <p:nvPr/>
        </p:nvSpPr>
        <p:spPr>
          <a:xfrm>
            <a:off x="642960" y="2286000"/>
            <a:ext cx="8183520" cy="2571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Путь России от разорени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 достатку  - это путь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резвой России.»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.Нечволод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3280" y="643320"/>
            <a:ext cx="81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Реклама  умалчивает </a:t>
            </a:r>
            <a:br>
              <a:rPr sz="3600"/>
            </a:b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о вреде пива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5928840" y="2428560"/>
            <a:ext cx="2786040" cy="18572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Verdana"/>
              </a:rPr>
              <a:t>«КТО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b050"/>
                </a:solidFill>
                <a:latin typeface="Verdana"/>
              </a:rPr>
              <a:t>ИДЕТ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00b050"/>
                </a:solidFill>
                <a:latin typeface="Verdana"/>
              </a:rPr>
              <a:t>З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Verdana"/>
              </a:rPr>
              <a:t>       </a:t>
            </a:r>
            <a:r>
              <a:rPr b="0" lang="en-US" sz="1800" spc="-1" strike="noStrike">
                <a:solidFill>
                  <a:srgbClr val="00b050"/>
                </a:solidFill>
                <a:latin typeface="Verdana"/>
              </a:rPr>
              <a:t>«КЛИНСКИМ»?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9" name="Рисунок 5" descr="doc_serfar_-1164280035_i_1982_full.jpg"/>
          <p:cNvPicPr/>
          <p:nvPr/>
        </p:nvPicPr>
        <p:blipFill>
          <a:blip r:embed="rId1"/>
          <a:stretch/>
        </p:blipFill>
        <p:spPr>
          <a:xfrm>
            <a:off x="642960" y="1857240"/>
            <a:ext cx="506736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571680" y="357120"/>
            <a:ext cx="8229600" cy="15429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Россия вошла в число стран, население которых занимает первые позиции по употреблению пив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1" name="Рисунок 6" descr="children.jpg"/>
          <p:cNvPicPr/>
          <p:nvPr/>
        </p:nvPicPr>
        <p:blipFill>
          <a:blip r:embed="rId1"/>
          <a:stretch/>
        </p:blipFill>
        <p:spPr>
          <a:xfrm>
            <a:off x="5180040" y="1643040"/>
            <a:ext cx="3660840" cy="2928960"/>
          </a:xfrm>
          <a:prstGeom prst="rect">
            <a:avLst/>
          </a:prstGeom>
          <a:ln w="0">
            <a:noFill/>
          </a:ln>
        </p:spPr>
      </p:pic>
      <p:pic>
        <p:nvPicPr>
          <p:cNvPr id="422" name="Рисунок 7" descr="пиво8.jpg"/>
          <p:cNvPicPr/>
          <p:nvPr/>
        </p:nvPicPr>
        <p:blipFill>
          <a:blip r:embed="rId2"/>
          <a:stretch/>
        </p:blipFill>
        <p:spPr>
          <a:xfrm>
            <a:off x="1285920" y="3235320"/>
            <a:ext cx="2857320" cy="32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0040" y="2143080"/>
            <a:ext cx="822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Пиво не является слабоалкогольным напитком!</a:t>
            </a:r>
            <a:endParaRPr b="1" lang="en-US" sz="4000" spc="-1" strike="noStrike">
              <a:solidFill>
                <a:srgbClr val="4885e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Содержимое 3" descr="пиво1.jpg"/>
          <p:cNvPicPr/>
          <p:nvPr/>
        </p:nvPicPr>
        <p:blipFill>
          <a:blip r:embed="rId1"/>
          <a:stretch/>
        </p:blipFill>
        <p:spPr>
          <a:xfrm>
            <a:off x="3429000" y="2071800"/>
            <a:ext cx="1496880" cy="2119320"/>
          </a:xfrm>
          <a:prstGeom prst="rect">
            <a:avLst/>
          </a:prstGeom>
          <a:ln w="0">
            <a:noFill/>
          </a:ln>
        </p:spPr>
      </p:pic>
      <p:sp>
        <p:nvSpPr>
          <p:cNvPr id="425" name="Прямоугольник 4"/>
          <p:cNvSpPr/>
          <p:nvPr/>
        </p:nvSpPr>
        <p:spPr>
          <a:xfrm>
            <a:off x="5572080" y="1071720"/>
            <a:ext cx="2500200" cy="1071360"/>
          </a:xfrm>
          <a:prstGeom prst="rect">
            <a:avLst/>
          </a:prstGeom>
          <a:solidFill>
            <a:srgbClr val="0f6fc6"/>
          </a:solidFill>
          <a:ln w="424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Белки = =стройматериа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Прямоугольник 5"/>
          <p:cNvSpPr/>
          <p:nvPr/>
        </p:nvSpPr>
        <p:spPr>
          <a:xfrm>
            <a:off x="5572080" y="3357720"/>
            <a:ext cx="2500200" cy="1143000"/>
          </a:xfrm>
          <a:prstGeom prst="rect">
            <a:avLst/>
          </a:prstGeom>
          <a:solidFill>
            <a:srgbClr val="0f6fc6"/>
          </a:solidFill>
          <a:ln w="424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Магний=настро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Прямоугольник 6"/>
          <p:cNvSpPr/>
          <p:nvPr/>
        </p:nvSpPr>
        <p:spPr>
          <a:xfrm>
            <a:off x="857160" y="1000080"/>
            <a:ext cx="2000520" cy="1071720"/>
          </a:xfrm>
          <a:prstGeom prst="rect">
            <a:avLst/>
          </a:prstGeom>
          <a:solidFill>
            <a:srgbClr val="0f6fc6"/>
          </a:solidFill>
          <a:ln w="424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Жиры и углеводы = =энерг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Прямоугольник 7"/>
          <p:cNvSpPr/>
          <p:nvPr/>
        </p:nvSpPr>
        <p:spPr>
          <a:xfrm>
            <a:off x="785880" y="3786120"/>
            <a:ext cx="1857240" cy="1214640"/>
          </a:xfrm>
          <a:prstGeom prst="rect">
            <a:avLst/>
          </a:prstGeom>
          <a:solidFill>
            <a:srgbClr val="0f6fc6"/>
          </a:solidFill>
          <a:ln w="424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Витамин С = =иммунит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рямоугольник 8"/>
          <p:cNvSpPr/>
          <p:nvPr/>
        </p:nvSpPr>
        <p:spPr>
          <a:xfrm>
            <a:off x="3357720" y="5357880"/>
            <a:ext cx="2286000" cy="1000080"/>
          </a:xfrm>
          <a:prstGeom prst="rect">
            <a:avLst/>
          </a:prstGeom>
          <a:solidFill>
            <a:srgbClr val="0f6fc6"/>
          </a:solidFill>
          <a:ln w="424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Калий=мышц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Прямая соединительная линия 10"/>
          <p:cNvSpPr/>
          <p:nvPr/>
        </p:nvSpPr>
        <p:spPr>
          <a:xfrm flipV="1">
            <a:off x="857160" y="999720"/>
            <a:ext cx="2000520" cy="1071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Прямая соединительная линия 12"/>
          <p:cNvSpPr/>
          <p:nvPr/>
        </p:nvSpPr>
        <p:spPr>
          <a:xfrm flipV="1">
            <a:off x="5572080" y="1071720"/>
            <a:ext cx="2428920" cy="1071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Прямая соединительная линия 14"/>
          <p:cNvSpPr/>
          <p:nvPr/>
        </p:nvSpPr>
        <p:spPr>
          <a:xfrm flipV="1">
            <a:off x="785880" y="3786120"/>
            <a:ext cx="1857240" cy="121464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Прямая соединительная линия 16"/>
          <p:cNvSpPr/>
          <p:nvPr/>
        </p:nvSpPr>
        <p:spPr>
          <a:xfrm flipV="1">
            <a:off x="5572080" y="3357360"/>
            <a:ext cx="2500200" cy="1143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Прямая соединительная линия 18"/>
          <p:cNvSpPr/>
          <p:nvPr/>
        </p:nvSpPr>
        <p:spPr>
          <a:xfrm flipV="1">
            <a:off x="3357720" y="5357880"/>
            <a:ext cx="2286000" cy="1000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Содержимое 9" descr="1177418106_pivo_vredno_dlja_zdorovja.jpg"/>
          <p:cNvPicPr/>
          <p:nvPr/>
        </p:nvPicPr>
        <p:blipFill>
          <a:blip r:embed="rId1"/>
          <a:stretch/>
        </p:blipFill>
        <p:spPr>
          <a:xfrm>
            <a:off x="571680" y="500040"/>
            <a:ext cx="4095720" cy="3071880"/>
          </a:xfrm>
          <a:prstGeom prst="rect">
            <a:avLst/>
          </a:prstGeom>
          <a:ln w="0">
            <a:noFill/>
          </a:ln>
        </p:spPr>
      </p:pic>
      <p:pic>
        <p:nvPicPr>
          <p:cNvPr id="436" name="Рисунок 10" descr="пиво24.jpg"/>
          <p:cNvPicPr/>
          <p:nvPr/>
        </p:nvPicPr>
        <p:blipFill>
          <a:blip r:embed="rId2"/>
          <a:stretch/>
        </p:blipFill>
        <p:spPr>
          <a:xfrm>
            <a:off x="6643800" y="3214800"/>
            <a:ext cx="1857240" cy="2463840"/>
          </a:xfrm>
          <a:prstGeom prst="rect">
            <a:avLst/>
          </a:prstGeom>
          <a:ln w="0">
            <a:noFill/>
          </a:ln>
        </p:spPr>
      </p:pic>
      <p:sp>
        <p:nvSpPr>
          <p:cNvPr id="437" name="TextBox 11"/>
          <p:cNvSpPr/>
          <p:nvPr/>
        </p:nvSpPr>
        <p:spPr>
          <a:xfrm>
            <a:off x="1500120" y="4286160"/>
            <a:ext cx="40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бутылка пива = 50 граммам вод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Особенности пивного алкоголизм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Прямоугольник 4"/>
          <p:cNvSpPr/>
          <p:nvPr/>
        </p:nvSpPr>
        <p:spPr>
          <a:xfrm>
            <a:off x="714240" y="2286000"/>
            <a:ext cx="742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вной алкоголизм формируется очень быст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Рисунок 5" descr="пиво11.jpg"/>
          <p:cNvPicPr/>
          <p:nvPr/>
        </p:nvPicPr>
        <p:blipFill>
          <a:blip r:embed="rId1"/>
          <a:stretch/>
        </p:blipFill>
        <p:spPr>
          <a:xfrm>
            <a:off x="2898720" y="3000240"/>
            <a:ext cx="324792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Особенности пивного алкоголизм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Прямоугольник 3"/>
          <p:cNvSpPr/>
          <p:nvPr/>
        </p:nvSpPr>
        <p:spPr>
          <a:xfrm>
            <a:off x="1643040" y="1857240"/>
            <a:ext cx="642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имость развивается через 1-3 го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Рисунок 4" descr="пиво15.jpg"/>
          <p:cNvPicPr/>
          <p:nvPr/>
        </p:nvPicPr>
        <p:blipFill>
          <a:blip r:embed="rId1"/>
          <a:stretch/>
        </p:blipFill>
        <p:spPr>
          <a:xfrm>
            <a:off x="3475080" y="3214800"/>
            <a:ext cx="250992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Особенности пивного алкоголизм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Прямоугольник 3"/>
          <p:cNvSpPr/>
          <p:nvPr/>
        </p:nvSpPr>
        <p:spPr>
          <a:xfrm>
            <a:off x="1214280" y="1928880"/>
            <a:ext cx="628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3% алкоголя действуют как я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Рисунок 4" descr="1166453642_beer_and_babies_1.jpg"/>
          <p:cNvPicPr/>
          <p:nvPr/>
        </p:nvPicPr>
        <p:blipFill>
          <a:blip r:embed="rId1"/>
          <a:stretch/>
        </p:blipFill>
        <p:spPr>
          <a:xfrm>
            <a:off x="2286000" y="2668680"/>
            <a:ext cx="405288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3T12:15:44Z</dcterms:created>
  <dc:creator>Трибунский</dc:creator>
  <dc:description/>
  <dc:language>en-US</dc:language>
  <cp:lastModifiedBy>КарМаН</cp:lastModifiedBy>
  <dcterms:modified xsi:type="dcterms:W3CDTF">2011-12-20T11:18:15Z</dcterms:modified>
  <cp:revision>68</cp:revision>
  <dc:subject/>
  <dc:title>Этот «безвредный» напиток…</dc:title>
</cp:coreProperties>
</file>