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2.jpeg" ContentType="image/jpeg"/>
  <Override PartName="/ppt/media/image6.png" ContentType="image/png"/>
  <Override PartName="/ppt/media/image10.jpeg" ContentType="image/jpeg"/>
  <Override PartName="/ppt/media/image5.jpeg" ContentType="image/jpeg"/>
  <Override PartName="/ppt/media/image13.jpeg" ContentType="image/jpe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25.jpeg" ContentType="image/jpeg"/>
  <Override PartName="/ppt/media/image2.png" ContentType="image/png"/>
  <Override PartName="/ppt/media/image3.png" ContentType="image/png"/>
  <Override PartName="/ppt/media/image17.jpeg" ContentType="image/jpeg"/>
  <Override PartName="/ppt/media/image4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124E0-2945-45B3-87CC-44588AC64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35DAB-F799-4502-9BF6-2DBE47B8A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C89B4A-DBA2-49F5-B2E7-429AF653D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BAFB4A-E71F-4436-9D63-E5B9A9E74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1ADCBA-09F6-4B99-AF28-3F19384E9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D5ED31-939D-4CF8-AD7A-D3488BD1B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E55731-10CF-43D0-815A-616D8AE94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FA92F3-4907-4503-8ABF-C42173FBE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847912-ED65-4BB7-A115-EA1D1F818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D91394-6ACF-46C3-8F72-5FCAE3BA6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029079-8AB3-4BA5-A7E5-9FA406947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44849-57A0-48F0-B7C5-FF7ECD3F2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D21C3-5879-4C1F-AD43-6F0E3B7F3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67751-CDE1-4096-A7B0-B4459B4C0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66223-6383-4CB2-9C3F-5C13261A1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4CA22-7E82-469D-9898-67674AA18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90CFD-A7F4-4BA9-98C4-9AD93E809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361DE-DEC2-4F93-8CD0-8AD775B72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41608-73A1-460D-B996-E8BFDE3CA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AF2F0-8072-4217-AC2B-3C5428126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7034A-6792-4EAB-BD20-FA1D3C769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E559C-FD78-4AEE-BEC5-F0EF7801F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435AA-0916-4B77-9B61-15C60FD43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21F94-ACA2-4ACC-91B1-A3B5D49CB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42AFE-B724-4598-BBDE-594CE22B3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643E6-E9EE-4B87-BD68-6EFE1B307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C3AE5B-A208-4AA4-9B9C-C40F0EE16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94843F-976B-46CB-9BE6-EBD2C5B10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F27CA7-DAC1-46D3-A3E2-617E6AB64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2207BB-BE4D-47C4-A018-90EED7D96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7145E4-2AE7-4150-869F-017F96F94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0B704-B934-4248-8EC5-187D7AF9A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904C5E-A3EE-4F79-875C-9E6BF75E6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63809D-C333-4E57-9A7D-BD85D3E38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11DE53-7C3C-4F8F-8C1B-4FE361ACE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4BAA57-94E8-4E26-AB59-AA4EE1294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A71CB0-6CF2-446A-B220-7D85C5912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087F1E-2CEE-4A3F-A6AB-FD9306389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105B39-470C-4975-96D5-8AAD7FC06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323ABF-F740-409F-99A6-382B1FE4B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89DA6A-D348-4287-A7A9-8ADA36E45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78F632-3E22-4C1D-97B7-6BCE6FBB4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1EC2A-37FA-4ABA-A2C0-72C0FB212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3B4707-B2F0-4004-B476-92B9C1AE7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F17EC4-A6C9-4AF2-A94F-5B76E196B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16264D-7783-44D0-B02F-3B802CE59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F60FAD-D53C-45B0-8F74-B181B7B5B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5C8645-8F8B-49A4-AFC5-01BBDFB56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98C933-3852-472A-A910-A970712D2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511EAB-B88E-42DB-8234-464D64481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3BDB4B-25BD-4616-91FA-095B8FDB9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67A1F9-C661-4A67-998B-C79E483F7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603CDC-69D7-4356-A879-5240D0166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848D1-F590-451A-8BD4-923140C5F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BD5F32-A924-4C4B-A33C-9FC4089AC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48BDE7-EF36-4096-9E9A-B567A4F58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D4B763-C88C-4625-81D3-C139CE1E7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8880CF-22B9-4400-A2F2-6749D1727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CD869B-8688-401F-AAA4-A7A4E4C39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8A154F-0AF5-4518-A34C-DB58EE485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CD547E-7779-488F-8AF4-968C98999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C3FC9C-E01F-4576-B594-8DDE62CD0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79FA91-BDE3-4454-8144-25D046F70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155424-079E-4F71-AB8A-1F16481F8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1B9E5-F199-47F0-9761-0B5A6F101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8BA4CD-2173-48F3-AD8E-438479845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41B142-1060-4E8D-852B-F36777C0F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24C98D-A781-4853-8566-DBF22AA28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4DB505-14C0-4322-8EBE-10F6A2A17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68C073-831A-4A2C-807E-215505A5C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9204A3-9630-4BC8-8859-E7F2460DE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EF5003-16B6-403F-BFA7-47826DB0F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0D2285-90AB-4C8C-8870-04211578F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FE0DA6-E2E4-483A-B539-D4D576C9A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6C06C9-882E-4871-808F-945C11A5C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157AB-7199-4E2F-A98D-A96EB0D21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A9F151-5E4A-48F9-BB73-8F5C42B31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0DF85F-CA80-4C64-B32D-6645A6CE2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A4ADCF-8FE5-4312-B79F-C2648A624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4FCFC7-5653-4979-A93D-3C60CEAC2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41B749-A6C5-46D5-94A6-90DDF2326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6B2B23-B9D6-404E-9BEB-770CD0580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5D679C-AE09-46D3-AB39-5E8A7A77F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FCFAC7-6DB2-42E3-B68F-90718D2B5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FF942B-4639-4C86-BEB6-530A66D4D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B6B08C-A4E4-41F5-88E5-670226B65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26B07-82C5-4EA5-A111-8B87482D2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7AE55E-3AF6-41B9-A34D-F5EC5F84A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FB985B-D470-4847-9BE7-19B320910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D8260D-EA31-46FE-B1D4-A969701DA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8364A3-1D47-4179-97E6-887C6897B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FBD253-EF98-4A08-A059-FE3BC5556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F915D4-6BF9-45D2-96DA-C11607E9B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F7FAC2-3B4E-46B1-B189-8F2C06B57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FF7523-CF1D-4367-A0C7-A52D3C237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EB1BE4-44B4-4D5F-BA69-9A44193C5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4CE8FD-2BA4-4659-86BA-D01B0CC8A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33A93-0CE3-4C5D-8025-E55EC6517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47A1E0-4D95-4D28-90CB-B4CFF618C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D5762A-35E8-4039-AF81-6DA24F5CE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1CBE1F-C047-494D-8D80-FF1B19997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035E9E-AF0B-46CB-A4BA-E7E07AACB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277AE6-6878-41F6-955C-BB5F5E6B4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A263B8-FC20-4BE1-97A2-FA14F3893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88577D-9759-48D6-ACEC-7717E2959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3EEB61-08B8-490D-B9C2-C19A07F7F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4D5DAF-88F5-4280-8BD2-A9F6D049A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DE49D2-560A-4843-88AB-C1FDE6567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29195-7C87-4D80-9817-F4B5E9075ACF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5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85e9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01c4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01c4ff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09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1b4b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8B99C-1804-40EB-854C-45852864B52D}" type="slidenum">
              <a:rPr b="0" lang="en-US" sz="1000" spc="-1" strike="noStrike">
                <a:solidFill>
                  <a:srgbClr val="a1b4b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9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B8745-A75D-4506-9476-467C6C17C29A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4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4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5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DFF55-EF69-4048-BB35-B2D1B57C265D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 type="sldNum" idx="15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B08FD-DD9F-4422-B441-F80A69D1CC08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24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85e9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01c4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01c4ff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09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 type="dt" idx="16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 type="ftr" idx="17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 type="sldNum" idx="18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1b4b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EE23F-B393-4CF2-AD87-DA39DC2BB3F3}" type="slidenum">
              <a:rPr b="0" lang="ru-RU" sz="1000" spc="-1" strike="noStrike">
                <a:solidFill>
                  <a:srgbClr val="a1b4b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28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8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85e9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01c4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01c4ff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09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dt" idx="19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ftr" idx="20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sldNum" idx="21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1b4b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9553C-2508-4444-A579-78BA23CEDF7B}" type="slidenum">
              <a:rPr b="0" lang="ru-RU" sz="1000" spc="-1" strike="noStrike">
                <a:solidFill>
                  <a:srgbClr val="a1b4b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85e9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01c4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01c4ff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09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dt" idx="22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 type="ftr" idx="23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 type="sldNum" idx="24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1b4b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CDF89-B169-40FC-9D28-832B11BD76BE}" type="slidenum">
              <a:rPr b="0" lang="ru-RU" sz="1000" spc="-1" strike="noStrike">
                <a:solidFill>
                  <a:srgbClr val="a1b4b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85e9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01c4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01c4ff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09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 type="dt" idx="25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 type="ftr" idx="26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 type="sldNum" idx="27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1b4b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C5541-D5EF-4566-841D-831136FE6725}" type="slidenum">
              <a:rPr b="0" lang="ru-RU" sz="1000" spc="-1" strike="noStrike">
                <a:solidFill>
                  <a:srgbClr val="a1b4b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Rectangle 2" descr=""/>
          <p:cNvPicPr/>
          <p:nvPr/>
        </p:nvPicPr>
        <p:blipFill>
          <a:blip r:embed="rId2"/>
          <a:stretch/>
        </p:blipFill>
        <p:spPr>
          <a:xfrm>
            <a:off x="530280" y="1255680"/>
            <a:ext cx="8461440" cy="2011320"/>
          </a:xfrm>
          <a:prstGeom prst="rect">
            <a:avLst/>
          </a:prstGeom>
          <a:ln w="0">
            <a:noFill/>
          </a:ln>
        </p:spPr>
      </p:pic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1857240" y="4071600"/>
            <a:ext cx="5214960" cy="129708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алахова Г.Ф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читель химии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торой квалификационной категории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атламышевской СОШ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42960" y="8568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85e9"/>
                </a:solidFill>
                <a:latin typeface="Times New Roman"/>
                <a:ea typeface="Times New Roman"/>
              </a:rPr>
              <a:t>Особенности пивного алкоголизма</a:t>
            </a:r>
            <a:br>
              <a:rPr sz="3200"/>
            </a:b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457200" y="1599840"/>
            <a:ext cx="8229600" cy="19717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Пиво переполняет кровеносные сосуды: возникает синдром «пивного сердца»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49" name="Рисунок 6" descr="пиво20.jpg"/>
          <p:cNvPicPr/>
          <p:nvPr/>
        </p:nvPicPr>
        <p:blipFill>
          <a:blip r:embed="rId1"/>
          <a:stretch/>
        </p:blipFill>
        <p:spPr>
          <a:xfrm>
            <a:off x="3429000" y="3429000"/>
            <a:ext cx="235728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"/>
          <p:cNvSpPr txBox="1"/>
          <p:nvPr/>
        </p:nvSpPr>
        <p:spPr>
          <a:xfrm>
            <a:off x="500040" y="1999800"/>
            <a:ext cx="8183520" cy="20415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Verdana"/>
              </a:rPr>
              <a:t>Пиво наносит вред гормонам  человека: </a:t>
            </a:r>
            <a:endParaRPr b="0" lang="en-US" sz="37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Verdana"/>
              </a:rPr>
              <a:t>сказывается влияние токсических веществ.</a:t>
            </a:r>
            <a:endParaRPr b="0" lang="en-US" sz="3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 txBox="1"/>
          <p:nvPr/>
        </p:nvSpPr>
        <p:spPr>
          <a:xfrm>
            <a:off x="457200" y="428760"/>
            <a:ext cx="8229600" cy="56973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Мужчин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подавляется выработка мужского                          увеличивается выработка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женских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полового гормона – тестостерона                           половых гормонов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r">
              <a:spcBef>
                <a:spcPts val="249"/>
              </a:spcBef>
              <a:buClr>
                <a:srgbClr val="0f6fc6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разрастаются грудные железы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r">
              <a:spcBef>
                <a:spcPts val="249"/>
              </a:spcBef>
              <a:buClr>
                <a:srgbClr val="0f6fc6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становится шире таз 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r">
              <a:spcBef>
                <a:spcPts val="249"/>
              </a:spcBef>
              <a:buClr>
                <a:srgbClr val="0f6fc6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появляется «пивной живот»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2" name="Line 11"/>
          <p:cNvSpPr/>
          <p:nvPr/>
        </p:nvSpPr>
        <p:spPr>
          <a:xfrm flipH="1">
            <a:off x="3428640" y="1785960"/>
            <a:ext cx="6476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Line 13"/>
          <p:cNvSpPr/>
          <p:nvPr/>
        </p:nvSpPr>
        <p:spPr>
          <a:xfrm>
            <a:off x="5286240" y="1857240"/>
            <a:ext cx="432000" cy="28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Line 14"/>
          <p:cNvSpPr/>
          <p:nvPr/>
        </p:nvSpPr>
        <p:spPr>
          <a:xfrm>
            <a:off x="6429240" y="2786040"/>
            <a:ext cx="46080" cy="357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5" name="Рисунок 9" descr="пиво3.jpg"/>
          <p:cNvPicPr/>
          <p:nvPr/>
        </p:nvPicPr>
        <p:blipFill>
          <a:blip r:embed="rId1"/>
          <a:stretch/>
        </p:blipFill>
        <p:spPr>
          <a:xfrm>
            <a:off x="1143000" y="3286080"/>
            <a:ext cx="3571920" cy="23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"/>
          <p:cNvSpPr txBox="1"/>
          <p:nvPr/>
        </p:nvSpPr>
        <p:spPr>
          <a:xfrm>
            <a:off x="428760" y="499680"/>
            <a:ext cx="8229600" cy="36147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 fontScale="89000"/>
          </a:bodyPr>
          <a:p>
            <a:pPr marL="235800" indent="-23580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Женщин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35800" indent="-23580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                    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35800" indent="-235800">
              <a:spcBef>
                <a:spcPts val="249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возрастает вероятность                                   кормящая мать,                       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35800" indent="-23580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заболевания раком                                         употребляющая пиво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35800" indent="-23580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                        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35800" indent="-235800">
              <a:spcBef>
                <a:spcPts val="249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становится грубее голос                                  эпилептические         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         судороги у ребенка                          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35800" indent="-235800">
              <a:spcBef>
                <a:spcPts val="249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появляются «пивные усы»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35800" indent="-23580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35800" indent="-23580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35800" indent="-23580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7" name="Line 10"/>
          <p:cNvSpPr/>
          <p:nvPr/>
        </p:nvSpPr>
        <p:spPr>
          <a:xfrm flipH="1">
            <a:off x="3357360" y="1143000"/>
            <a:ext cx="43164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Line 11"/>
          <p:cNvSpPr/>
          <p:nvPr/>
        </p:nvSpPr>
        <p:spPr>
          <a:xfrm>
            <a:off x="5643720" y="1143000"/>
            <a:ext cx="57600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9" name="Рисунок 7" descr="Безымянный.bmp"/>
          <p:cNvPicPr/>
          <p:nvPr/>
        </p:nvPicPr>
        <p:blipFill>
          <a:blip r:embed="rId1"/>
          <a:stretch/>
        </p:blipFill>
        <p:spPr>
          <a:xfrm>
            <a:off x="3714840" y="3643200"/>
            <a:ext cx="2923920" cy="2214720"/>
          </a:xfrm>
          <a:prstGeom prst="rect">
            <a:avLst/>
          </a:prstGeom>
          <a:ln w="0">
            <a:noFill/>
          </a:ln>
        </p:spPr>
      </p:pic>
      <p:sp>
        <p:nvSpPr>
          <p:cNvPr id="460" name="Стрелка вниз 8"/>
          <p:cNvSpPr/>
          <p:nvPr/>
        </p:nvSpPr>
        <p:spPr>
          <a:xfrm>
            <a:off x="6715080" y="2071800"/>
            <a:ext cx="71640" cy="285480"/>
          </a:xfrm>
          <a:prstGeom prst="downArrow">
            <a:avLst>
              <a:gd name="adj1" fmla="val 50000"/>
              <a:gd name="adj2" fmla="val 49812"/>
            </a:avLst>
          </a:prstGeom>
          <a:solidFill>
            <a:srgbClr val="0f6fc6"/>
          </a:solidFill>
          <a:ln w="424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Этиловый спирт пагубно влияет на клетки головного мозга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62" name="Рисунок 7" descr="пиво28.jpg"/>
          <p:cNvPicPr/>
          <p:nvPr/>
        </p:nvPicPr>
        <p:blipFill>
          <a:blip r:embed="rId1"/>
          <a:stretch/>
        </p:blipFill>
        <p:spPr>
          <a:xfrm>
            <a:off x="3500280" y="2071800"/>
            <a:ext cx="1905120" cy="2371680"/>
          </a:xfrm>
          <a:prstGeom prst="rect">
            <a:avLst/>
          </a:prstGeom>
          <a:ln w="0">
            <a:noFill/>
          </a:ln>
        </p:spPr>
      </p:pic>
      <p:sp>
        <p:nvSpPr>
          <p:cNvPr id="463" name="Прямоугольник 8"/>
          <p:cNvSpPr/>
          <p:nvPr/>
        </p:nvSpPr>
        <p:spPr>
          <a:xfrm>
            <a:off x="5572080" y="1857240"/>
            <a:ext cx="3000600" cy="642960"/>
          </a:xfrm>
          <a:prstGeom prst="rect">
            <a:avLst/>
          </a:prstGeom>
          <a:solidFill>
            <a:srgbClr val="0f6fc6"/>
          </a:solidFill>
          <a:ln w="424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Снижается способность к обучению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Прямоугольник 9"/>
          <p:cNvSpPr/>
          <p:nvPr/>
        </p:nvSpPr>
        <p:spPr>
          <a:xfrm>
            <a:off x="571680" y="1857240"/>
            <a:ext cx="2571480" cy="714600"/>
          </a:xfrm>
          <a:prstGeom prst="rect">
            <a:avLst/>
          </a:prstGeom>
          <a:solidFill>
            <a:srgbClr val="0f6fc6"/>
          </a:solidFill>
          <a:ln w="424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Снижается интеллект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Прямоугольник 10"/>
          <p:cNvSpPr/>
          <p:nvPr/>
        </p:nvSpPr>
        <p:spPr>
          <a:xfrm>
            <a:off x="2786040" y="5143680"/>
            <a:ext cx="3357720" cy="642600"/>
          </a:xfrm>
          <a:prstGeom prst="rect">
            <a:avLst/>
          </a:prstGeom>
          <a:solidFill>
            <a:srgbClr val="0f6fc6"/>
          </a:solidFill>
          <a:ln w="424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Снижается личностная оценк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885e9"/>
                </a:solidFill>
                <a:latin typeface="Verdana"/>
              </a:rPr>
              <a:t>Пиво – наркотик, вызывающий агрессию.</a:t>
            </a:r>
            <a:endParaRPr b="1" lang="en-US" sz="40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467" name=""/>
          <p:cNvSpPr txBox="1"/>
          <p:nvPr/>
        </p:nvSpPr>
        <p:spPr>
          <a:xfrm>
            <a:off x="3142800" y="1928520"/>
            <a:ext cx="5543640" cy="35002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потребление пива является первой причиной искалеченных судеб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каждый десятый алкоголик моложе 18 лет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68" name="Рисунок 6" descr="пиво14.jpg"/>
          <p:cNvPicPr/>
          <p:nvPr/>
        </p:nvPicPr>
        <p:blipFill>
          <a:blip r:embed="rId1"/>
          <a:stretch/>
        </p:blipFill>
        <p:spPr>
          <a:xfrm>
            <a:off x="1071720" y="3989520"/>
            <a:ext cx="1643040" cy="1401480"/>
          </a:xfrm>
          <a:prstGeom prst="rect">
            <a:avLst/>
          </a:prstGeom>
          <a:ln w="0">
            <a:noFill/>
          </a:ln>
        </p:spPr>
      </p:pic>
      <p:pic>
        <p:nvPicPr>
          <p:cNvPr id="469" name="Рисунок 9" descr="пиво17.jpg"/>
          <p:cNvPicPr/>
          <p:nvPr/>
        </p:nvPicPr>
        <p:blipFill>
          <a:blip r:embed="rId2"/>
          <a:stretch/>
        </p:blipFill>
        <p:spPr>
          <a:xfrm>
            <a:off x="641520" y="1857240"/>
            <a:ext cx="2006280" cy="15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"/>
          <p:cNvSpPr txBox="1"/>
          <p:nvPr/>
        </p:nvSpPr>
        <p:spPr>
          <a:xfrm>
            <a:off x="503280" y="2071440"/>
            <a:ext cx="8183520" cy="17859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Пивной алкоголизм ведет к деградации поколений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71" name="Рисунок 3" descr="пиво12.jpg"/>
          <p:cNvPicPr/>
          <p:nvPr/>
        </p:nvPicPr>
        <p:blipFill>
          <a:blip r:embed="rId1"/>
          <a:stretch/>
        </p:blipFill>
        <p:spPr>
          <a:xfrm>
            <a:off x="3000240" y="3786120"/>
            <a:ext cx="2870280" cy="16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/>
          <p:cNvSpPr txBox="1"/>
          <p:nvPr/>
        </p:nvSpPr>
        <p:spPr>
          <a:xfrm>
            <a:off x="642960" y="2286000"/>
            <a:ext cx="8183520" cy="25718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«Путь России от разорения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 достатку  - это путь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резвой России.»    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А.Нечволод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3280" y="643320"/>
            <a:ext cx="81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4885e9"/>
                </a:solidFill>
                <a:latin typeface="Verdana"/>
              </a:rPr>
              <a:t> </a:t>
            </a:r>
            <a:r>
              <a:rPr b="1" lang="en-US" sz="3600" spc="-1" strike="noStrike">
                <a:solidFill>
                  <a:srgbClr val="4885e9"/>
                </a:solidFill>
                <a:latin typeface="Verdana"/>
              </a:rPr>
              <a:t>Реклама  умалчивает </a:t>
            </a:r>
            <a:br>
              <a:rPr sz="3600"/>
            </a:br>
            <a:r>
              <a:rPr b="1" lang="en-US" sz="3600" spc="-1" strike="noStrike">
                <a:solidFill>
                  <a:srgbClr val="4885e9"/>
                </a:solidFill>
                <a:latin typeface="Verdana"/>
              </a:rPr>
              <a:t>о вреде пива</a:t>
            </a: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5928840" y="2428560"/>
            <a:ext cx="2786040" cy="18572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50"/>
                </a:solidFill>
                <a:latin typeface="Verdana"/>
              </a:rPr>
              <a:t>«КТО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50"/>
                </a:solidFill>
                <a:latin typeface="Verdana"/>
              </a:rPr>
              <a:t>     </a:t>
            </a:r>
            <a:r>
              <a:rPr b="0" lang="en-US" sz="1800" spc="-1" strike="noStrike">
                <a:solidFill>
                  <a:srgbClr val="00b050"/>
                </a:solidFill>
                <a:latin typeface="Verdana"/>
              </a:rPr>
              <a:t>ИДЕТ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50"/>
                </a:solidFill>
                <a:latin typeface="Verdana"/>
              </a:rPr>
              <a:t>           </a:t>
            </a:r>
            <a:r>
              <a:rPr b="0" lang="en-US" sz="1800" spc="-1" strike="noStrike">
                <a:solidFill>
                  <a:srgbClr val="00b050"/>
                </a:solidFill>
                <a:latin typeface="Verdana"/>
              </a:rPr>
              <a:t>З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50"/>
                </a:solidFill>
                <a:latin typeface="Verdana"/>
              </a:rPr>
              <a:t>       </a:t>
            </a:r>
            <a:r>
              <a:rPr b="0" lang="en-US" sz="1800" spc="-1" strike="noStrike">
                <a:solidFill>
                  <a:srgbClr val="00b050"/>
                </a:solidFill>
                <a:latin typeface="Verdana"/>
              </a:rPr>
              <a:t>«КЛИНСКИМ»?»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19" name="Рисунок 5" descr="doc_serfar_-1164280035_i_1982_full.jpg"/>
          <p:cNvPicPr/>
          <p:nvPr/>
        </p:nvPicPr>
        <p:blipFill>
          <a:blip r:embed="rId1"/>
          <a:stretch/>
        </p:blipFill>
        <p:spPr>
          <a:xfrm>
            <a:off x="642960" y="1857240"/>
            <a:ext cx="5067360" cy="375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 txBox="1"/>
          <p:nvPr/>
        </p:nvSpPr>
        <p:spPr>
          <a:xfrm>
            <a:off x="571680" y="357120"/>
            <a:ext cx="8229600" cy="15429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Россия вошла в число стран, население которых занимает первые позиции по употреблению пив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1" name="Рисунок 6" descr="children.jpg"/>
          <p:cNvPicPr/>
          <p:nvPr/>
        </p:nvPicPr>
        <p:blipFill>
          <a:blip r:embed="rId1"/>
          <a:stretch/>
        </p:blipFill>
        <p:spPr>
          <a:xfrm>
            <a:off x="5180040" y="1643040"/>
            <a:ext cx="3660840" cy="2928960"/>
          </a:xfrm>
          <a:prstGeom prst="rect">
            <a:avLst/>
          </a:prstGeom>
          <a:ln w="0">
            <a:noFill/>
          </a:ln>
        </p:spPr>
      </p:pic>
      <p:pic>
        <p:nvPicPr>
          <p:cNvPr id="422" name="Рисунок 7" descr="пиво8.jpg"/>
          <p:cNvPicPr/>
          <p:nvPr/>
        </p:nvPicPr>
        <p:blipFill>
          <a:blip r:embed="rId2"/>
          <a:stretch/>
        </p:blipFill>
        <p:spPr>
          <a:xfrm>
            <a:off x="1285920" y="3235320"/>
            <a:ext cx="2857320" cy="32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00040" y="2143080"/>
            <a:ext cx="822960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Verdana"/>
              </a:rPr>
              <a:t>Пиво не является слабоалкогольным напитком!</a:t>
            </a:r>
            <a:endParaRPr b="1" lang="en-US" sz="4000" spc="-1" strike="noStrike">
              <a:solidFill>
                <a:srgbClr val="4885e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Содержимое 3" descr="пиво1.jpg"/>
          <p:cNvPicPr/>
          <p:nvPr/>
        </p:nvPicPr>
        <p:blipFill>
          <a:blip r:embed="rId1"/>
          <a:stretch/>
        </p:blipFill>
        <p:spPr>
          <a:xfrm>
            <a:off x="3429000" y="2071800"/>
            <a:ext cx="1496880" cy="2119320"/>
          </a:xfrm>
          <a:prstGeom prst="rect">
            <a:avLst/>
          </a:prstGeom>
          <a:ln w="0">
            <a:noFill/>
          </a:ln>
        </p:spPr>
      </p:pic>
      <p:sp>
        <p:nvSpPr>
          <p:cNvPr id="425" name="Прямоугольник 4"/>
          <p:cNvSpPr/>
          <p:nvPr/>
        </p:nvSpPr>
        <p:spPr>
          <a:xfrm>
            <a:off x="5572080" y="1071720"/>
            <a:ext cx="2500200" cy="1071360"/>
          </a:xfrm>
          <a:prstGeom prst="rect">
            <a:avLst/>
          </a:prstGeom>
          <a:solidFill>
            <a:srgbClr val="0f6fc6"/>
          </a:solidFill>
          <a:ln w="424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Белки = =стройматериал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Прямоугольник 5"/>
          <p:cNvSpPr/>
          <p:nvPr/>
        </p:nvSpPr>
        <p:spPr>
          <a:xfrm>
            <a:off x="5572080" y="3357720"/>
            <a:ext cx="2500200" cy="1143000"/>
          </a:xfrm>
          <a:prstGeom prst="rect">
            <a:avLst/>
          </a:prstGeom>
          <a:solidFill>
            <a:srgbClr val="0f6fc6"/>
          </a:solidFill>
          <a:ln w="424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Магний=настро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Прямоугольник 6"/>
          <p:cNvSpPr/>
          <p:nvPr/>
        </p:nvSpPr>
        <p:spPr>
          <a:xfrm>
            <a:off x="857160" y="1000080"/>
            <a:ext cx="2000520" cy="1071720"/>
          </a:xfrm>
          <a:prstGeom prst="rect">
            <a:avLst/>
          </a:prstGeom>
          <a:solidFill>
            <a:srgbClr val="0f6fc6"/>
          </a:solidFill>
          <a:ln w="424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Жиры и углеводы = =энерг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Прямоугольник 7"/>
          <p:cNvSpPr/>
          <p:nvPr/>
        </p:nvSpPr>
        <p:spPr>
          <a:xfrm>
            <a:off x="785880" y="3786120"/>
            <a:ext cx="1857240" cy="1214640"/>
          </a:xfrm>
          <a:prstGeom prst="rect">
            <a:avLst/>
          </a:prstGeom>
          <a:solidFill>
            <a:srgbClr val="0f6fc6"/>
          </a:solidFill>
          <a:ln w="424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Витамин С = =иммуните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Прямоугольник 8"/>
          <p:cNvSpPr/>
          <p:nvPr/>
        </p:nvSpPr>
        <p:spPr>
          <a:xfrm>
            <a:off x="3357720" y="5357880"/>
            <a:ext cx="2286000" cy="1000080"/>
          </a:xfrm>
          <a:prstGeom prst="rect">
            <a:avLst/>
          </a:prstGeom>
          <a:solidFill>
            <a:srgbClr val="0f6fc6"/>
          </a:solidFill>
          <a:ln w="424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Калий=мышц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Прямая соединительная линия 10"/>
          <p:cNvSpPr/>
          <p:nvPr/>
        </p:nvSpPr>
        <p:spPr>
          <a:xfrm flipV="1">
            <a:off x="857160" y="999720"/>
            <a:ext cx="2000520" cy="10717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Прямая соединительная линия 12"/>
          <p:cNvSpPr/>
          <p:nvPr/>
        </p:nvSpPr>
        <p:spPr>
          <a:xfrm flipV="1">
            <a:off x="5572080" y="1071720"/>
            <a:ext cx="2428920" cy="10713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Прямая соединительная линия 14"/>
          <p:cNvSpPr/>
          <p:nvPr/>
        </p:nvSpPr>
        <p:spPr>
          <a:xfrm flipV="1">
            <a:off x="785880" y="3786120"/>
            <a:ext cx="1857240" cy="1214640"/>
          </a:xfrm>
          <a:prstGeom prst="line">
            <a:avLst/>
          </a:prstGeom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Прямая соединительная линия 16"/>
          <p:cNvSpPr/>
          <p:nvPr/>
        </p:nvSpPr>
        <p:spPr>
          <a:xfrm flipV="1">
            <a:off x="5572080" y="3357360"/>
            <a:ext cx="2500200" cy="1143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Прямая соединительная линия 18"/>
          <p:cNvSpPr/>
          <p:nvPr/>
        </p:nvSpPr>
        <p:spPr>
          <a:xfrm flipV="1">
            <a:off x="3357720" y="5357880"/>
            <a:ext cx="2286000" cy="10000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Содержимое 9" descr="1177418106_pivo_vredno_dlja_zdorovja.jpg"/>
          <p:cNvPicPr/>
          <p:nvPr/>
        </p:nvPicPr>
        <p:blipFill>
          <a:blip r:embed="rId1"/>
          <a:stretch/>
        </p:blipFill>
        <p:spPr>
          <a:xfrm>
            <a:off x="571680" y="500040"/>
            <a:ext cx="4095720" cy="3071880"/>
          </a:xfrm>
          <a:prstGeom prst="rect">
            <a:avLst/>
          </a:prstGeom>
          <a:ln w="0">
            <a:noFill/>
          </a:ln>
        </p:spPr>
      </p:pic>
      <p:pic>
        <p:nvPicPr>
          <p:cNvPr id="436" name="Рисунок 10" descr="пиво24.jpg"/>
          <p:cNvPicPr/>
          <p:nvPr/>
        </p:nvPicPr>
        <p:blipFill>
          <a:blip r:embed="rId2"/>
          <a:stretch/>
        </p:blipFill>
        <p:spPr>
          <a:xfrm>
            <a:off x="6643800" y="3214800"/>
            <a:ext cx="1857240" cy="2463840"/>
          </a:xfrm>
          <a:prstGeom prst="rect">
            <a:avLst/>
          </a:prstGeom>
          <a:ln w="0">
            <a:noFill/>
          </a:ln>
        </p:spPr>
      </p:pic>
      <p:sp>
        <p:nvSpPr>
          <p:cNvPr id="437" name="TextBox 11"/>
          <p:cNvSpPr/>
          <p:nvPr/>
        </p:nvSpPr>
        <p:spPr>
          <a:xfrm>
            <a:off x="1500120" y="4286160"/>
            <a:ext cx="40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бутылка пива = 50 граммам вод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f6fc6"/>
                </a:solidFill>
                <a:latin typeface="Times New Roman"/>
                <a:ea typeface="Times New Roman"/>
              </a:rPr>
              <a:t>Особенности пивного алкоголизма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9" name="Прямоугольник 4"/>
          <p:cNvSpPr/>
          <p:nvPr/>
        </p:nvSpPr>
        <p:spPr>
          <a:xfrm>
            <a:off x="714240" y="2286000"/>
            <a:ext cx="742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вной алкоголизм формируется очень быстр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Рисунок 5" descr="пиво11.jpg"/>
          <p:cNvPicPr/>
          <p:nvPr/>
        </p:nvPicPr>
        <p:blipFill>
          <a:blip r:embed="rId1"/>
          <a:stretch/>
        </p:blipFill>
        <p:spPr>
          <a:xfrm>
            <a:off x="2898720" y="3000240"/>
            <a:ext cx="3247920" cy="23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f6fc6"/>
                </a:solidFill>
                <a:latin typeface="Times New Roman"/>
                <a:ea typeface="Times New Roman"/>
              </a:rPr>
              <a:t>Особенности пивного алкоголизма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2" name="Прямоугольник 3"/>
          <p:cNvSpPr/>
          <p:nvPr/>
        </p:nvSpPr>
        <p:spPr>
          <a:xfrm>
            <a:off x="1643040" y="1857240"/>
            <a:ext cx="642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висимость развивается через 1-3 год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3" name="Рисунок 4" descr="пиво15.jpg"/>
          <p:cNvPicPr/>
          <p:nvPr/>
        </p:nvPicPr>
        <p:blipFill>
          <a:blip r:embed="rId1"/>
          <a:stretch/>
        </p:blipFill>
        <p:spPr>
          <a:xfrm>
            <a:off x="3475080" y="3214800"/>
            <a:ext cx="2509920" cy="21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f6fc6"/>
                </a:solidFill>
                <a:latin typeface="Times New Roman"/>
                <a:ea typeface="Times New Roman"/>
              </a:rPr>
              <a:t>Особенности пивного алкоголизма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5" name="Прямоугольник 3"/>
          <p:cNvSpPr/>
          <p:nvPr/>
        </p:nvSpPr>
        <p:spPr>
          <a:xfrm>
            <a:off x="1214280" y="1928880"/>
            <a:ext cx="628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3% алкоголя действуют как яд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6" name="Рисунок 4" descr="1166453642_beer_and_babies_1.jpg"/>
          <p:cNvPicPr/>
          <p:nvPr/>
        </p:nvPicPr>
        <p:blipFill>
          <a:blip r:embed="rId1"/>
          <a:stretch/>
        </p:blipFill>
        <p:spPr>
          <a:xfrm>
            <a:off x="2286000" y="2668680"/>
            <a:ext cx="4052880" cy="31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3T12:15:44Z</dcterms:created>
  <dc:creator>Трибунский</dc:creator>
  <dc:description/>
  <dc:language>en-US</dc:language>
  <cp:lastModifiedBy>КарМаН</cp:lastModifiedBy>
  <dcterms:modified xsi:type="dcterms:W3CDTF">2011-12-20T11:18:15Z</dcterms:modified>
  <cp:revision>68</cp:revision>
  <dc:subject/>
  <dc:title>Этот «безвредный» напиток…</dc:title>
</cp:coreProperties>
</file>