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3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CE2-12B7-4AFF-9975-5020B081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5AB-125A-4265-8344-86A62840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B9FD69-DE4C-4B3C-BE8B-D2C653AD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13AA3-1F8B-4CF9-9BC2-94197B69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93072-D5C7-4321-B2DB-9A5C6694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6609A-4AA4-4588-BF18-33726741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79517-24AC-479B-BB40-4E2F9B7B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ABC68-DDC7-4D9F-B3CA-96678DB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11863-B915-480E-BDF0-8CF75660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6C1FC-368A-4ED7-BA99-6C0AE173D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DF94A-D06B-4DFA-B734-B4D117A8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AC7-90F9-4D24-B639-2C5B0F49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CA0-7F1F-40E4-A783-8934561C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9B9D-303C-4EDC-BB53-0680E6F7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8EF7-C302-43F5-93AE-910CAEFA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43C3-B03D-48EA-A2CD-968FB9E2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28B4-691D-4FA6-8810-0976FCF5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34B4-4D36-4931-B23B-C76E9BEA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5F9-EBF3-4186-B0CB-B03ACAC7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C767-E5E5-4F80-92E0-5345A00D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450-72B8-4796-B216-832ED171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9AB0-4FCF-4AFD-ACF8-9313DCEA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F04A-481F-41B8-A4A0-C83C4C35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8FFD-0BF9-446F-B927-F8FAF964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6C4D-5D82-4C90-AD0D-3598EE3E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BFDC-8F1C-4F82-96D7-B3B862ED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D560-F628-4EB3-BA48-80DFB23B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11F2-49BE-4F49-B576-F8E17CFF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7BE5-6494-44AA-8EA9-66992183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EA5CD-D12C-4DAE-A86C-CB81DEE1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CA1ED-BD01-4476-9729-F0B9EAF4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1F1-C54A-41BF-BEED-196CB119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82A3-9AAA-436C-BAC8-A9AD3415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5716A-1A2E-459C-BA18-B6B92C66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500D-84E4-4A97-8D98-59E8E53D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A924-F134-48C0-ACC2-A3FE8D9A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46CB-A87B-4057-B029-528F507B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745B-2085-422E-A3A9-74888122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F15A-D643-4E0D-B3C3-AA0FB372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D569-8F5E-4A15-BD04-270A3DD0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E97A-0362-4B1A-967F-728FEBAC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386CC-F88F-4E08-972E-61DE361F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71C-E8D4-4A36-811A-09321948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10CD-825C-493D-B347-A58F7767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1CDD4-C92E-47B9-AE4B-AC55293D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28580-11EB-4EF2-B58A-092EC166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42931-0828-4972-814A-E6E7E15B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7B2A7-8C5A-4055-B3E2-8524CE9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63AD-9956-4382-8B63-DEFE8BC4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1DD07-E5B3-40F4-84CE-7146CD52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BC082-30BE-400A-A192-5870D86C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35AC2-58B4-41A0-A780-1F32C9D5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DD85B-379E-49F8-AD65-6BF16555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EF2A-A41D-4332-8B33-B9990F9A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966D5-899F-43ED-9B6F-CF39F7E5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A23B6-9CF4-400B-A756-174AE8C7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A2A69-E045-4710-8B86-8B575796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BE3C-5C30-49E6-8C03-F1E4034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AB612-F8F0-4BDE-A154-E2E0C202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EFEA-9053-4D49-AE09-FE9401D3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B88D2-C517-4154-BA7A-E5A14F58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BEE94-A2D0-434B-9266-D793F0AE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9D82D-048B-4AB0-B072-0C39A805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5125D-80F0-4CF4-B5F9-6B36DC30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5063-55E1-4A97-98D2-8875980D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576A4-646F-4157-8D66-3C0809B0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AA213-5617-4E07-969F-2E132ED9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01BDA-030C-4A5F-920F-322C9B0F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3B4A5-2591-4241-AF2A-65997F91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64CB-C62D-443F-9E3A-877C7848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0D5C4-FF5C-47E9-A967-471B2E9C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17594-EC2C-43E9-866B-64762BDD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0F7BB-4337-447F-A2E3-CB7DA17D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F8AE0-962E-4815-9AA2-98EC90BA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280D9-09BA-4790-8019-586C6BAF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CED-0AEC-46AC-BB73-6E0AC8F1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46E52-EC10-4137-BAEA-EEC9037F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12E8A-D463-46DE-88D7-F796DFD6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C9612-FB5A-4B60-8014-39D9D138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F30E5-296A-49C8-9DDF-15AEE4B2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D6D87-ED00-402A-9CEC-A1822311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B1CFA-6E02-4772-BB96-6FEC1AA7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CB2DB-41DD-4A35-A53D-B0EAD2DA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6A596-4951-44F7-B641-BD44EC40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EF755-5EEB-4A30-80DE-F2AEC09C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A8B84-8ED0-4288-8C8A-429D4D6D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102-044C-4C4F-AA55-47327D9E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9CDE9-25A6-4D81-BAB9-3FB4F480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76C2C-2F66-42A4-BC60-81A46140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A09B0-BA5E-46B2-B119-A31AD236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39BF7-1D3F-4E79-9AD3-27DA82BC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287D1-4F26-4A09-9D14-BD55E868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B0F83-3F35-47E4-A4B8-F234C37C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C677A-176D-4B9A-A2CF-F9BA32DF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37005-DA4F-4873-BA59-5261DCE5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C270D-2371-4C46-8F68-C1166F4A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AB10F-0321-42A0-BB32-39EDD2B7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223-3616-4916-9467-12AA2947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1FB14-381B-4CD1-BF48-4DDF4507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E28A3-8B8D-40FB-A883-4C7E40E4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1CE36-76BF-4349-8764-20B1468C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75E70-F93D-4887-A8BD-11D3BA41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2D806-8FFE-47FA-AA67-A55C4A87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3FC6E-487B-4B1A-A77B-67491397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E3753-EEDF-4D0F-8F94-1E81860D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426EC-4FF1-44BA-9C5B-25ED2B9E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442A9-E6D5-4809-994C-88EE7953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4D03A-FC22-4113-A937-E8295624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873D-A35F-46EF-ADE4-3E34F1EE0B0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2377-3179-474E-841D-8FDBD4417060}" type="slidenum">
              <a:rPr b="0" lang="en-US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264E-1311-4666-9927-1EADDC1A96C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9105-664D-49F3-84F8-2CE217C33BA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E399-562A-49F7-AAFF-28A085C247E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4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1C5E-82E9-4FFD-885C-F63DB0B7DB54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2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9E26-AA9C-48BE-B290-941DFB1D0F84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D6EA-4716-4093-9F63-69DF56A2F647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01c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01c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09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1b4b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758D-99EF-4DB2-AC81-84C90FF17E13}" type="slidenum">
              <a:rPr b="0" lang="ru-RU" sz="1000" spc="-1" strike="noStrike">
                <a:solidFill>
                  <a:srgbClr val="a1b4b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2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857240" y="4071600"/>
            <a:ext cx="5214960" cy="1297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лахова Г.Ф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хим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валификационной категории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ламышевской СОШ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85e9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br>
              <a:rPr sz="3200"/>
            </a:b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599840"/>
            <a:ext cx="8229600" cy="1971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Пиво переполняет кровеносные сосуды: возникает синдром «пивного сердца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Рисунок 6" descr="пиво20.jpg"/>
          <p:cNvPicPr/>
          <p:nvPr/>
        </p:nvPicPr>
        <p:blipFill>
          <a:blip r:embed="rId1"/>
          <a:stretch/>
        </p:blipFill>
        <p:spPr>
          <a:xfrm>
            <a:off x="3429000" y="3429000"/>
            <a:ext cx="23572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500040" y="1999800"/>
            <a:ext cx="8183520" cy="2041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Пиво наносит вред гормонам  человека: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сказывается влияние токсических веществ.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Мужч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давляется выработка мужского                          увеличивается выработка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женских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лового гормона – тестостерона                           половых гормонов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разрастаются грудные желез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становится шире таз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0f6fc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появляется «пивной живо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Line 11"/>
          <p:cNvSpPr/>
          <p:nvPr/>
        </p:nvSpPr>
        <p:spPr>
          <a:xfrm flipH="1">
            <a:off x="3428640" y="178596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5286240" y="1857240"/>
            <a:ext cx="432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4"/>
          <p:cNvSpPr/>
          <p:nvPr/>
        </p:nvSpPr>
        <p:spPr>
          <a:xfrm>
            <a:off x="6429240" y="2786040"/>
            <a:ext cx="460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9" descr="пиво3.jpg"/>
          <p:cNvPicPr/>
          <p:nvPr/>
        </p:nvPicPr>
        <p:blipFill>
          <a:blip r:embed="rId1"/>
          <a:stretch/>
        </p:blipFill>
        <p:spPr>
          <a:xfrm>
            <a:off x="1143000" y="328608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28760" y="49968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Женщин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возрастает вероятность                                   кормящая мать,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заболевания раком                                         употребляющая пи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становится грубее голос                                  эпилептические     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     судороги у ребенка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появляются «пивные усы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10"/>
          <p:cNvSpPr/>
          <p:nvPr/>
        </p:nvSpPr>
        <p:spPr>
          <a:xfrm flipH="1">
            <a:off x="3357360" y="1143000"/>
            <a:ext cx="431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1"/>
          <p:cNvSpPr/>
          <p:nvPr/>
        </p:nvSpPr>
        <p:spPr>
          <a:xfrm>
            <a:off x="5643720" y="1143000"/>
            <a:ext cx="57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3714840" y="3643200"/>
            <a:ext cx="2923920" cy="2214720"/>
          </a:xfrm>
          <a:prstGeom prst="rect">
            <a:avLst/>
          </a:prstGeom>
          <a:ln w="0">
            <a:noFill/>
          </a:ln>
        </p:spPr>
      </p:pic>
      <p:sp>
        <p:nvSpPr>
          <p:cNvPr id="460" name="Стрелка вниз 8"/>
          <p:cNvSpPr/>
          <p:nvPr/>
        </p:nvSpPr>
        <p:spPr>
          <a:xfrm>
            <a:off x="6715080" y="2071800"/>
            <a:ext cx="71640" cy="285480"/>
          </a:xfrm>
          <a:prstGeom prst="downArrow">
            <a:avLst>
              <a:gd name="adj1" fmla="val 50000"/>
              <a:gd name="adj2" fmla="val 49812"/>
            </a:avLst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Этиловый спирт пагубно влияет на клетки головного мозг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2" name="Рисунок 7" descr="пиво28.jpg"/>
          <p:cNvPicPr/>
          <p:nvPr/>
        </p:nvPicPr>
        <p:blipFill>
          <a:blip r:embed="rId1"/>
          <a:stretch/>
        </p:blipFill>
        <p:spPr>
          <a:xfrm>
            <a:off x="3500280" y="2071800"/>
            <a:ext cx="1905120" cy="237168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8"/>
          <p:cNvSpPr/>
          <p:nvPr/>
        </p:nvSpPr>
        <p:spPr>
          <a:xfrm>
            <a:off x="5572080" y="1857240"/>
            <a:ext cx="3000600" cy="6429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способность к обуч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571680" y="1857240"/>
            <a:ext cx="2571480" cy="714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интеллек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10"/>
          <p:cNvSpPr/>
          <p:nvPr/>
        </p:nvSpPr>
        <p:spPr>
          <a:xfrm>
            <a:off x="2786040" y="5143680"/>
            <a:ext cx="3357720" cy="6426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Снижается личностная оцен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885e9"/>
                </a:solidFill>
                <a:latin typeface="Verdana"/>
              </a:rPr>
              <a:t>Пиво – наркотик, вызывающий агрессию.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142800" y="1928520"/>
            <a:ext cx="5543640" cy="3500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потребление пива является первой причиной искалеченных судеб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ждый десятый алкоголик моложе 18 ле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Рисунок 6" descr="пиво14.jpg"/>
          <p:cNvPicPr/>
          <p:nvPr/>
        </p:nvPicPr>
        <p:blipFill>
          <a:blip r:embed="rId1"/>
          <a:stretch/>
        </p:blipFill>
        <p:spPr>
          <a:xfrm>
            <a:off x="1071720" y="3989520"/>
            <a:ext cx="1643040" cy="1401480"/>
          </a:xfrm>
          <a:prstGeom prst="rect">
            <a:avLst/>
          </a:prstGeom>
          <a:ln w="0">
            <a:noFill/>
          </a:ln>
        </p:spPr>
      </p:pic>
      <p:pic>
        <p:nvPicPr>
          <p:cNvPr id="469" name="Рисунок 9" descr="пиво17.jpg"/>
          <p:cNvPicPr/>
          <p:nvPr/>
        </p:nvPicPr>
        <p:blipFill>
          <a:blip r:embed="rId2"/>
          <a:stretch/>
        </p:blipFill>
        <p:spPr>
          <a:xfrm>
            <a:off x="641520" y="1857240"/>
            <a:ext cx="20062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503280" y="2071440"/>
            <a:ext cx="818352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Пивной алкоголизм ведет к деградации поколе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Рисунок 3" descr="пиво12.jpg"/>
          <p:cNvPicPr/>
          <p:nvPr/>
        </p:nvPicPr>
        <p:blipFill>
          <a:blip r:embed="rId1"/>
          <a:stretch/>
        </p:blipFill>
        <p:spPr>
          <a:xfrm>
            <a:off x="3000240" y="3786120"/>
            <a:ext cx="28702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642960" y="2286000"/>
            <a:ext cx="8183520" cy="257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уть России от разорен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 достатку  - это пу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звой России.»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.Нечвол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643320"/>
            <a:ext cx="81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Реклама  умалчивает </a:t>
            </a:r>
            <a:br>
              <a:rPr sz="3600"/>
            </a:br>
            <a:r>
              <a:rPr b="1" lang="en-US" sz="3600" spc="-1" strike="noStrike">
                <a:solidFill>
                  <a:srgbClr val="4885e9"/>
                </a:solidFill>
                <a:latin typeface="Verdana"/>
              </a:rPr>
              <a:t>о вреде пива</a:t>
            </a:r>
            <a:endParaRPr b="1" lang="en-US" sz="3600" spc="-1" strike="noStrike">
              <a:solidFill>
                <a:srgbClr val="4885e9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928840" y="2428560"/>
            <a:ext cx="278604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Т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И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      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«КЛИНСКИМ»?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Рисунок 5" descr="doc_serfar_-1164280035_i_1982_full.jpg"/>
          <p:cNvPicPr/>
          <p:nvPr/>
        </p:nvPicPr>
        <p:blipFill>
          <a:blip r:embed="rId1"/>
          <a:stretch/>
        </p:blipFill>
        <p:spPr>
          <a:xfrm>
            <a:off x="642960" y="1857240"/>
            <a:ext cx="506736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571680" y="3571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Россия вошла в число стран, население которых занимает первые позиции по употреблению пив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1" name="Рисунок 6" descr="children.jpg"/>
          <p:cNvPicPr/>
          <p:nvPr/>
        </p:nvPicPr>
        <p:blipFill>
          <a:blip r:embed="rId1"/>
          <a:stretch/>
        </p:blipFill>
        <p:spPr>
          <a:xfrm>
            <a:off x="5180040" y="1643040"/>
            <a:ext cx="3660840" cy="292896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7" descr="пиво8.jpg"/>
          <p:cNvPicPr/>
          <p:nvPr/>
        </p:nvPicPr>
        <p:blipFill>
          <a:blip r:embed="rId2"/>
          <a:stretch/>
        </p:blipFill>
        <p:spPr>
          <a:xfrm>
            <a:off x="1285920" y="3235320"/>
            <a:ext cx="28573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0040" y="214308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Пиво не является слабоалкогольным напитком!</a:t>
            </a:r>
            <a:endParaRPr b="1" lang="en-US" sz="4000" spc="-1" strike="noStrike">
              <a:solidFill>
                <a:srgbClr val="4885e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Содержимое 3" descr="пиво1.jpg"/>
          <p:cNvPicPr/>
          <p:nvPr/>
        </p:nvPicPr>
        <p:blipFill>
          <a:blip r:embed="rId1"/>
          <a:stretch/>
        </p:blipFill>
        <p:spPr>
          <a:xfrm>
            <a:off x="3429000" y="2071800"/>
            <a:ext cx="1496880" cy="211932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оугольник 4"/>
          <p:cNvSpPr/>
          <p:nvPr/>
        </p:nvSpPr>
        <p:spPr>
          <a:xfrm>
            <a:off x="5572080" y="1071720"/>
            <a:ext cx="2500200" cy="107136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Белки = =строй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5"/>
          <p:cNvSpPr/>
          <p:nvPr/>
        </p:nvSpPr>
        <p:spPr>
          <a:xfrm>
            <a:off x="5572080" y="3357720"/>
            <a:ext cx="2500200" cy="114300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Магний=настро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6"/>
          <p:cNvSpPr/>
          <p:nvPr/>
        </p:nvSpPr>
        <p:spPr>
          <a:xfrm>
            <a:off x="857160" y="1000080"/>
            <a:ext cx="2000520" cy="107172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Жиры и углеводы = =энер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7"/>
          <p:cNvSpPr/>
          <p:nvPr/>
        </p:nvSpPr>
        <p:spPr>
          <a:xfrm>
            <a:off x="785880" y="3786120"/>
            <a:ext cx="1857240" cy="121464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итамин С = =иммуни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3357720" y="5357880"/>
            <a:ext cx="2286000" cy="1000080"/>
          </a:xfrm>
          <a:prstGeom prst="rect">
            <a:avLst/>
          </a:prstGeom>
          <a:solidFill>
            <a:srgbClr val="0f6fc6"/>
          </a:solidFill>
          <a:ln w="424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Калий=мышц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ая соединительная линия 10"/>
          <p:cNvSpPr/>
          <p:nvPr/>
        </p:nvSpPr>
        <p:spPr>
          <a:xfrm flipV="1">
            <a:off x="857160" y="999720"/>
            <a:ext cx="2000520" cy="1071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ая соединительная линия 12"/>
          <p:cNvSpPr/>
          <p:nvPr/>
        </p:nvSpPr>
        <p:spPr>
          <a:xfrm flipV="1">
            <a:off x="5572080" y="1071720"/>
            <a:ext cx="2428920" cy="1071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ая соединительная линия 14"/>
          <p:cNvSpPr/>
          <p:nvPr/>
        </p:nvSpPr>
        <p:spPr>
          <a:xfrm flipV="1">
            <a:off x="785880" y="3786120"/>
            <a:ext cx="1857240" cy="12146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ая соединительная линия 16"/>
          <p:cNvSpPr/>
          <p:nvPr/>
        </p:nvSpPr>
        <p:spPr>
          <a:xfrm flipV="1">
            <a:off x="5572080" y="3357360"/>
            <a:ext cx="250020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ая соединительная линия 18"/>
          <p:cNvSpPr/>
          <p:nvPr/>
        </p:nvSpPr>
        <p:spPr>
          <a:xfrm flipV="1">
            <a:off x="3357720" y="5357880"/>
            <a:ext cx="2286000" cy="1000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Содержимое 9" descr="1177418106_pivo_vredno_dlja_zdorovja.jpg"/>
          <p:cNvPicPr/>
          <p:nvPr/>
        </p:nvPicPr>
        <p:blipFill>
          <a:blip r:embed="rId1"/>
          <a:stretch/>
        </p:blipFill>
        <p:spPr>
          <a:xfrm>
            <a:off x="571680" y="50004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0" descr="пиво24.jpg"/>
          <p:cNvPicPr/>
          <p:nvPr/>
        </p:nvPicPr>
        <p:blipFill>
          <a:blip r:embed="rId2"/>
          <a:stretch/>
        </p:blipFill>
        <p:spPr>
          <a:xfrm>
            <a:off x="6643800" y="3214800"/>
            <a:ext cx="1857240" cy="2463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1"/>
          <p:cNvSpPr/>
          <p:nvPr/>
        </p:nvSpPr>
        <p:spPr>
          <a:xfrm>
            <a:off x="1500120" y="428616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бутылка пива = 50 граммам во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Прямоугольник 4"/>
          <p:cNvSpPr/>
          <p:nvPr/>
        </p:nvSpPr>
        <p:spPr>
          <a:xfrm>
            <a:off x="714240" y="22860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вной алкоголизм формируется очень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5" descr="пиво11.jpg"/>
          <p:cNvPicPr/>
          <p:nvPr/>
        </p:nvPicPr>
        <p:blipFill>
          <a:blip r:embed="rId1"/>
          <a:stretch/>
        </p:blipFill>
        <p:spPr>
          <a:xfrm>
            <a:off x="2898720" y="3000240"/>
            <a:ext cx="3247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Прямоугольник 3"/>
          <p:cNvSpPr/>
          <p:nvPr/>
        </p:nvSpPr>
        <p:spPr>
          <a:xfrm>
            <a:off x="1643040" y="18572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мость развивается через 1-3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Рисунок 4" descr="пиво15.jpg"/>
          <p:cNvPicPr/>
          <p:nvPr/>
        </p:nvPicPr>
        <p:blipFill>
          <a:blip r:embed="rId1"/>
          <a:stretch/>
        </p:blipFill>
        <p:spPr>
          <a:xfrm>
            <a:off x="3475080" y="3214800"/>
            <a:ext cx="25099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Особенности пивного алкоголизм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Прямоугольник 3"/>
          <p:cNvSpPr/>
          <p:nvPr/>
        </p:nvSpPr>
        <p:spPr>
          <a:xfrm>
            <a:off x="1214280" y="192888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% алкоголя действуют как я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Рисунок 4" descr="1166453642_beer_and_babies_1.jpg"/>
          <p:cNvPicPr/>
          <p:nvPr/>
        </p:nvPicPr>
        <p:blipFill>
          <a:blip r:embed="rId1"/>
          <a:stretch/>
        </p:blipFill>
        <p:spPr>
          <a:xfrm>
            <a:off x="2286000" y="2668680"/>
            <a:ext cx="40528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2:15:44Z</dcterms:created>
  <dc:creator>Трибунский</dc:creator>
  <dc:description/>
  <dc:language>en-US</dc:language>
  <cp:lastModifiedBy>КарМаН</cp:lastModifiedBy>
  <dcterms:modified xsi:type="dcterms:W3CDTF">2011-12-20T11:18:15Z</dcterms:modified>
  <cp:revision>68</cp:revision>
  <dc:subject/>
  <dc:title>Этот «безвредный» напиток…</dc:title>
</cp:coreProperties>
</file>