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2214-36B1-4DCD-9DDC-E47E90DE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307-4734-41AE-8068-B95437E8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59989-A725-470D-8ECA-0B9B7A80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6AE22-8B80-4B60-832D-AD5CD86F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EEDE4-642C-4258-9CEB-1DCC5E8B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EC637-DCB8-4706-9405-207511F2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00653-D052-46C7-94B9-AFEA70B1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0E90F-64C0-4671-BED3-26FC1E43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192DF-ABD4-4DC6-B77D-897316D7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1C379-D5A7-4D10-B7A0-7C5BAB1A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11E04-125E-4571-BEDE-40E30AA0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B998-1FE4-44D5-9ABB-C3AF9200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605B-596A-44A1-B617-CD5A1A3C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DC75-E7DC-46C2-B979-446E07C7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C793-3A87-4B21-9B47-0679DF67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81FD-F1DF-4061-9F06-DDF272DC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4A57-8456-4019-BDBC-944B0129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F811-BBF7-42B3-A9F5-A7F9CFE6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136E-422B-4C4C-9143-7A36B2EB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53EB-7CC9-4958-A607-70B9D810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E73D-E36D-4BD4-8143-9B686AE6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9A79-393F-4B37-8CB8-B406B8AB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D070-F0CF-440F-AF75-D971A363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1FC0-3267-4A4F-B785-BF60118F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EF61-0DDB-4908-9019-D78566FA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E9F5-FCB7-4B68-A4E3-D206FE07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1AEC0-1977-4C72-9AEB-421ABF23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BC49C-E8C2-4953-98FE-DB9B63F6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4A481-65D6-4DE4-81C7-A80733C1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681BF-628B-4B5E-9253-1148EB28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34248-2015-45CA-9269-6C205810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6AE0-8240-4F10-A45C-40E21395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FD861-E767-4F05-B5B4-641154D8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7514E-6B52-4482-861D-67222AAC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467CF-47E7-496E-933A-8B788412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D4268-D60B-4199-AB4A-A1C2EE8A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F7052-F614-4234-87A8-81D45EE1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1646F-4E7F-4C42-90E4-28B95715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202CA-D364-415F-94EE-DE83E148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1CED3-DB6F-4753-9AB7-84B52848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3AB29-7815-44DA-97F9-C72D2484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E9935-BBD8-49B1-91FA-B30C771B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FE1-A204-448D-B839-7D5D2065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160B1-553D-4FFF-BBD6-97EC94A9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786B9-2206-4AA1-AF6E-0602B4AB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6B635-2E62-4E08-9423-945A5C9E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99A55-B014-4A76-AC2B-A6D21393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C8E91-6941-4534-BD38-762EF36F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4551D-B189-4BF0-BAE8-76E8E7EF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01446-40E4-4C48-AC5F-D38A243B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FB80B-B24C-46F8-9382-8673E46C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13C68-7441-43FE-B7B5-9690F330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8760B-11C6-4E11-A15C-8C2C07A1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1A3-A6B6-4B0B-B736-E9B22AE7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FBA6C-E527-4C84-8F54-828FC651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55480-60C8-44FE-AEC6-7CB53D23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9170B-D8DD-4FF7-B536-BE69DC4D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9258F-0121-4B73-89FA-25F10E52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DF695-96EF-46EE-A9E7-1754674D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1398A-FB15-41E9-A652-2B930F1C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2CCEE-737E-49CF-8763-B837629F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72FD2-F8D3-428E-A5F2-9912FC9E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4196B-322F-416C-BC9F-CC0CBE52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1671D-EE4A-4E8C-A55F-612A3C5A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A953-3CB4-42A2-A47E-4282E829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B585E-48CF-4570-929E-78914295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58416-EAAA-48C0-9FCF-88CFC11A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B20DB-31C9-4481-BB20-2CEC662B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FF585-68A5-46DE-BD8F-26DC45A5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37135-DEA4-4012-993F-69431398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D0C90-255D-48F8-BCD4-289072B5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81D58-F4DF-47EC-BECA-A0EE5EF5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0126F-3646-4B4B-991D-6E656A1D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8AB74-2E39-4C21-8A49-FAD40947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11B09-80A6-4486-94EA-4CC1F204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92BC-4C66-491F-932F-EC0194EE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D1949-3FF7-4786-A2B5-7FD32493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CE8C0-37A2-48D4-BED2-6ED65BDD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44900-1E87-4459-AEF6-E724D085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D50CD-D944-4141-BDE3-E8EB941E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56E3D-4E48-4333-BB05-F8B9BD2C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07670-52C0-49F6-BD83-022D7429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0FACF-CE46-4880-A0A3-2EF53A7E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4F98A-AAB1-4B1C-AC6A-BF705521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F29AF-A598-4054-A437-B4448E53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93CF1-014C-4391-ACC1-5C973430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1BE-FD3B-4AC1-AE87-0AE6DF16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6DF4C-AF10-4376-B7AC-73FCCB21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12280-47B8-48EE-A9EF-50F2D727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4BC1C-7C28-4B8D-935A-1A5BC2B0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C3A85-8348-496A-9A0A-AF115925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04496-A1DA-4D1F-9872-53B2C30D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72036-A7BC-4CBD-A54B-3E5C3533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5E20A-955B-43D8-91FD-26780AFD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C86D6-BD36-4EC3-8650-59372C8B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68B7C-77AE-45D7-83A3-29A8EDAC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74C2D-C3D1-445D-8EBC-1386AA93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F745-40A5-442D-9FD6-F7342791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09FF4-470E-4C98-B7CF-C7858B73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1C360-E57F-4EA6-A27E-FB42FAAA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2EE11-213A-42C8-9B04-0B73CAF7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37C40-6BBF-45A8-AB03-411524DF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60555-EBE5-418C-92C1-812A6FE7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93E80-EE3A-47DA-AF57-314FD852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AE826-5CC5-4003-9AD6-226120B8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2A599-9FDC-45EE-9F35-C916A652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61D88-B031-410F-836D-EBE370D4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F6296-F48C-41A0-9C74-B29F4320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5AA5-3EB9-4091-997B-70355CF8763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5E8D-CAED-486E-87D9-ECD60EC3F499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8BE1-3EA2-4D43-BC8B-4928B163B6D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A25A-A42B-4E4B-B867-21AA0401475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A248-4D9A-49FB-970C-EAE3BC02F63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24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39CB-67DE-43EE-99F5-788EBE92E56B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28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1BEE-9E60-4341-AAB1-B90A780C80D8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7A95-0AD9-4C79-8A59-AE15887092D7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7931-383C-4735-B8EB-4BB1E256D250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2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857240" y="4071600"/>
            <a:ext cx="5214960" cy="1297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лахова Г.Ф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химии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ой квалификационной категории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ламышевской СО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br>
              <a:rPr sz="3200"/>
            </a:b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иво переполняет кровеносные сосуды: возникает синдром «пивного сердца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Рисунок 6" descr="пиво20.jpg"/>
          <p:cNvPicPr/>
          <p:nvPr/>
        </p:nvPicPr>
        <p:blipFill>
          <a:blip r:embed="rId1"/>
          <a:stretch/>
        </p:blipFill>
        <p:spPr>
          <a:xfrm>
            <a:off x="3429000" y="3429000"/>
            <a:ext cx="2357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500040" y="1999800"/>
            <a:ext cx="8183520" cy="2041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Пиво наносит вред гормонам  человека: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сказывается влияние токсических веществ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ужч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давляется выработка мужского                          увеличивается выработка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женски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лового гормона – тестостерона                           половых гормонов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разрастаются грудные желез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тановится шире таз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является «пивной живот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Line 11"/>
          <p:cNvSpPr/>
          <p:nvPr/>
        </p:nvSpPr>
        <p:spPr>
          <a:xfrm flipH="1">
            <a:off x="3428640" y="178596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5286240" y="1857240"/>
            <a:ext cx="432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4"/>
          <p:cNvSpPr/>
          <p:nvPr/>
        </p:nvSpPr>
        <p:spPr>
          <a:xfrm>
            <a:off x="6429240" y="2786040"/>
            <a:ext cx="4608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Рисунок 9" descr="пиво3.jpg"/>
          <p:cNvPicPr/>
          <p:nvPr/>
        </p:nvPicPr>
        <p:blipFill>
          <a:blip r:embed="rId1"/>
          <a:stretch/>
        </p:blipFill>
        <p:spPr>
          <a:xfrm>
            <a:off x="1143000" y="3286080"/>
            <a:ext cx="35719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28760" y="49968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9000"/>
          </a:bodyPr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Женщ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озрастает вероятность                                   кормящая мать,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заболевания раком                                         употребляющая пи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становится грубее голос                                  эпилептические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судороги у ребенка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оявляются «пивные усы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Line 10"/>
          <p:cNvSpPr/>
          <p:nvPr/>
        </p:nvSpPr>
        <p:spPr>
          <a:xfrm flipH="1">
            <a:off x="3357360" y="114300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1"/>
          <p:cNvSpPr/>
          <p:nvPr/>
        </p:nvSpPr>
        <p:spPr>
          <a:xfrm>
            <a:off x="5643720" y="1143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Рисунок 7" descr="Безымянный.bmp"/>
          <p:cNvPicPr/>
          <p:nvPr/>
        </p:nvPicPr>
        <p:blipFill>
          <a:blip r:embed="rId1"/>
          <a:stretch/>
        </p:blipFill>
        <p:spPr>
          <a:xfrm>
            <a:off x="3714840" y="3643200"/>
            <a:ext cx="2923920" cy="2214720"/>
          </a:xfrm>
          <a:prstGeom prst="rect">
            <a:avLst/>
          </a:prstGeom>
          <a:ln w="0">
            <a:noFill/>
          </a:ln>
        </p:spPr>
      </p:pic>
      <p:sp>
        <p:nvSpPr>
          <p:cNvPr id="460" name="Стрелка вниз 8"/>
          <p:cNvSpPr/>
          <p:nvPr/>
        </p:nvSpPr>
        <p:spPr>
          <a:xfrm>
            <a:off x="6715080" y="2071800"/>
            <a:ext cx="71640" cy="285480"/>
          </a:xfrm>
          <a:prstGeom prst="downArrow">
            <a:avLst>
              <a:gd name="adj1" fmla="val 50000"/>
              <a:gd name="adj2" fmla="val 49812"/>
            </a:avLst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Этиловый спирт пагубно влияет на клетки головного мозг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2" name="Рисунок 7" descr="пиво28.jpg"/>
          <p:cNvPicPr/>
          <p:nvPr/>
        </p:nvPicPr>
        <p:blipFill>
          <a:blip r:embed="rId1"/>
          <a:stretch/>
        </p:blipFill>
        <p:spPr>
          <a:xfrm>
            <a:off x="3500280" y="2071800"/>
            <a:ext cx="1905120" cy="237168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8"/>
          <p:cNvSpPr/>
          <p:nvPr/>
        </p:nvSpPr>
        <p:spPr>
          <a:xfrm>
            <a:off x="5572080" y="1857240"/>
            <a:ext cx="3000600" cy="64296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способность к обуч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9"/>
          <p:cNvSpPr/>
          <p:nvPr/>
        </p:nvSpPr>
        <p:spPr>
          <a:xfrm>
            <a:off x="571680" y="1857240"/>
            <a:ext cx="2571480" cy="7146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интелл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0"/>
          <p:cNvSpPr/>
          <p:nvPr/>
        </p:nvSpPr>
        <p:spPr>
          <a:xfrm>
            <a:off x="2786040" y="5143680"/>
            <a:ext cx="3357720" cy="6426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личностная оцен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85e9"/>
                </a:solidFill>
                <a:latin typeface="Verdana"/>
              </a:rPr>
              <a:t>Пиво – наркотик, вызывающий агрессию.</a:t>
            </a:r>
            <a:endParaRPr b="1" lang="en-US" sz="40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142800" y="1928520"/>
            <a:ext cx="5543640" cy="3500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требление пива является первой причиной искалеченных суде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ждый десятый алкоголик моложе 18 ле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Рисунок 6" descr="пиво14.jpg"/>
          <p:cNvPicPr/>
          <p:nvPr/>
        </p:nvPicPr>
        <p:blipFill>
          <a:blip r:embed="rId1"/>
          <a:stretch/>
        </p:blipFill>
        <p:spPr>
          <a:xfrm>
            <a:off x="1071720" y="3989520"/>
            <a:ext cx="1643040" cy="1401480"/>
          </a:xfrm>
          <a:prstGeom prst="rect">
            <a:avLst/>
          </a:prstGeom>
          <a:ln w="0">
            <a:noFill/>
          </a:ln>
        </p:spPr>
      </p:pic>
      <p:pic>
        <p:nvPicPr>
          <p:cNvPr id="469" name="Рисунок 9" descr="пиво17.jpg"/>
          <p:cNvPicPr/>
          <p:nvPr/>
        </p:nvPicPr>
        <p:blipFill>
          <a:blip r:embed="rId2"/>
          <a:stretch/>
        </p:blipFill>
        <p:spPr>
          <a:xfrm>
            <a:off x="641520" y="1857240"/>
            <a:ext cx="200628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503280" y="2071440"/>
            <a:ext cx="818352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Пивной алкоголизм ведет к деградации поколени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Рисунок 3" descr="пиво12.jpg"/>
          <p:cNvPicPr/>
          <p:nvPr/>
        </p:nvPicPr>
        <p:blipFill>
          <a:blip r:embed="rId1"/>
          <a:stretch/>
        </p:blipFill>
        <p:spPr>
          <a:xfrm>
            <a:off x="3000240" y="3786120"/>
            <a:ext cx="28702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642960" y="2286000"/>
            <a:ext cx="8183520" cy="2571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уть России от разорен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достатку  - это пу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звой России.»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.Нечвол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643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Реклама  умалчивает </a:t>
            </a:r>
            <a:br>
              <a:rPr sz="3600"/>
            </a:b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о вреде пива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928840" y="2428560"/>
            <a:ext cx="278604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«КТ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ИД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«КЛИНСКИМ»?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Рисунок 5" descr="doc_serfar_-1164280035_i_1982_full.jpg"/>
          <p:cNvPicPr/>
          <p:nvPr/>
        </p:nvPicPr>
        <p:blipFill>
          <a:blip r:embed="rId1"/>
          <a:stretch/>
        </p:blipFill>
        <p:spPr>
          <a:xfrm>
            <a:off x="642960" y="1857240"/>
            <a:ext cx="50673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571680" y="35712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Россия вошла в число стран, население которых занимает первые позиции по употреблению пи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1" name="Рисунок 6" descr="children.jpg"/>
          <p:cNvPicPr/>
          <p:nvPr/>
        </p:nvPicPr>
        <p:blipFill>
          <a:blip r:embed="rId1"/>
          <a:stretch/>
        </p:blipFill>
        <p:spPr>
          <a:xfrm>
            <a:off x="5180040" y="1643040"/>
            <a:ext cx="3660840" cy="292896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7" descr="пиво8.jpg"/>
          <p:cNvPicPr/>
          <p:nvPr/>
        </p:nvPicPr>
        <p:blipFill>
          <a:blip r:embed="rId2"/>
          <a:stretch/>
        </p:blipFill>
        <p:spPr>
          <a:xfrm>
            <a:off x="1285920" y="3235320"/>
            <a:ext cx="285732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0040" y="214308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Пиво не является слабоалкогольным напитком!</a:t>
            </a:r>
            <a:endParaRPr b="1" lang="en-US" sz="4000" spc="-1" strike="noStrike">
              <a:solidFill>
                <a:srgbClr val="4885e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Содержимое 3" descr="пиво1.jpg"/>
          <p:cNvPicPr/>
          <p:nvPr/>
        </p:nvPicPr>
        <p:blipFill>
          <a:blip r:embed="rId1"/>
          <a:stretch/>
        </p:blipFill>
        <p:spPr>
          <a:xfrm>
            <a:off x="3429000" y="2071800"/>
            <a:ext cx="1496880" cy="211932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4"/>
          <p:cNvSpPr/>
          <p:nvPr/>
        </p:nvSpPr>
        <p:spPr>
          <a:xfrm>
            <a:off x="5572080" y="1071720"/>
            <a:ext cx="2500200" cy="107136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Белки = =строй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5"/>
          <p:cNvSpPr/>
          <p:nvPr/>
        </p:nvSpPr>
        <p:spPr>
          <a:xfrm>
            <a:off x="5572080" y="3357720"/>
            <a:ext cx="2500200" cy="11430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агний=настро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6"/>
          <p:cNvSpPr/>
          <p:nvPr/>
        </p:nvSpPr>
        <p:spPr>
          <a:xfrm>
            <a:off x="857160" y="1000080"/>
            <a:ext cx="2000520" cy="107172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Жиры и углеводы = =энер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7"/>
          <p:cNvSpPr/>
          <p:nvPr/>
        </p:nvSpPr>
        <p:spPr>
          <a:xfrm>
            <a:off x="785880" y="3786120"/>
            <a:ext cx="1857240" cy="121464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итамин С = =иммун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8"/>
          <p:cNvSpPr/>
          <p:nvPr/>
        </p:nvSpPr>
        <p:spPr>
          <a:xfrm>
            <a:off x="3357720" y="5357880"/>
            <a:ext cx="2286000" cy="100008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алий=мыш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ая соединительная линия 10"/>
          <p:cNvSpPr/>
          <p:nvPr/>
        </p:nvSpPr>
        <p:spPr>
          <a:xfrm flipV="1">
            <a:off x="857160" y="999720"/>
            <a:ext cx="2000520" cy="1071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ая соединительная линия 12"/>
          <p:cNvSpPr/>
          <p:nvPr/>
        </p:nvSpPr>
        <p:spPr>
          <a:xfrm flipV="1">
            <a:off x="5572080" y="1071720"/>
            <a:ext cx="2428920" cy="1071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14"/>
          <p:cNvSpPr/>
          <p:nvPr/>
        </p:nvSpPr>
        <p:spPr>
          <a:xfrm flipV="1">
            <a:off x="785880" y="3786120"/>
            <a:ext cx="1857240" cy="12146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ая соединительная линия 16"/>
          <p:cNvSpPr/>
          <p:nvPr/>
        </p:nvSpPr>
        <p:spPr>
          <a:xfrm flipV="1">
            <a:off x="5572080" y="3357360"/>
            <a:ext cx="250020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ая соединительная линия 18"/>
          <p:cNvSpPr/>
          <p:nvPr/>
        </p:nvSpPr>
        <p:spPr>
          <a:xfrm flipV="1">
            <a:off x="3357720" y="5357880"/>
            <a:ext cx="2286000" cy="1000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Содержимое 9" descr="1177418106_pivo_vredno_dlja_zdorovja.jpg"/>
          <p:cNvPicPr/>
          <p:nvPr/>
        </p:nvPicPr>
        <p:blipFill>
          <a:blip r:embed="rId1"/>
          <a:stretch/>
        </p:blipFill>
        <p:spPr>
          <a:xfrm>
            <a:off x="571680" y="50004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0" descr="пиво24.jpg"/>
          <p:cNvPicPr/>
          <p:nvPr/>
        </p:nvPicPr>
        <p:blipFill>
          <a:blip r:embed="rId2"/>
          <a:stretch/>
        </p:blipFill>
        <p:spPr>
          <a:xfrm>
            <a:off x="6643800" y="3214800"/>
            <a:ext cx="1857240" cy="24638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1"/>
          <p:cNvSpPr/>
          <p:nvPr/>
        </p:nvSpPr>
        <p:spPr>
          <a:xfrm>
            <a:off x="1500120" y="428616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бутылка пива = 50 граммам во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Прямоугольник 4"/>
          <p:cNvSpPr/>
          <p:nvPr/>
        </p:nvSpPr>
        <p:spPr>
          <a:xfrm>
            <a:off x="714240" y="228600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вной алкоголизм формируется очень быст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Рисунок 5" descr="пиво11.jpg"/>
          <p:cNvPicPr/>
          <p:nvPr/>
        </p:nvPicPr>
        <p:blipFill>
          <a:blip r:embed="rId1"/>
          <a:stretch/>
        </p:blipFill>
        <p:spPr>
          <a:xfrm>
            <a:off x="2898720" y="3000240"/>
            <a:ext cx="3247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Прямоугольник 3"/>
          <p:cNvSpPr/>
          <p:nvPr/>
        </p:nvSpPr>
        <p:spPr>
          <a:xfrm>
            <a:off x="1643040" y="185724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развивается через 1-3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Рисунок 4" descr="пиво15.jpg"/>
          <p:cNvPicPr/>
          <p:nvPr/>
        </p:nvPicPr>
        <p:blipFill>
          <a:blip r:embed="rId1"/>
          <a:stretch/>
        </p:blipFill>
        <p:spPr>
          <a:xfrm>
            <a:off x="3475080" y="3214800"/>
            <a:ext cx="25099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Прямоугольник 3"/>
          <p:cNvSpPr/>
          <p:nvPr/>
        </p:nvSpPr>
        <p:spPr>
          <a:xfrm>
            <a:off x="1214280" y="192888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% алкоголя действуют как я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Рисунок 4" descr="1166453642_beer_and_babies_1.jpg"/>
          <p:cNvPicPr/>
          <p:nvPr/>
        </p:nvPicPr>
        <p:blipFill>
          <a:blip r:embed="rId1"/>
          <a:stretch/>
        </p:blipFill>
        <p:spPr>
          <a:xfrm>
            <a:off x="2286000" y="2668680"/>
            <a:ext cx="40528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2:15:44Z</dcterms:created>
  <dc:creator>Трибунский</dc:creator>
  <dc:description/>
  <dc:language>en-US</dc:language>
  <cp:lastModifiedBy>КарМаН</cp:lastModifiedBy>
  <dcterms:modified xsi:type="dcterms:W3CDTF">2011-12-20T11:18:15Z</dcterms:modified>
  <cp:revision>68</cp:revision>
  <dc:subject/>
  <dc:title>Этот «безвредный» напиток…</dc:title>
</cp:coreProperties>
</file>