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6.png" ContentType="image/png"/>
  <Override PartName="/ppt/media/image10.jpeg" ContentType="image/jpeg"/>
  <Override PartName="/ppt/media/image5.jpeg" ContentType="image/jpeg"/>
  <Override PartName="/ppt/media/image13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25.jpeg" ContentType="image/jpeg"/>
  <Override PartName="/ppt/media/image2.png" ContentType="image/png"/>
  <Override PartName="/ppt/media/image3.png" ContentType="image/png"/>
  <Override PartName="/ppt/media/image17.jpeg" ContentType="image/jpeg"/>
  <Override PartName="/ppt/media/image4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11A2-AFA9-4E7B-99AF-359E633C3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FA93-C5DA-4176-80C9-5E96D872A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3C5780-FAB2-4137-BD9D-B448D7956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1629ED-69ED-49EC-A5E1-D755A76A8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E1784C-1B74-479C-8BAD-48B9C2DB8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B3D3B7-1275-4A26-84B8-F7A3323D6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C21BC6-022F-4A4D-9F9E-DBC1D66F3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8CEF8A-8A96-49F7-90C7-7F27FE802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6A6102-60AE-42D7-9B95-B00514E98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8A962E-0141-4670-8545-FD82F4E63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5B9E9A-8ADC-4BEB-AB93-F07D123F9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A8D9-6913-4C65-9B8D-3CD5613EE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DC47-1875-455E-831F-EB24FF905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DE0DC-EC80-480E-8BF8-65C2E06E9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14446-D235-4197-B5DF-DBDA3BF87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49AD1-6A28-4428-92BC-BBCCEFFFD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4CA3B-CB82-4D22-A34D-87165A6C7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22339-4658-4FE3-BD2E-D8EBCE8C7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3F22A-8DAA-4E84-B504-2E5CE0D0C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3A543-704A-4DEF-A7F8-C09BD97D9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C5DA-2C9F-4536-B85F-7E2569325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55EAC-62DB-42AC-9382-8465A4508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5B2A0-02F8-461A-8769-4AD5F13F6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E6B6A-5E1F-40B5-9AF8-775E54C58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A3A2D-C05A-46D9-9255-AA8C8F8FA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BBEEC-CDE6-44F1-8ABC-33D4515F0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858D8E-4BCA-40A0-B80F-174E25003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D808F6-BF1E-4C0F-85A0-61F002B50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65EEB9-5192-4750-ADB5-ECB3A9AE5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C2ECC2-52A5-464F-A5A8-9EECC352E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E80C39-6E61-408E-A196-993C5A7F0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D389-44F3-4A26-B092-E16270353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1B94F6-8082-4EAD-8462-DEE50C705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34EA05-F16D-49A3-B465-1AB538F96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0BDB00-9AA1-4E42-8B7F-10B66E2E6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0762CC-9CB7-4D7B-8D31-11BCC9CDF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7DE411-9379-41EB-AAD1-20357413A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4D6DB6-ADB8-4982-B1F8-C591FFA66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22A8E9-E699-41A0-BFE2-C6BA75ECE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D93DD7-8CA8-4FE6-8065-C3A5A9559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F5EA69-FD2D-4453-AA82-DEDA40666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C65506-5608-437D-8CFE-2A94C1840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9B12-154B-47D9-BEAE-9A6126301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11FBF0-66B2-4C52-A6D9-9F36DC8B5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3A5C2A-F80A-4F12-ABE1-A98A9689A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CB9130-2DB8-451D-AC94-67A4EE8CE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324CDF-99F1-46E4-9AD4-ED288D081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D2CE2C-F57E-4DAD-85A9-919BBE383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CB2E22-3A8E-4A4E-9EA3-B9508474E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D9F2D9-4CC3-4731-95BE-D2E2DAB44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BE203C-97E8-4981-AD65-F1EAA8E2F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333468-E082-4493-9661-9FE566C19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A3E556-854A-4C8F-AEE3-5CF70AE08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E531-DB71-4AD1-BF71-1511815AA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A3AA50-99FF-44B4-AD21-CDE8B72F7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68899B-8C40-4F6F-9F7F-2DD6F0B75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7A6487-4563-4222-9A05-D880898FC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7792BB-4F6A-4A2D-9EB7-55CA3AE77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4F7F1F-45CE-4011-90B3-93C2F25C8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4AEA7C-4142-42CF-AC26-6F9986A9B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2A9211-304F-4918-BA92-EB3080AFE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8FB100-0731-4497-9A80-83D3CD06B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A8965E-FA08-4064-B563-DA9AFFCDB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9D18B6-9C4B-4329-B5E5-2630A273F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F855-4AF4-4A0F-BEAE-FAA3D7C05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4692BB-C621-4454-80D3-C37E17756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266805-3524-4647-8923-7E338BFAF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9F00D1-79DA-425D-AA13-4D20ABBAC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B9C4EA-5792-432D-8D45-616C93343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DAE701-6BC8-46B3-9C2F-96DA0E838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845AF1-45D4-4AF6-A388-40209A90A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122373-CE2C-41C9-B9CB-5B2C5FC0A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168923-E802-4C34-99C8-A5A99A35E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3B82EF-F034-4380-BBF8-EC43C659F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8200C1-2413-4C2F-BC97-0AD0DA6DB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FECB-98C0-4334-83BF-DCD826BA9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61D8DE-D08A-4B89-B7CE-112386D22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55DCA9-8526-43F1-BDF2-A60BA0448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42B4C4-B7C5-4C9C-BB3C-63E069C42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9A35F5-E308-403C-80A7-C444ECFB7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EE0A0D-A7BE-4ED6-9D09-DA785163A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D1BB29-35E2-40CB-872E-390862744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CED62E-28EA-4A62-9828-944A7BF67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D63006-D9B8-4C65-AF21-BF14D938B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EAC109-5E70-4563-BF09-D669CF56B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804FB1-E5B3-4CE6-B4EE-B168F8DF5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08FD-9A72-4C17-99EF-22B531A53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58EF63-0617-4533-AE41-DE9719939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2CFAE4-8506-424F-B482-94A95BD3C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EAC031-8D6E-4D0D-97B2-8DCCB7C5A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B6E5DC-94A1-4D74-93D5-CA94D5A52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826765-B1DA-4C0F-8DFD-544636293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CD793E-7478-44E7-9C73-F83DC8463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65CE25-9784-46B1-B958-897E0413D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E3902E-FEEF-4135-BB0C-8410859B9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2D1DEC-05F4-4CD8-96B6-56558187C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F57378-3AB4-40FF-8A73-713176C25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C5ED-DB35-4718-93D6-BF5B1073D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798E12-45FB-48F8-A68E-42B081D43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4497C4-41D7-46A7-AA32-8C338AACF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9CC362-50FD-46F0-8DBA-708265D6F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D22F49-00DB-4A2F-8349-9ECF3E5F4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589DF7-AE18-4D56-A4C5-1A91D9472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C5729E-CAF0-485B-B123-FDFB090C4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D0C696-9B5D-4F33-A7AF-DA40CCA03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3F5C45-A9C2-400B-961C-3029490DA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5E9146-731D-4325-9BE8-89F10B692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2F46F4-A801-49FA-813D-E7A8801B3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EE631-7A64-4C7D-A02D-F831F7428B0B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5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85e9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01c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01c4ff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09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1b4b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3B253-AC02-483E-9429-924CAF4151AA}" type="slidenum">
              <a:rPr b="0" lang="en-US" sz="1000" spc="-1" strike="noStrike">
                <a:solidFill>
                  <a:srgbClr val="a1b4b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14822-6E44-4455-B0E7-B10B86B8FD5A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4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4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A9F17-DC82-4224-B094-3B07F03A6344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 type="sldNum" idx="15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67A85-6EDE-48E0-B559-FD8BBEDA8167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24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85e9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01c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01c4ff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09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16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ftr" idx="17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sldNum" idx="18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1b4b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F4A08-8C0F-49CA-A1B4-6FD372862A52}" type="slidenum">
              <a:rPr b="0" lang="ru-RU" sz="1000" spc="-1" strike="noStrike">
                <a:solidFill>
                  <a:srgbClr val="a1b4b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28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85e9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01c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01c4ff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09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19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20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21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1b4b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F6AB6-99D3-4C01-9C5C-10EA7AF66EE4}" type="slidenum">
              <a:rPr b="0" lang="ru-RU" sz="1000" spc="-1" strike="noStrike">
                <a:solidFill>
                  <a:srgbClr val="a1b4b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85e9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01c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01c4ff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09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2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3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4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1b4b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DC334-5DBC-43FE-A4EB-72773995883B}" type="slidenum">
              <a:rPr b="0" lang="ru-RU" sz="1000" spc="-1" strike="noStrike">
                <a:solidFill>
                  <a:srgbClr val="a1b4b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85e9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01c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01c4ff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09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dt" idx="25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 type="ftr" idx="26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 type="sldNum" idx="27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1b4b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F38AF-3449-474A-9E92-73AA66B1E1D4}" type="slidenum">
              <a:rPr b="0" lang="ru-RU" sz="1000" spc="-1" strike="noStrike">
                <a:solidFill>
                  <a:srgbClr val="a1b4b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Rectangle 2" descr=""/>
          <p:cNvPicPr/>
          <p:nvPr/>
        </p:nvPicPr>
        <p:blipFill>
          <a:blip r:embed="rId2"/>
          <a:stretch/>
        </p:blipFill>
        <p:spPr>
          <a:xfrm>
            <a:off x="530280" y="1255680"/>
            <a:ext cx="8461440" cy="2011320"/>
          </a:xfrm>
          <a:prstGeom prst="rect">
            <a:avLst/>
          </a:prstGeom>
          <a:ln w="0">
            <a:noFill/>
          </a:ln>
        </p:spPr>
      </p:pic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1857240" y="4071600"/>
            <a:ext cx="5214960" cy="12970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лахова Г.Ф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итель химии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торой квалификационной категории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тламышевской СОШ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42960" y="8568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85e9"/>
                </a:solidFill>
                <a:latin typeface="Times New Roman"/>
                <a:ea typeface="Times New Roman"/>
              </a:rPr>
              <a:t>Особенности пивного алкоголизма</a:t>
            </a:r>
            <a:br>
              <a:rPr sz="3200"/>
            </a:b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457200" y="1599840"/>
            <a:ext cx="8229600" cy="19717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Пиво переполняет кровеносные сосуды: возникает синдром «пивного сердца»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9" name="Рисунок 6" descr="пиво20.jpg"/>
          <p:cNvPicPr/>
          <p:nvPr/>
        </p:nvPicPr>
        <p:blipFill>
          <a:blip r:embed="rId1"/>
          <a:stretch/>
        </p:blipFill>
        <p:spPr>
          <a:xfrm>
            <a:off x="3429000" y="3429000"/>
            <a:ext cx="235728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 txBox="1"/>
          <p:nvPr/>
        </p:nvSpPr>
        <p:spPr>
          <a:xfrm>
            <a:off x="500040" y="1999800"/>
            <a:ext cx="8183520" cy="20415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Verdana"/>
              </a:rPr>
              <a:t>Пиво наносит вред гормонам  человека: </a:t>
            </a: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Verdana"/>
              </a:rPr>
              <a:t>сказывается влияние токсических веществ.</a:t>
            </a: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 txBox="1"/>
          <p:nvPr/>
        </p:nvSpPr>
        <p:spPr>
          <a:xfrm>
            <a:off x="457200" y="428760"/>
            <a:ext cx="8229600" cy="56973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Мужчин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подавляется выработка мужского                          увеличивается выработка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женских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полового гормона – тестостерона                           половых гормонов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>
              <a:spcBef>
                <a:spcPts val="249"/>
              </a:spcBef>
              <a:buClr>
                <a:srgbClr val="0f6fc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разрастаются грудные железы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>
              <a:spcBef>
                <a:spcPts val="249"/>
              </a:spcBef>
              <a:buClr>
                <a:srgbClr val="0f6fc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становится шире таз 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>
              <a:spcBef>
                <a:spcPts val="249"/>
              </a:spcBef>
              <a:buClr>
                <a:srgbClr val="0f6fc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появляется «пивной живот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Line 11"/>
          <p:cNvSpPr/>
          <p:nvPr/>
        </p:nvSpPr>
        <p:spPr>
          <a:xfrm flipH="1">
            <a:off x="3428640" y="1785960"/>
            <a:ext cx="6476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Line 13"/>
          <p:cNvSpPr/>
          <p:nvPr/>
        </p:nvSpPr>
        <p:spPr>
          <a:xfrm>
            <a:off x="5286240" y="1857240"/>
            <a:ext cx="43200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Line 14"/>
          <p:cNvSpPr/>
          <p:nvPr/>
        </p:nvSpPr>
        <p:spPr>
          <a:xfrm>
            <a:off x="6429240" y="2786040"/>
            <a:ext cx="46080" cy="357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5" name="Рисунок 9" descr="пиво3.jpg"/>
          <p:cNvPicPr/>
          <p:nvPr/>
        </p:nvPicPr>
        <p:blipFill>
          <a:blip r:embed="rId1"/>
          <a:stretch/>
        </p:blipFill>
        <p:spPr>
          <a:xfrm>
            <a:off x="1143000" y="3286080"/>
            <a:ext cx="357192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 txBox="1"/>
          <p:nvPr/>
        </p:nvSpPr>
        <p:spPr>
          <a:xfrm>
            <a:off x="428760" y="499680"/>
            <a:ext cx="8229600" cy="36147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89000"/>
          </a:bodyPr>
          <a:p>
            <a:pPr marL="235800" indent="-23580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Женщин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5800" indent="-23580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              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5800" indent="-235800"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возрастает вероятность                                   кормящая мать,                     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35800" indent="-2358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заболевания раком                                         употребляющая пиво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35800" indent="-2358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35800" indent="-235800"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становится грубее голос                                  эпилептические        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        судороги у ребенка                        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35800" indent="-235800"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появляются «пивные усы»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35800" indent="-2358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5800" indent="-23580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5800" indent="-2358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Line 10"/>
          <p:cNvSpPr/>
          <p:nvPr/>
        </p:nvSpPr>
        <p:spPr>
          <a:xfrm flipH="1">
            <a:off x="3357360" y="1143000"/>
            <a:ext cx="43164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11"/>
          <p:cNvSpPr/>
          <p:nvPr/>
        </p:nvSpPr>
        <p:spPr>
          <a:xfrm>
            <a:off x="5643720" y="1143000"/>
            <a:ext cx="57600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9" name="Рисунок 7" descr="Безымянный.bmp"/>
          <p:cNvPicPr/>
          <p:nvPr/>
        </p:nvPicPr>
        <p:blipFill>
          <a:blip r:embed="rId1"/>
          <a:stretch/>
        </p:blipFill>
        <p:spPr>
          <a:xfrm>
            <a:off x="3714840" y="3643200"/>
            <a:ext cx="2923920" cy="2214720"/>
          </a:xfrm>
          <a:prstGeom prst="rect">
            <a:avLst/>
          </a:prstGeom>
          <a:ln w="0">
            <a:noFill/>
          </a:ln>
        </p:spPr>
      </p:pic>
      <p:sp>
        <p:nvSpPr>
          <p:cNvPr id="460" name="Стрелка вниз 8"/>
          <p:cNvSpPr/>
          <p:nvPr/>
        </p:nvSpPr>
        <p:spPr>
          <a:xfrm>
            <a:off x="6715080" y="2071800"/>
            <a:ext cx="71640" cy="285480"/>
          </a:xfrm>
          <a:prstGeom prst="downArrow">
            <a:avLst>
              <a:gd name="adj1" fmla="val 50000"/>
              <a:gd name="adj2" fmla="val 49812"/>
            </a:avLst>
          </a:prstGeom>
          <a:solidFill>
            <a:srgbClr val="0f6fc6"/>
          </a:solidFill>
          <a:ln w="424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Этиловый спирт пагубно влияет на клетки головного мозга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2" name="Рисунок 7" descr="пиво28.jpg"/>
          <p:cNvPicPr/>
          <p:nvPr/>
        </p:nvPicPr>
        <p:blipFill>
          <a:blip r:embed="rId1"/>
          <a:stretch/>
        </p:blipFill>
        <p:spPr>
          <a:xfrm>
            <a:off x="3500280" y="2071800"/>
            <a:ext cx="1905120" cy="2371680"/>
          </a:xfrm>
          <a:prstGeom prst="rect">
            <a:avLst/>
          </a:prstGeom>
          <a:ln w="0">
            <a:noFill/>
          </a:ln>
        </p:spPr>
      </p:pic>
      <p:sp>
        <p:nvSpPr>
          <p:cNvPr id="463" name="Прямоугольник 8"/>
          <p:cNvSpPr/>
          <p:nvPr/>
        </p:nvSpPr>
        <p:spPr>
          <a:xfrm>
            <a:off x="5572080" y="1857240"/>
            <a:ext cx="3000600" cy="642960"/>
          </a:xfrm>
          <a:prstGeom prst="rect">
            <a:avLst/>
          </a:prstGeom>
          <a:solidFill>
            <a:srgbClr val="0f6fc6"/>
          </a:solidFill>
          <a:ln w="424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Снижается способность к обучению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9"/>
          <p:cNvSpPr/>
          <p:nvPr/>
        </p:nvSpPr>
        <p:spPr>
          <a:xfrm>
            <a:off x="571680" y="1857240"/>
            <a:ext cx="2571480" cy="714600"/>
          </a:xfrm>
          <a:prstGeom prst="rect">
            <a:avLst/>
          </a:prstGeom>
          <a:solidFill>
            <a:srgbClr val="0f6fc6"/>
          </a:solidFill>
          <a:ln w="424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Снижается интеллек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Прямоугольник 10"/>
          <p:cNvSpPr/>
          <p:nvPr/>
        </p:nvSpPr>
        <p:spPr>
          <a:xfrm>
            <a:off x="2786040" y="5143680"/>
            <a:ext cx="3357720" cy="642600"/>
          </a:xfrm>
          <a:prstGeom prst="rect">
            <a:avLst/>
          </a:prstGeom>
          <a:solidFill>
            <a:srgbClr val="0f6fc6"/>
          </a:solidFill>
          <a:ln w="424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Снижается личностная оценк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885e9"/>
                </a:solidFill>
                <a:latin typeface="Verdana"/>
              </a:rPr>
              <a:t>Пиво – наркотик, вызывающий агрессию.</a:t>
            </a:r>
            <a:endParaRPr b="1" lang="en-US" sz="40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3142800" y="1928520"/>
            <a:ext cx="5543640" cy="35002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потребление пива является первой причиной искалеченных судеб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каждый десятый алкоголик моложе 18 ле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8" name="Рисунок 6" descr="пиво14.jpg"/>
          <p:cNvPicPr/>
          <p:nvPr/>
        </p:nvPicPr>
        <p:blipFill>
          <a:blip r:embed="rId1"/>
          <a:stretch/>
        </p:blipFill>
        <p:spPr>
          <a:xfrm>
            <a:off x="1071720" y="3989520"/>
            <a:ext cx="1643040" cy="1401480"/>
          </a:xfrm>
          <a:prstGeom prst="rect">
            <a:avLst/>
          </a:prstGeom>
          <a:ln w="0">
            <a:noFill/>
          </a:ln>
        </p:spPr>
      </p:pic>
      <p:pic>
        <p:nvPicPr>
          <p:cNvPr id="469" name="Рисунок 9" descr="пиво17.jpg"/>
          <p:cNvPicPr/>
          <p:nvPr/>
        </p:nvPicPr>
        <p:blipFill>
          <a:blip r:embed="rId2"/>
          <a:stretch/>
        </p:blipFill>
        <p:spPr>
          <a:xfrm>
            <a:off x="641520" y="1857240"/>
            <a:ext cx="2006280" cy="15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 txBox="1"/>
          <p:nvPr/>
        </p:nvSpPr>
        <p:spPr>
          <a:xfrm>
            <a:off x="503280" y="2071440"/>
            <a:ext cx="8183520" cy="17859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Пивной алкоголизм ведет к деградации поколений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71" name="Рисунок 3" descr="пиво12.jpg"/>
          <p:cNvPicPr/>
          <p:nvPr/>
        </p:nvPicPr>
        <p:blipFill>
          <a:blip r:embed="rId1"/>
          <a:stretch/>
        </p:blipFill>
        <p:spPr>
          <a:xfrm>
            <a:off x="3000240" y="3786120"/>
            <a:ext cx="2870280" cy="16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 txBox="1"/>
          <p:nvPr/>
        </p:nvSpPr>
        <p:spPr>
          <a:xfrm>
            <a:off x="642960" y="2286000"/>
            <a:ext cx="8183520" cy="25718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Путь России от разорения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 достатку  - это путь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резвой России.» 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.Нечволод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3280" y="643320"/>
            <a:ext cx="81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4885e9"/>
                </a:solidFill>
                <a:latin typeface="Verdana"/>
              </a:rPr>
              <a:t> </a:t>
            </a:r>
            <a:r>
              <a:rPr b="1" lang="en-US" sz="3600" spc="-1" strike="noStrike">
                <a:solidFill>
                  <a:srgbClr val="4885e9"/>
                </a:solidFill>
                <a:latin typeface="Verdana"/>
              </a:rPr>
              <a:t>Реклама  умалчивает </a:t>
            </a:r>
            <a:br>
              <a:rPr sz="3600"/>
            </a:br>
            <a:r>
              <a:rPr b="1" lang="en-US" sz="3600" spc="-1" strike="noStrike">
                <a:solidFill>
                  <a:srgbClr val="4885e9"/>
                </a:solidFill>
                <a:latin typeface="Verdana"/>
              </a:rPr>
              <a:t>о вреде пива</a:t>
            </a: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5928840" y="2428560"/>
            <a:ext cx="2786040" cy="18572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Verdana"/>
              </a:rPr>
              <a:t>«КТО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Verdana"/>
              </a:rPr>
              <a:t>     </a:t>
            </a:r>
            <a:r>
              <a:rPr b="0" lang="en-US" sz="1800" spc="-1" strike="noStrike">
                <a:solidFill>
                  <a:srgbClr val="00b050"/>
                </a:solidFill>
                <a:latin typeface="Verdana"/>
              </a:rPr>
              <a:t>ИДЕТ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Verdana"/>
              </a:rPr>
              <a:t>           </a:t>
            </a:r>
            <a:r>
              <a:rPr b="0" lang="en-US" sz="1800" spc="-1" strike="noStrike">
                <a:solidFill>
                  <a:srgbClr val="00b050"/>
                </a:solidFill>
                <a:latin typeface="Verdana"/>
              </a:rPr>
              <a:t>З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Verdana"/>
              </a:rPr>
              <a:t>       </a:t>
            </a:r>
            <a:r>
              <a:rPr b="0" lang="en-US" sz="1800" spc="-1" strike="noStrike">
                <a:solidFill>
                  <a:srgbClr val="00b050"/>
                </a:solidFill>
                <a:latin typeface="Verdana"/>
              </a:rPr>
              <a:t>«КЛИНСКИМ»?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9" name="Рисунок 5" descr="doc_serfar_-1164280035_i_1982_full.jpg"/>
          <p:cNvPicPr/>
          <p:nvPr/>
        </p:nvPicPr>
        <p:blipFill>
          <a:blip r:embed="rId1"/>
          <a:stretch/>
        </p:blipFill>
        <p:spPr>
          <a:xfrm>
            <a:off x="642960" y="1857240"/>
            <a:ext cx="5067360" cy="37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 txBox="1"/>
          <p:nvPr/>
        </p:nvSpPr>
        <p:spPr>
          <a:xfrm>
            <a:off x="571680" y="357120"/>
            <a:ext cx="8229600" cy="15429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Россия вошла в число стран, население которых занимает первые позиции по употреблению пив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1" name="Рисунок 6" descr="children.jpg"/>
          <p:cNvPicPr/>
          <p:nvPr/>
        </p:nvPicPr>
        <p:blipFill>
          <a:blip r:embed="rId1"/>
          <a:stretch/>
        </p:blipFill>
        <p:spPr>
          <a:xfrm>
            <a:off x="5180040" y="1643040"/>
            <a:ext cx="3660840" cy="2928960"/>
          </a:xfrm>
          <a:prstGeom prst="rect">
            <a:avLst/>
          </a:prstGeom>
          <a:ln w="0">
            <a:noFill/>
          </a:ln>
        </p:spPr>
      </p:pic>
      <p:pic>
        <p:nvPicPr>
          <p:cNvPr id="422" name="Рисунок 7" descr="пиво8.jpg"/>
          <p:cNvPicPr/>
          <p:nvPr/>
        </p:nvPicPr>
        <p:blipFill>
          <a:blip r:embed="rId2"/>
          <a:stretch/>
        </p:blipFill>
        <p:spPr>
          <a:xfrm>
            <a:off x="1285920" y="3235320"/>
            <a:ext cx="2857320" cy="32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00040" y="2143080"/>
            <a:ext cx="82296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Verdana"/>
              </a:rPr>
              <a:t>Пиво не является слабоалкогольным напитком!</a:t>
            </a:r>
            <a:endParaRPr b="1" lang="en-US" sz="4000" spc="-1" strike="noStrike">
              <a:solidFill>
                <a:srgbClr val="4885e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Содержимое 3" descr="пиво1.jpg"/>
          <p:cNvPicPr/>
          <p:nvPr/>
        </p:nvPicPr>
        <p:blipFill>
          <a:blip r:embed="rId1"/>
          <a:stretch/>
        </p:blipFill>
        <p:spPr>
          <a:xfrm>
            <a:off x="3429000" y="2071800"/>
            <a:ext cx="1496880" cy="2119320"/>
          </a:xfrm>
          <a:prstGeom prst="rect">
            <a:avLst/>
          </a:prstGeom>
          <a:ln w="0">
            <a:noFill/>
          </a:ln>
        </p:spPr>
      </p:pic>
      <p:sp>
        <p:nvSpPr>
          <p:cNvPr id="425" name="Прямоугольник 4"/>
          <p:cNvSpPr/>
          <p:nvPr/>
        </p:nvSpPr>
        <p:spPr>
          <a:xfrm>
            <a:off x="5572080" y="1071720"/>
            <a:ext cx="2500200" cy="1071360"/>
          </a:xfrm>
          <a:prstGeom prst="rect">
            <a:avLst/>
          </a:prstGeom>
          <a:solidFill>
            <a:srgbClr val="0f6fc6"/>
          </a:solidFill>
          <a:ln w="424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Белки = =стройматериал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Прямоугольник 5"/>
          <p:cNvSpPr/>
          <p:nvPr/>
        </p:nvSpPr>
        <p:spPr>
          <a:xfrm>
            <a:off x="5572080" y="3357720"/>
            <a:ext cx="2500200" cy="1143000"/>
          </a:xfrm>
          <a:prstGeom prst="rect">
            <a:avLst/>
          </a:prstGeom>
          <a:solidFill>
            <a:srgbClr val="0f6fc6"/>
          </a:solidFill>
          <a:ln w="424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Магний=настро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Прямоугольник 6"/>
          <p:cNvSpPr/>
          <p:nvPr/>
        </p:nvSpPr>
        <p:spPr>
          <a:xfrm>
            <a:off x="857160" y="1000080"/>
            <a:ext cx="2000520" cy="1071720"/>
          </a:xfrm>
          <a:prstGeom prst="rect">
            <a:avLst/>
          </a:prstGeom>
          <a:solidFill>
            <a:srgbClr val="0f6fc6"/>
          </a:solidFill>
          <a:ln w="424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Жиры и углеводы = =энерг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Прямоугольник 7"/>
          <p:cNvSpPr/>
          <p:nvPr/>
        </p:nvSpPr>
        <p:spPr>
          <a:xfrm>
            <a:off x="785880" y="3786120"/>
            <a:ext cx="1857240" cy="1214640"/>
          </a:xfrm>
          <a:prstGeom prst="rect">
            <a:avLst/>
          </a:prstGeom>
          <a:solidFill>
            <a:srgbClr val="0f6fc6"/>
          </a:solidFill>
          <a:ln w="424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Витамин С = =иммунит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Прямоугольник 8"/>
          <p:cNvSpPr/>
          <p:nvPr/>
        </p:nvSpPr>
        <p:spPr>
          <a:xfrm>
            <a:off x="3357720" y="5357880"/>
            <a:ext cx="2286000" cy="1000080"/>
          </a:xfrm>
          <a:prstGeom prst="rect">
            <a:avLst/>
          </a:prstGeom>
          <a:solidFill>
            <a:srgbClr val="0f6fc6"/>
          </a:solidFill>
          <a:ln w="424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Калий=мышц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Прямая соединительная линия 10"/>
          <p:cNvSpPr/>
          <p:nvPr/>
        </p:nvSpPr>
        <p:spPr>
          <a:xfrm flipV="1">
            <a:off x="857160" y="999720"/>
            <a:ext cx="2000520" cy="1071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Прямая соединительная линия 12"/>
          <p:cNvSpPr/>
          <p:nvPr/>
        </p:nvSpPr>
        <p:spPr>
          <a:xfrm flipV="1">
            <a:off x="5572080" y="1071720"/>
            <a:ext cx="2428920" cy="1071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Прямая соединительная линия 14"/>
          <p:cNvSpPr/>
          <p:nvPr/>
        </p:nvSpPr>
        <p:spPr>
          <a:xfrm flipV="1">
            <a:off x="785880" y="3786120"/>
            <a:ext cx="1857240" cy="121464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Прямая соединительная линия 16"/>
          <p:cNvSpPr/>
          <p:nvPr/>
        </p:nvSpPr>
        <p:spPr>
          <a:xfrm flipV="1">
            <a:off x="5572080" y="3357360"/>
            <a:ext cx="2500200" cy="1143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Прямая соединительная линия 18"/>
          <p:cNvSpPr/>
          <p:nvPr/>
        </p:nvSpPr>
        <p:spPr>
          <a:xfrm flipV="1">
            <a:off x="3357720" y="5357880"/>
            <a:ext cx="2286000" cy="1000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Содержимое 9" descr="1177418106_pivo_vredno_dlja_zdorovja.jpg"/>
          <p:cNvPicPr/>
          <p:nvPr/>
        </p:nvPicPr>
        <p:blipFill>
          <a:blip r:embed="rId1"/>
          <a:stretch/>
        </p:blipFill>
        <p:spPr>
          <a:xfrm>
            <a:off x="571680" y="500040"/>
            <a:ext cx="4095720" cy="3071880"/>
          </a:xfrm>
          <a:prstGeom prst="rect">
            <a:avLst/>
          </a:prstGeom>
          <a:ln w="0">
            <a:noFill/>
          </a:ln>
        </p:spPr>
      </p:pic>
      <p:pic>
        <p:nvPicPr>
          <p:cNvPr id="436" name="Рисунок 10" descr="пиво24.jpg"/>
          <p:cNvPicPr/>
          <p:nvPr/>
        </p:nvPicPr>
        <p:blipFill>
          <a:blip r:embed="rId2"/>
          <a:stretch/>
        </p:blipFill>
        <p:spPr>
          <a:xfrm>
            <a:off x="6643800" y="3214800"/>
            <a:ext cx="1857240" cy="2463840"/>
          </a:xfrm>
          <a:prstGeom prst="rect">
            <a:avLst/>
          </a:prstGeom>
          <a:ln w="0">
            <a:noFill/>
          </a:ln>
        </p:spPr>
      </p:pic>
      <p:sp>
        <p:nvSpPr>
          <p:cNvPr id="437" name="TextBox 11"/>
          <p:cNvSpPr/>
          <p:nvPr/>
        </p:nvSpPr>
        <p:spPr>
          <a:xfrm>
            <a:off x="1500120" y="4286160"/>
            <a:ext cx="40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бутылка пива = 50 граммам вод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Особенности пивного алкоголизма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9" name="Прямоугольник 4"/>
          <p:cNvSpPr/>
          <p:nvPr/>
        </p:nvSpPr>
        <p:spPr>
          <a:xfrm>
            <a:off x="714240" y="2286000"/>
            <a:ext cx="742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вной алкоголизм формируется очень быстр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Рисунок 5" descr="пиво11.jpg"/>
          <p:cNvPicPr/>
          <p:nvPr/>
        </p:nvPicPr>
        <p:blipFill>
          <a:blip r:embed="rId1"/>
          <a:stretch/>
        </p:blipFill>
        <p:spPr>
          <a:xfrm>
            <a:off x="2898720" y="3000240"/>
            <a:ext cx="3247920" cy="23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Особенности пивного алкоголизма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Прямоугольник 3"/>
          <p:cNvSpPr/>
          <p:nvPr/>
        </p:nvSpPr>
        <p:spPr>
          <a:xfrm>
            <a:off x="1643040" y="1857240"/>
            <a:ext cx="642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исимость развивается через 1-3 год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3" name="Рисунок 4" descr="пиво15.jpg"/>
          <p:cNvPicPr/>
          <p:nvPr/>
        </p:nvPicPr>
        <p:blipFill>
          <a:blip r:embed="rId1"/>
          <a:stretch/>
        </p:blipFill>
        <p:spPr>
          <a:xfrm>
            <a:off x="3475080" y="3214800"/>
            <a:ext cx="2509920" cy="21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Особенности пивного алкоголизма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Прямоугольник 3"/>
          <p:cNvSpPr/>
          <p:nvPr/>
        </p:nvSpPr>
        <p:spPr>
          <a:xfrm>
            <a:off x="1214280" y="1928880"/>
            <a:ext cx="628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3% алкоголя действуют как я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Рисунок 4" descr="1166453642_beer_and_babies_1.jpg"/>
          <p:cNvPicPr/>
          <p:nvPr/>
        </p:nvPicPr>
        <p:blipFill>
          <a:blip r:embed="rId1"/>
          <a:stretch/>
        </p:blipFill>
        <p:spPr>
          <a:xfrm>
            <a:off x="2286000" y="2668680"/>
            <a:ext cx="4052880" cy="31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3T12:15:44Z</dcterms:created>
  <dc:creator>Трибунский</dc:creator>
  <dc:description/>
  <dc:language>en-US</dc:language>
  <cp:lastModifiedBy>КарМаН</cp:lastModifiedBy>
  <dcterms:modified xsi:type="dcterms:W3CDTF">2011-12-20T11:18:15Z</dcterms:modified>
  <cp:revision>68</cp:revision>
  <dc:subject/>
  <dc:title>Этот «безвредный» напиток…</dc:title>
</cp:coreProperties>
</file>