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29F-C2FE-4BE1-9D93-9F463626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B4B-98E0-4370-A39C-1E283CA7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1449D-3373-42BF-B7B4-41E7AE43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25E4F-AD03-4B66-A470-7308D50F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FD9E6-EB26-4F93-B2DF-1D73241A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FC230-2651-4BE1-A613-C5676564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538B4-4146-4ACB-BC62-FC69A62A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A38A5-9EA8-454A-B0C5-2E53309C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D62A4-BAFA-43E0-B432-6AC7B94E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141C0-26E9-4C7E-BF34-D53A6E5E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2B1DD-7364-4436-92EF-6643C963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CD5-88D2-4E0A-BDC5-76AC5687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9793-E123-4000-8DDC-FA7292F8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EC65-5B34-4032-A982-D83573D7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A597-A9C7-473D-958C-EDD3A6E2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A147-AA1E-4451-A728-FD373C85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232F-9517-4CD1-B148-6633532B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94A1-CB7F-4526-AE02-50579C56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6BC5-A31D-4F53-A698-CCB15BD6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677F-0AEA-4AD9-9EA7-DE93FAF0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25A-25F9-47AC-B328-AA5F71EE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B0A4-DAF5-493C-B38C-3461050D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172E-4046-4DF2-B6A6-C18FED90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7999-4A8F-4A8E-94CC-4EA96BED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C05B-100D-497B-B37F-970A1D1D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BA69-00A0-4DAD-94BB-236F6010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55F98-3B9B-46FA-AF2B-9FF64AE9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6D98E-5C85-4EEB-8F79-EB2B0F9B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281A1-048D-427D-AB75-61335EF0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B73C-164C-423B-B536-32BF69FA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DDD73-9EBE-4B04-810D-7EBAE55A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0FA-C279-4945-9944-C1092646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5904-4EA9-4C46-8390-AC465D4D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DDFD-C27D-4911-9FD4-FEB5FB53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D2969-F5E5-41C7-A8AE-2D5D9967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041CD-26E7-4DF7-9415-02E2FD54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53173-AEE3-448D-A7B7-3C2A2350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A9C10-2FD5-474D-97CD-642AFFC9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AF08F-3260-4A39-97C3-AAA0BCBF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7C88F-A885-4D95-8C58-379F3BFC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1FFEE-D71B-426E-8160-DC866C05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FBF5E-2F42-47AB-9DF8-70C458AB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D34-266D-4DF2-B95A-2C94FC3B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8C9F1-FFE5-4549-BB94-FD9129DC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D04CA-1214-494F-9D3D-0DB7C96C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B6AD9-574D-41B6-811B-960C19E8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9583D-6346-45A9-90B0-6E843E0D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D2110-EA50-4163-896E-B431CB94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7468E-230C-42BA-83C8-DCC05BBC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C114-6D96-4041-8471-C21B565A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88B09-F32D-4353-A039-14EE7826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4AA79-A876-410E-A631-554F0865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DECB2-8C69-4A09-9CFE-C6FAAA4C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A86-230F-4938-9AFE-DD1CA4DB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756F3-5807-4CC9-BE1C-D12A79C4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09F59-C937-4125-BC09-2262F0AD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4CEC9-6C14-4305-8A3A-58A7C9CB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6C89D-6889-4CE2-84AF-9039BFC4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4DE96-EB43-4487-A30A-118E5ACB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49E25-361C-4E67-9B2A-D1A0EE0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F9D2E-710D-463D-AA08-7EE475A2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33E79-D88B-4918-BDB7-10881A27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15FA9-89E3-4C33-9AF4-5506AF07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B6DAB-06CF-449C-AC1F-F33A8795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BF2-B456-4CA7-8C1A-D5C690D5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16BC0-E5BA-4B54-A2E6-595C07CD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C9974-E37E-4198-AD08-54626B04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B3F5F-6E74-4844-8EB2-6E481C58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A88C9-4F77-4DD4-971F-9D50AB51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C33F5-A100-499B-9FE0-9A8B179F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31BD6-937A-489D-B612-A6C5BACD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8B3AE-E647-42D3-A96F-2BB6139F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C11C2-3978-4477-A20F-8D764211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E066B-6C70-4965-9CC4-EAADFC60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27D6C-8049-418F-ABE8-5593EA17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287-0B2E-4355-8BDB-569D32C3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D7C95-5817-4B3D-A918-BFF2DBD1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FE7B7-641D-4A0A-9C2C-C11498AB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591FE-69ED-4D20-8044-D6B1E1F8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0442F-5B55-43FB-A26B-A9D19E75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76BA2-7292-47B4-B674-E9EBD36E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E7F17-61FD-403E-807A-3D4BFFBB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6510C-FCA9-4699-9690-A5E0BA63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09DA0-C460-4E7E-9C6F-F46E6B61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8C7B4-5D36-4FDC-807E-3438B0DE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87B33-A88A-4D84-8736-AB74A75F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B1D-FA06-476D-83A8-6E8661C2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15096-491C-4D52-A99F-365A7254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938B8-ED3F-4947-A11E-BDE449E4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E8BEF-4C00-42CD-8246-37FB0483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B4394-559E-4317-B333-E705F968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11FC9-DAFF-4118-96E2-9C078D9D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08C08-CEA2-441E-AD45-8FFDD01B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AF947-7106-4130-9FD1-77626495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1DABB-5577-47E9-A325-3A4D6D85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25352-64C7-417C-A0AC-67A868B6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E5E70-CABB-4AC2-80CA-63A7E76F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2D9-CBA7-456D-BAB3-DA76C43C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21091-C4D1-4591-96EA-23E009A4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171DF-B469-49B5-82B6-4A021515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8D274-F17B-4A41-81D4-1C684036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344DE-2E72-441F-96FC-830D387B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005CF-5B26-407D-9503-4B0A236F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53074-FE75-4C4F-8CB9-AAD2C73C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900CC-C347-4D9B-A864-E1EDD27B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0A565-9902-48E8-AA32-0A69C760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AC8EC-7BD5-4B19-AA7C-80E10397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83D50-AACD-43AF-8252-DD6EC7F2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6668-931F-4AEC-A6A2-D15C3214F52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A759-E762-4AE9-B616-452CD7895BC8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7BF7-1E80-4B90-9177-110B69C6ABC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CE81-B647-4FEB-9F95-AC9846507B7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E2EB-6EFE-45B8-9B64-0B6CDE465EB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24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93A8-5BF7-4EB7-BC40-A3F8869C6E9C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8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10D5-2982-435E-8249-A8C7AD03BB87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EA4A-7A58-4968-B07F-FA52557DA7C5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95EB-5D8B-4B17-9DB9-93A7FE1AA7D7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857240" y="4071600"/>
            <a:ext cx="5214960" cy="1297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лахова Г.Ф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хим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квалификационной категор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ламышевской СО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br>
              <a:rPr sz="3200"/>
            </a:b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иво переполняет кровеносные сосуды: возникает синдром «пивного сердца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Рисунок 6" descr="пиво20.jpg"/>
          <p:cNvPicPr/>
          <p:nvPr/>
        </p:nvPicPr>
        <p:blipFill>
          <a:blip r:embed="rId1"/>
          <a:stretch/>
        </p:blipFill>
        <p:spPr>
          <a:xfrm>
            <a:off x="3429000" y="342900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500040" y="1999800"/>
            <a:ext cx="8183520" cy="2041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Пиво наносит вред гормонам  человека: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сказывается влияние токсических веществ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ужч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авляется выработка мужского                          увеличивается выработка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женски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лового гормона – тестостерона                           половых гормоно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зрастаются грудные желез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тановится шире таз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является «пивной живот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Line 11"/>
          <p:cNvSpPr/>
          <p:nvPr/>
        </p:nvSpPr>
        <p:spPr>
          <a:xfrm flipH="1">
            <a:off x="3428640" y="17859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5286240" y="1857240"/>
            <a:ext cx="432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6429240" y="2786040"/>
            <a:ext cx="460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Рисунок 9" descr="пиво3.jpg"/>
          <p:cNvPicPr/>
          <p:nvPr/>
        </p:nvPicPr>
        <p:blipFill>
          <a:blip r:embed="rId1"/>
          <a:stretch/>
        </p:blipFill>
        <p:spPr>
          <a:xfrm>
            <a:off x="1143000" y="328608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28760" y="49968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Женщ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озрастает вероятность                                   кормящая мать,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заболевания раком                                         употребляющая пи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тановится грубее голос                                  эпилептические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судороги у ребенка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оявляются «пивные усы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10"/>
          <p:cNvSpPr/>
          <p:nvPr/>
        </p:nvSpPr>
        <p:spPr>
          <a:xfrm flipH="1">
            <a:off x="3357360" y="114300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1"/>
          <p:cNvSpPr/>
          <p:nvPr/>
        </p:nvSpPr>
        <p:spPr>
          <a:xfrm>
            <a:off x="5643720" y="1143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Рисунок 7" descr="Безымянный.bmp"/>
          <p:cNvPicPr/>
          <p:nvPr/>
        </p:nvPicPr>
        <p:blipFill>
          <a:blip r:embed="rId1"/>
          <a:stretch/>
        </p:blipFill>
        <p:spPr>
          <a:xfrm>
            <a:off x="3714840" y="3643200"/>
            <a:ext cx="2923920" cy="221472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низ 8"/>
          <p:cNvSpPr/>
          <p:nvPr/>
        </p:nvSpPr>
        <p:spPr>
          <a:xfrm>
            <a:off x="6715080" y="2071800"/>
            <a:ext cx="71640" cy="285480"/>
          </a:xfrm>
          <a:prstGeom prst="downArrow">
            <a:avLst>
              <a:gd name="adj1" fmla="val 50000"/>
              <a:gd name="adj2" fmla="val 49812"/>
            </a:avLst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иловый спирт пагубно влияет на клетки головного мозг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2" name="Рисунок 7" descr="пиво28.jpg"/>
          <p:cNvPicPr/>
          <p:nvPr/>
        </p:nvPicPr>
        <p:blipFill>
          <a:blip r:embed="rId1"/>
          <a:stretch/>
        </p:blipFill>
        <p:spPr>
          <a:xfrm>
            <a:off x="3500280" y="2071800"/>
            <a:ext cx="1905120" cy="237168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8"/>
          <p:cNvSpPr/>
          <p:nvPr/>
        </p:nvSpPr>
        <p:spPr>
          <a:xfrm>
            <a:off x="5572080" y="1857240"/>
            <a:ext cx="3000600" cy="6429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способность к обуч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9"/>
          <p:cNvSpPr/>
          <p:nvPr/>
        </p:nvSpPr>
        <p:spPr>
          <a:xfrm>
            <a:off x="571680" y="1857240"/>
            <a:ext cx="2571480" cy="714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интелл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0"/>
          <p:cNvSpPr/>
          <p:nvPr/>
        </p:nvSpPr>
        <p:spPr>
          <a:xfrm>
            <a:off x="2786040" y="5143680"/>
            <a:ext cx="3357720" cy="642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личностная 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85e9"/>
                </a:solidFill>
                <a:latin typeface="Verdana"/>
              </a:rPr>
              <a:t>Пиво – наркотик, вызывающий агрессию.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142800" y="1928520"/>
            <a:ext cx="5543640" cy="3500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требление пива является первой причиной искалеченных суде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ждый десятый алкоголик моложе 18 ле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Рисунок 6" descr="пиво14.jpg"/>
          <p:cNvPicPr/>
          <p:nvPr/>
        </p:nvPicPr>
        <p:blipFill>
          <a:blip r:embed="rId1"/>
          <a:stretch/>
        </p:blipFill>
        <p:spPr>
          <a:xfrm>
            <a:off x="1071720" y="3989520"/>
            <a:ext cx="1643040" cy="140148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9" descr="пиво17.jpg"/>
          <p:cNvPicPr/>
          <p:nvPr/>
        </p:nvPicPr>
        <p:blipFill>
          <a:blip r:embed="rId2"/>
          <a:stretch/>
        </p:blipFill>
        <p:spPr>
          <a:xfrm>
            <a:off x="641520" y="1857240"/>
            <a:ext cx="20062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503280" y="207144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ивной алкоголизм ведет к деградации поколени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Рисунок 3" descr="пиво12.jpg"/>
          <p:cNvPicPr/>
          <p:nvPr/>
        </p:nvPicPr>
        <p:blipFill>
          <a:blip r:embed="rId1"/>
          <a:stretch/>
        </p:blipFill>
        <p:spPr>
          <a:xfrm>
            <a:off x="3000240" y="3786120"/>
            <a:ext cx="2870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642960" y="2286000"/>
            <a:ext cx="8183520" cy="257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уть России от разорен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достатку  - это пу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звой России.»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Нечвол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643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Реклама  умалчивает </a:t>
            </a: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о вреде пива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928840" y="2428560"/>
            <a:ext cx="278604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И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ЛИНСКИМ»?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Рисунок 5" descr="doc_serfar_-1164280035_i_1982_full.jpg"/>
          <p:cNvPicPr/>
          <p:nvPr/>
        </p:nvPicPr>
        <p:blipFill>
          <a:blip r:embed="rId1"/>
          <a:stretch/>
        </p:blipFill>
        <p:spPr>
          <a:xfrm>
            <a:off x="642960" y="1857240"/>
            <a:ext cx="5067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71680" y="3571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оссия вошла в число стран, население которых занимает первые позиции по употреблению пи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Рисунок 6" descr="children.jpg"/>
          <p:cNvPicPr/>
          <p:nvPr/>
        </p:nvPicPr>
        <p:blipFill>
          <a:blip r:embed="rId1"/>
          <a:stretch/>
        </p:blipFill>
        <p:spPr>
          <a:xfrm>
            <a:off x="5180040" y="1643040"/>
            <a:ext cx="3660840" cy="292896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7" descr="пиво8.jpg"/>
          <p:cNvPicPr/>
          <p:nvPr/>
        </p:nvPicPr>
        <p:blipFill>
          <a:blip r:embed="rId2"/>
          <a:stretch/>
        </p:blipFill>
        <p:spPr>
          <a:xfrm>
            <a:off x="1285920" y="3235320"/>
            <a:ext cx="28573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Пиво не является слабоалкогольным напитком!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3" descr="пиво1.jpg"/>
          <p:cNvPicPr/>
          <p:nvPr/>
        </p:nvPicPr>
        <p:blipFill>
          <a:blip r:embed="rId1"/>
          <a:stretch/>
        </p:blipFill>
        <p:spPr>
          <a:xfrm>
            <a:off x="3429000" y="2071800"/>
            <a:ext cx="1496880" cy="211932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5572080" y="1071720"/>
            <a:ext cx="2500200" cy="10713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елки = =строй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5"/>
          <p:cNvSpPr/>
          <p:nvPr/>
        </p:nvSpPr>
        <p:spPr>
          <a:xfrm>
            <a:off x="5572080" y="3357720"/>
            <a:ext cx="2500200" cy="11430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агний=настро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6"/>
          <p:cNvSpPr/>
          <p:nvPr/>
        </p:nvSpPr>
        <p:spPr>
          <a:xfrm>
            <a:off x="857160" y="1000080"/>
            <a:ext cx="2000520" cy="107172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Жиры и углеводы = =э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785880" y="3786120"/>
            <a:ext cx="1857240" cy="121464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итамин С = =иммун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3357720" y="5357880"/>
            <a:ext cx="2286000" cy="100008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алий=мыш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0"/>
          <p:cNvSpPr/>
          <p:nvPr/>
        </p:nvSpPr>
        <p:spPr>
          <a:xfrm flipV="1">
            <a:off x="857160" y="999720"/>
            <a:ext cx="2000520" cy="1071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2"/>
          <p:cNvSpPr/>
          <p:nvPr/>
        </p:nvSpPr>
        <p:spPr>
          <a:xfrm flipV="1">
            <a:off x="5572080" y="1071720"/>
            <a:ext cx="2428920" cy="1071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4"/>
          <p:cNvSpPr/>
          <p:nvPr/>
        </p:nvSpPr>
        <p:spPr>
          <a:xfrm flipV="1">
            <a:off x="785880" y="3786120"/>
            <a:ext cx="1857240" cy="1214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6"/>
          <p:cNvSpPr/>
          <p:nvPr/>
        </p:nvSpPr>
        <p:spPr>
          <a:xfrm flipV="1">
            <a:off x="5572080" y="3357360"/>
            <a:ext cx="250020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18"/>
          <p:cNvSpPr/>
          <p:nvPr/>
        </p:nvSpPr>
        <p:spPr>
          <a:xfrm flipV="1">
            <a:off x="3357720" y="5357880"/>
            <a:ext cx="2286000" cy="100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9" descr="1177418106_pivo_vredno_dlja_zdorovja.jpg"/>
          <p:cNvPicPr/>
          <p:nvPr/>
        </p:nvPicPr>
        <p:blipFill>
          <a:blip r:embed="rId1"/>
          <a:stretch/>
        </p:blipFill>
        <p:spPr>
          <a:xfrm>
            <a:off x="571680" y="50004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0" descr="пиво24.jpg"/>
          <p:cNvPicPr/>
          <p:nvPr/>
        </p:nvPicPr>
        <p:blipFill>
          <a:blip r:embed="rId2"/>
          <a:stretch/>
        </p:blipFill>
        <p:spPr>
          <a:xfrm>
            <a:off x="6643800" y="3214800"/>
            <a:ext cx="1857240" cy="24638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1"/>
          <p:cNvSpPr/>
          <p:nvPr/>
        </p:nvSpPr>
        <p:spPr>
          <a:xfrm>
            <a:off x="1500120" y="42861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бутылка пива = 50 граммам в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714240" y="2286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вной алкоголизм формируется очень 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5" descr="пиво11.jpg"/>
          <p:cNvPicPr/>
          <p:nvPr/>
        </p:nvPicPr>
        <p:blipFill>
          <a:blip r:embed="rId1"/>
          <a:stretch/>
        </p:blipFill>
        <p:spPr>
          <a:xfrm>
            <a:off x="2898720" y="3000240"/>
            <a:ext cx="3247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Прямоугольник 3"/>
          <p:cNvSpPr/>
          <p:nvPr/>
        </p:nvSpPr>
        <p:spPr>
          <a:xfrm>
            <a:off x="1643040" y="185724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развивается через 1-3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4" descr="пиво15.jpg"/>
          <p:cNvPicPr/>
          <p:nvPr/>
        </p:nvPicPr>
        <p:blipFill>
          <a:blip r:embed="rId1"/>
          <a:stretch/>
        </p:blipFill>
        <p:spPr>
          <a:xfrm>
            <a:off x="3475080" y="3214800"/>
            <a:ext cx="25099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1214280" y="192888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% алкоголя действуют как я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4" descr="1166453642_beer_and_babies_1.jpg"/>
          <p:cNvPicPr/>
          <p:nvPr/>
        </p:nvPicPr>
        <p:blipFill>
          <a:blip r:embed="rId1"/>
          <a:stretch/>
        </p:blipFill>
        <p:spPr>
          <a:xfrm>
            <a:off x="2286000" y="2668680"/>
            <a:ext cx="4052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2:15:44Z</dcterms:created>
  <dc:creator>Трибунский</dc:creator>
  <dc:description/>
  <dc:language>en-US</dc:language>
  <cp:lastModifiedBy>КарМаН</cp:lastModifiedBy>
  <dcterms:modified xsi:type="dcterms:W3CDTF">2011-12-20T11:18:15Z</dcterms:modified>
  <cp:revision>68</cp:revision>
  <dc:subject/>
  <dc:title>Этот «безвредный» напиток…</dc:title>
</cp:coreProperties>
</file>