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6DB4-70C1-4D43-8A16-C64A48F0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2DEE-EB28-4170-A5B2-9D656A4B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47EF-8780-477C-A036-8716D567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D1F3-484A-4B78-9CCB-EB0E97E5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093A-99DA-4F19-9B82-914E5861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BF3B-31BD-4874-A219-2184AFC9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37D2-1DCE-41EF-9C45-02829442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2A92-5831-4B35-A473-B63C21A1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32A8-7B2A-464F-AB58-C621CA1D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AD28-8A29-46E4-BF91-E6FC7997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2409-D81F-4F12-A175-BB14EA96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B04-4339-4665-BDB2-C2768AC8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2CC6-1B5B-4E12-9816-BC108C19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3933-0B73-4937-A5B5-83978194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D193-A7AA-4746-BAB6-61C4F943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1D2C-9AEB-4DE1-8518-938773A5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6F24-CCA3-4199-8B5D-2541E80DF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C5A-CE49-4BF6-A59D-C6C61DA5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8A52-8392-4D26-BAB6-9EA39BAA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B6AF-AF29-45B7-A243-AA41694C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007-2BD2-4425-AF83-AB4236DF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EA06-962F-45EA-836A-DF9F8D92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49E-9E92-44ED-8253-77942AC6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780-CDD9-47CE-BF56-52B1A1CB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87DA-4301-4B50-AF1C-F34279F5F6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8143-ACB6-484A-9C4F-F0A71A0D9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2;&#1083;&#1080;&#1085;" TargetMode="External"/><Relationship Id="rId2" Type="http://schemas.openxmlformats.org/officeDocument/2006/relationships/hyperlink" Target="http://ru.wikipedia.org/wiki/&#1048;&#1079;&#1086;&#1083;&#1077;&#1081;&#1094;&#1080;&#1085;" TargetMode="External"/><Relationship Id="rId3" Type="http://schemas.openxmlformats.org/officeDocument/2006/relationships/hyperlink" Target="http://ru.wikipedia.org/wiki/&#1051;&#1077;&#1081;&#1094;&#1080;&#1085;" TargetMode="External"/><Relationship Id="rId4" Type="http://schemas.openxmlformats.org/officeDocument/2006/relationships/hyperlink" Target="http://ru.wikipedia.org/wiki/&#1051;&#1080;&#1079;&#1080;&#1085;" TargetMode="External"/><Relationship Id="rId5" Type="http://schemas.openxmlformats.org/officeDocument/2006/relationships/hyperlink" Target="http://ru.wikipedia.org/wiki/&#1052;&#1077;&#1090;&#1080;&#1086;&#1085;&#1080;&#1085;" TargetMode="External"/><Relationship Id="rId6" Type="http://schemas.openxmlformats.org/officeDocument/2006/relationships/hyperlink" Target="http://ru.wikipedia.org/wiki/&#1058;&#1088;&#1077;&#1086;&#1085;&#1080;&#1085;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7;&#1083;&#1086;&#1082;" TargetMode="External"/><Relationship Id="rId2" Type="http://schemas.openxmlformats.org/officeDocument/2006/relationships/hyperlink" Target="http://ru.wikipedia.org/wiki/&#1055;&#1077;&#1087;&#1090;&#1080;&#1076;&#1099;" TargetMode="External"/><Relationship Id="rId3" Type="http://schemas.openxmlformats.org/officeDocument/2006/relationships/hyperlink" Target="http://ru.wikipedia.org/wiki/&#1040;&#1084;&#1080;&#1085;&#1086;&#1082;&#1080;&#1089;&#1083;&#1086;&#1090;&#107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eec94"/>
                </a:solidFill>
                <a:latin typeface="Impact"/>
              </a:rPr>
              <a:t>Б Е Л К И</a:t>
            </a:r>
            <a:r>
              <a:rPr b="0" i="1" lang="en-US" sz="9600" spc="-1" strike="noStrike">
                <a:solidFill>
                  <a:srgbClr val="feec94"/>
                </a:solidFill>
                <a:latin typeface="Palette"/>
              </a:rPr>
              <a:t> 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08760" y="5729400"/>
            <a:ext cx="475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ДЖАФАРОВА СААДАТ ЗУБЕИР КЫ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Учитель биологии ГБОУ СОШ № 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ЦАО г.Моск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68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Palette"/>
              </a:rPr>
              <a:t>Уровни структуры белка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36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619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вичная структура — последовательность аминокислот в полипептидной цеп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яется и соответствует последовательности нуклеотидов в молекуле ДН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2928960" cy="61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69116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торичная структура — локальное упорядочивание фрагмента полипептидной цепи, стабилизированное водородными связями и гидрофобными взаимодействия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08720" y="260280"/>
            <a:ext cx="314784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716360" y="549360"/>
            <a:ext cx="4259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етичная структура  — пространственное строение полипептидной цепи — взаимное расположение элементов вторичной структуры, стабилизированное взаимодействием между боковыми цепями аминокислотных остатков. В стабилизации третичной структуры принимают участие: ковалентные связи; ионные взаимодействия; водородные связи; гидрофобные взаимодейств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892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148360" y="620280"/>
            <a:ext cx="382752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етверичная структура  — субъединичная структура белка. Взаимное расположение нескольких полипептидных цепей в составе единого белкового комплекс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105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538200" y="1214280"/>
          <a:ext cx="8137440" cy="5383080"/>
        </p:xfrm>
        <a:graphic>
          <a:graphicData uri="http://schemas.openxmlformats.org/drawingml/2006/table">
            <a:tbl>
              <a:tblPr/>
              <a:tblGrid>
                <a:gridCol w="2800440"/>
                <a:gridCol w="2668680"/>
                <a:gridCol w="266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ме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Строи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риал кле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ератин, коллаген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Транспор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носят различ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емоглоб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Защи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езвреживают защит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муноглобул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Каталит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коряют протекание химических реакций в организм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рм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 Двига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олняют все виды дв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озин, акт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 Регулятор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гулируют обменные процес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м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2227680" y="181080"/>
            <a:ext cx="457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Функции белк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003640" y="3860640"/>
            <a:ext cx="3929400" cy="2614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2847960" cy="3629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203640" y="1413000"/>
            <a:ext cx="2914560" cy="4286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2376360" cy="302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516720" y="260280"/>
            <a:ext cx="23479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2400" y="1452600"/>
            <a:ext cx="7635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БЩЕ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 ЛЮДЕ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 ПРЕДЫДУЩЕМ СЛАЙД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ЭТИ ФОТОГРАФИИ СВЯЗАНЫ С  ТЕМОЙ УРО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2400" y="1452600"/>
            <a:ext cx="7635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ТОГИ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.Что узнал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.Для чего это нуж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.Насколько это важ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4.Как вас изменили эти знан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52400" y="476280"/>
            <a:ext cx="7635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.Составить синквейн со словами: белок, аминокислота, радика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&amp; 3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учебнику Общая биология: Учеб. Для 10–11 кл. Д.К.Беляев, П.М.Бородин, Н.Н.Воронцов и др. 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135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Жизнь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то открытые саморегулирующиеся и самовоспроизводящиеся системы совокупностей живых организмов, построенные из сложных биологических полимеров —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белков и нуклеиновых кислот"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сновой всего живого считаются нуклеиновые кислоты и белки, так как они функционируют в клетке, образовывают сложные соединения, которые входят в структуру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сех живых организмов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се живые организмы в природе состоят из одинаковых уровней организации, это общая для всех живых организмов характерная биологическая закономерность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Белки— высокомолекулярные органические соединения – (ВМС), нерегулярные биополимеры, состоящие из мономеров- аминокислот, соединенных  пептидной связью. В живых организмах аминокислотный состав белков определяется генетическим кодом, при синтезе в большинстве случаев используется 20 стандартных аминокислот. Множество их комбинаций дают большое разнообразие свойств молекул белков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3680" y="254160"/>
            <a:ext cx="60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СТРОЕНИЕ АМИНОКИСЛ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7120" y="164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5256360" cy="3746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04000" y="17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В аминокислот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выделя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три функциона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групп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6520" y="5084640"/>
            <a:ext cx="182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1.Аминогрупп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116000" y="3789360"/>
            <a:ext cx="79200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3600" y="510696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2.Карбоксильная гру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7440" y="5084640"/>
            <a:ext cx="265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3.Радикал ( они раз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у всех аминокисло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4436640"/>
            <a:ext cx="727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5229360"/>
            <a:ext cx="144720" cy="71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651280" y="4076640"/>
            <a:ext cx="93636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663480"/>
            <a:ext cx="874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 могут быть синтезированы в организме. Поэтому их поступление в организм с пищей необходимо. Незаменимыми для человека и животных являются 8 аминокисло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ал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зерновые, мясе, грибы, молочные продукты, арахи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золейц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миндаль, кешью, куриное мясо, яйца, рыба, чечевица, печень, мяс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ейц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мясо, рыба,  рис, чечевица, орех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из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рыба, мясо, молочные продукты, пшеница, орех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етион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мясо, рыба, яйца, бобы, фасоль, чечевица и со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реони́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молочные продукты и яйца, в умеренных количествах в орехах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иптофан – овес, бананы, сушёные финики, арахис, кунжут, молоко, творог, рыба, курица, индейка, мяс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енилалани́н - говядина, куриное мясо, рыба, соевые бобы, яйца, творог, моло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0200" y="127080"/>
            <a:ext cx="566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Незаменимые аминокислоты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4560" y="476280"/>
            <a:ext cx="43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ПТИДНАЯ СВЯЗ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89240" y="907920"/>
            <a:ext cx="6016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птидная связь — вид амидной связ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зникающей п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разовании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белк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и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пептид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результа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заимодействия α-аминогруппы (—NH2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ной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аминокислоты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с α-карбокси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группой (—СОО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ругой аминокисло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43120" y="4746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784872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53680" y="0"/>
            <a:ext cx="5781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Impact"/>
              </a:rPr>
              <a:t>Свойства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915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мер белка может измеряться количеством аминокислот Самый большой из известных в настоящее время белков —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тин. Это  крупный эластичный белок, соединяющий миозин с линией Z 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авнительный размер белков. Слева направо: Антитело, гемоглобин, инсулин, аденилаткиназа и глютаминсинтета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87280" y="4479840"/>
            <a:ext cx="6350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lette"/>
              </a:rPr>
              <a:t>Денатураци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897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зкое изменение условий, например, нагревание или обработка белка кислотой или щёлочью приводит к потере четвертичной, третичной и вторичной структур белка, называемой денатурацией. Самый известный случай денатурации белка в быту — это приготовление куриного яйц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672000" cy="3182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>
            <a:off x="2195640" y="314172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2200" y="5253120"/>
            <a:ext cx="27244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БРАТИ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сохран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ервичная струк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69120" y="5253120"/>
            <a:ext cx="273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ЕОБРАТИ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первич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руктура разруш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4437000"/>
            <a:ext cx="244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042560" y="4437000"/>
            <a:ext cx="20890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76720" y="45252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 Е Л К 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8680" y="2822400"/>
            <a:ext cx="2643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ст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стоя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олько 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минокисл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статко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1773360"/>
            <a:ext cx="51116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жные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гут включ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ионы металла (металлопротеид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игмент (хром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комплексы с липидами (липопротеин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уклеиновые кислоты(нукле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статок фосфорной кислоты (фосф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глевод (гликопротеин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58560" y="981000"/>
            <a:ext cx="331308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1052640"/>
            <a:ext cx="1152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1:18:04Z</dcterms:created>
  <dc:creator>Лаврентьевы</dc:creator>
  <dc:description/>
  <dc:language>en-US</dc:language>
  <cp:lastModifiedBy>Василий</cp:lastModifiedBy>
  <dcterms:modified xsi:type="dcterms:W3CDTF">2011-12-18T07:09:14Z</dcterms:modified>
  <cp:revision>12</cp:revision>
  <dc:subject/>
  <dc:title>Белки. </dc:title>
</cp:coreProperties>
</file>