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671-5A49-429E-89DE-EA95EADA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314-B4A8-492D-BA4D-31B7839B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B61-B6EF-4952-8E25-6BAEEC78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47F-FC04-4E1E-A5C0-70891BD7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B68B-DA34-4FF2-B976-1E300EB6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E1C4-38FB-4D91-B7CE-D47195E8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16B5-123D-4D61-880E-D7799053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DB3A-A0A9-44BD-8417-A84BCCA6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838E-4B43-453C-A6E2-C6F81742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E197-76AA-45E9-892F-C2E45904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CD56-8FA2-4A10-B4A7-3B4D622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C02-8C88-4661-B926-B5FC5432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CC5F-FCD3-45C6-B30D-7F0F964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24C1-49DC-420C-9237-3DAE318D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97A2-8F68-416F-9A3F-91F91D67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9D51-7ED5-42BD-8EE5-64DF25B6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A6B7-B52C-483C-B387-43966312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619-DFE7-4427-8577-BDA43748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CFF-DA11-44F3-ABBC-5E44529E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3AD-0C21-47EE-B100-26DBE96A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416-8E99-4B34-8659-E76B136B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091-0A22-4DD5-8C4B-98FAE455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C54-64F0-40B1-9130-BA35F9C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117-7A6A-4895-91E8-DECB8D2B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A54D-D25E-4620-AB62-19DF2BFB5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75EE-D5AB-411C-B623-791E2FBA8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hyperlink" Target="http://ru.wikipedia.org/wiki/&#1051;&#1080;&#1079;&#1080;&#1085;" TargetMode="External"/><Relationship Id="rId5" Type="http://schemas.openxmlformats.org/officeDocument/2006/relationships/hyperlink" Target="http://ru.wikipedia.org/wiki/&#1052;&#1077;&#1090;&#1080;&#1086;&#1085;&#1080;&#1085;" TargetMode="External"/><Relationship Id="rId6" Type="http://schemas.openxmlformats.org/officeDocument/2006/relationships/hyperlink" Target="http://ru.wikipedia.org/wiki/&#1058;&#1088;&#1077;&#1086;&#1085;&#1080;&#1085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55;&#1077;&#1087;&#1090;&#1080;&#1076;&#1099;" TargetMode="External"/><Relationship Id="rId3" Type="http://schemas.openxmlformats.org/officeDocument/2006/relationships/hyperlink" Target="http://ru.wikipedia.org/wiki/&#1040;&#1084;&#1080;&#1085;&#1086;&#1082;&#1080;&#1089;&#1083;&#1086;&#1090;&#107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eec94"/>
                </a:solidFill>
                <a:latin typeface="Impact"/>
              </a:rPr>
              <a:t>Б Е Л К И</a:t>
            </a:r>
            <a:r>
              <a:rPr b="0" i="1" lang="en-US" sz="9600" spc="-1" strike="noStrike">
                <a:solidFill>
                  <a:srgbClr val="feec94"/>
                </a:solidFill>
                <a:latin typeface="Palette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760" y="5729400"/>
            <a:ext cx="47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ДЖАФАРОВА СААДАТ ЗУБЕИР КЫ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Учитель биологии ГБОУ СОШ №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ЦАО г.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Palette"/>
              </a:rPr>
              <a:t>Уровни структуры белк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ичная структура — последовательность аминокислот в полипептидной цеп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торичная структура 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тичная структура  — пространственное строение полипептидной цепи — взаимное расположение элементов вторичной структуры, стабилизированное взаимодействием между боковыми цепями аминокислотных остатков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148360" y="620280"/>
            <a:ext cx="38275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тверичная структура  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8200" y="1214280"/>
          <a:ext cx="8137440" cy="5383080"/>
        </p:xfrm>
        <a:graphic>
          <a:graphicData uri="http://schemas.openxmlformats.org/drawingml/2006/table">
            <a:tbl>
              <a:tblPr/>
              <a:tblGrid>
                <a:gridCol w="2800440"/>
                <a:gridCol w="2668680"/>
                <a:gridCol w="26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Стро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ратин, коллаге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Транспор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носят различ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звреживают защит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муноглобул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атали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коряют протекание химических реакций в организ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Двиг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яют все виды дв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озин, ак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егулят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улируют обменные проце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27680" y="181080"/>
            <a:ext cx="45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ункции бел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2940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847960" cy="362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91456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37636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3479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2400" y="1452600"/>
            <a:ext cx="76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ЛЮД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РЕДЫДУЩЕМ СЛАЙ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ЭТИ ФОТОГРАФИИ СВЯЗАНЫ С  ТЕМОЙ УРО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00" y="1452600"/>
            <a:ext cx="763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ТОГ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.Что узна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Для чего это ну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Насколько это ва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.Как вас изменили эти зн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2400" y="476280"/>
            <a:ext cx="763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Составить синквейн со словами: белок, аминокислота, радик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&amp; 3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учебнику Общая биология: Учеб. Для 10–11 кл. Д.К.Беляев, П.М.Бородин, Н.Н.Воронцов и др.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Жизн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ткрытые саморегулирующиеся и самовоспроизводящиеся системы совокупностей живых организмов, построенные из сложных биологических полимеров —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белков и нуклеиновых кислот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ой всего живого считаются нуклеиновые кислоты и белки, так как они функционируют в клетке, образовывают сложные соединения, которые входят в структуру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х живых организмов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живые организмы в природе состоят из одинаковых уровней организации, это общая для всех живых организмов характерная биологическая закономерность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ки— высокомолекулярные органические соединения – (ВМС), нерегулярные биополимеры, состоящие из мономеров- аминокислот, соединенных  пептидной связью. В живых организмах аминокислотный состав белков определяется генетическим кодом, при синтезе в большинстве случаев используется 20 стандартных аминокислот. Множество их комбинаций дают большое разнообразие свойств молекул бел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3680" y="25416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ТРОЕНИЕ АМИНО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 аминокисло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ыде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три функ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руп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520" y="508464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1.Аминогру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3600" y="510696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2.Карбокси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5084640"/>
            <a:ext cx="26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3.Радикал ( они раз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у всех аминокисло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зерновые, мясе, грибы, молочные продукты, арах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индаль, кешью, куриное мясо, яйца, рыба, чечевица, печень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ясо, рыба,  рис, чечевица, оре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из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рыба, мясо, молочные продукты, пшеница, орех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етион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ясо, рыба, яйца, бобы, фасоль, чечевица и со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реони́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олочные продукты и яйца, в умеренных количествах в орехах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птофан – овес, бананы, сушёные финики, арахис, кунжут, молоко, творог, рыба, курица, индейка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нилалани́н - говядина, куриное мясо, рыба, соевые бобы, яйца, творог, мол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0200" y="127080"/>
            <a:ext cx="566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заменимые аминокислоты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560" y="47628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ПТИДН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9240" y="907920"/>
            <a:ext cx="6016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птидная связь — вид амидной связ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никающе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и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белк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пептид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я α-аминогруппы (—NH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минокислот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 α-карбокси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ппой (—СО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ругой аминокисл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474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7848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0"/>
            <a:ext cx="5781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Impact"/>
              </a:rPr>
              <a:t>Свойств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р белка может измеряться количеством аминокислот Самый большой из известных в настоящее время белков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тин. Это  крупный эластичный белок, соединяющий миозин с линией Z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размер белков. Слева направо: Антитело, гемоглобин, инсулин, аденилаткиназа и глютаминсинтет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4479840"/>
            <a:ext cx="6350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lette"/>
              </a:rPr>
              <a:t>Денатурац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97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зкое изменение условий, например, нагревание или обработка белка кислотой или щёлочью приводит к потере четвертичной, третичной и вторичной структур белка, называемой денатурацией. Самый известный случай денатурации белка в быту — это приготовление куриного яй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672000" cy="318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195640" y="3141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253120"/>
            <a:ext cx="2724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сохран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рвичная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69120" y="5253120"/>
            <a:ext cx="273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перви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зруш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437000"/>
            <a:ext cx="244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4437000"/>
            <a:ext cx="20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76720" y="45252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 Е Л 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80" y="2822400"/>
            <a:ext cx="26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инокисл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ат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773360"/>
            <a:ext cx="5111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жны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включ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оны металла (металлопротеид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игмент (хром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мплексы с липидами (липопротеин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уклеиновые кислоты(нукле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статок фосфорной кислоты (фосф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левод (гликопротеин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58560" y="981000"/>
            <a:ext cx="3313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8:04Z</dcterms:created>
  <dc:creator>Лаврентьевы</dc:creator>
  <dc:description/>
  <dc:language>en-US</dc:language>
  <cp:lastModifiedBy>Василий</cp:lastModifiedBy>
  <dcterms:modified xsi:type="dcterms:W3CDTF">2011-12-18T07:09:14Z</dcterms:modified>
  <cp:revision>12</cp:revision>
  <dc:subject/>
  <dc:title>Белки. </dc:title>
</cp:coreProperties>
</file>