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D8F-AA30-439D-B7F3-4FC4F497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4BD-6EA3-47D6-9585-DCD76373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6E9-D514-4AF9-9E87-15CAB02D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4D1-B9CC-41FE-BC1D-237F4127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29EA-1F4A-4EA6-A837-AA89695C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BD85-B686-4AEF-A5E8-BB801DCE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7F0F-FE90-4DDD-9E91-B9EB559C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3960-591A-4980-8978-8EFD7B2F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08C7-8E38-40C8-B5F2-B6461DCD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5087-3FDE-42D2-861C-54BBCA2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562-51CB-4487-98BB-0C1D9CB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C40-129C-479F-AD12-E71645CC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B7C3-976D-4839-BAD2-B139E6C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AF4F-EBC9-4011-926C-DE5F8DC0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00E7-3307-4FEC-BA84-B6C723F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7411-7841-4306-B151-BC1E7344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685A-48CA-426C-9FE8-7AA9943A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B93-0CC3-449D-B6C2-E33C576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FF7-DE37-46CD-91BD-661AD404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D8B-88FF-4ACA-9045-A7B84F2E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CD1-0670-40A6-9EE5-4EB2210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693-AB66-48E6-937B-18D9D28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278-3478-468D-BE3A-F557863C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58A-DD6B-49C2-80E0-E9A20BFE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5E1-4F14-40F0-A8FF-225DB2678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7FC-EE11-48B8-9528-43032A602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2;&#1083;&#1080;&#1085;" TargetMode="External"/><Relationship Id="rId2" Type="http://schemas.openxmlformats.org/officeDocument/2006/relationships/hyperlink" Target="http://ru.wikipedia.org/wiki/&#1048;&#1079;&#1086;&#1083;&#1077;&#1081;&#1094;&#1080;&#1085;" TargetMode="External"/><Relationship Id="rId3" Type="http://schemas.openxmlformats.org/officeDocument/2006/relationships/hyperlink" Target="http://ru.wikipedia.org/wiki/&#1051;&#1077;&#1081;&#1094;&#1080;&#1085;" TargetMode="External"/><Relationship Id="rId4" Type="http://schemas.openxmlformats.org/officeDocument/2006/relationships/hyperlink" Target="http://ru.wikipedia.org/wiki/&#1051;&#1080;&#1079;&#1080;&#1085;" TargetMode="External"/><Relationship Id="rId5" Type="http://schemas.openxmlformats.org/officeDocument/2006/relationships/hyperlink" Target="http://ru.wikipedia.org/wiki/&#1052;&#1077;&#1090;&#1080;&#1086;&#1085;&#1080;&#1085;" TargetMode="External"/><Relationship Id="rId6" Type="http://schemas.openxmlformats.org/officeDocument/2006/relationships/hyperlink" Target="http://ru.wikipedia.org/wiki/&#1058;&#1088;&#1077;&#1086;&#1085;&#1080;&#1085;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7;&#1083;&#1086;&#1082;" TargetMode="External"/><Relationship Id="rId2" Type="http://schemas.openxmlformats.org/officeDocument/2006/relationships/hyperlink" Target="http://ru.wikipedia.org/wiki/&#1055;&#1077;&#1087;&#1090;&#1080;&#1076;&#1099;" TargetMode="External"/><Relationship Id="rId3" Type="http://schemas.openxmlformats.org/officeDocument/2006/relationships/hyperlink" Target="http://ru.wikipedia.org/wiki/&#1040;&#1084;&#1080;&#1085;&#1086;&#1082;&#1080;&#1089;&#1083;&#1086;&#1090;&#1072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eec94"/>
                </a:solidFill>
                <a:latin typeface="Impact"/>
              </a:rPr>
              <a:t>Б Е Л К И</a:t>
            </a:r>
            <a:r>
              <a:rPr b="0" i="1" lang="en-US" sz="9600" spc="-1" strike="noStrike">
                <a:solidFill>
                  <a:srgbClr val="feec94"/>
                </a:solidFill>
                <a:latin typeface="Palette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08760" y="5729400"/>
            <a:ext cx="475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ДЖАФАРОВА СААДАТ ЗУБЕИР КЫЗ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Учитель биологии ГБОУ СОШ № 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ec94"/>
                </a:solidFill>
                <a:latin typeface="Times New Roman"/>
              </a:rPr>
              <a:t>ЦАО г.Моск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68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Palette"/>
              </a:rPr>
              <a:t>Уровни структуры белка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6195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вичная структура — последовательность аминокислот в полипептидной цеп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яется и соответствует последовательности нуклеотидов в молекуле ДН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29289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6911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торичная структура — локальное упорядочивание фрагмента полипептидной цепи, стабилизированное водородными связями и гидрофобными взаимодействия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314784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716360" y="549360"/>
            <a:ext cx="42595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етичная структура  — пространственное строение полипептидной цепи — взаимное расположение элементов вторичной структуры, стабилизированное взаимодействием между боковыми цепями аминокислотных остатков. В стабилизации третичной структуры принимают участие: ковалентные связи; ионные взаимодействия; водородные связи; гидрофобные взаимодейств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92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148360" y="620280"/>
            <a:ext cx="382752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тверичная структура  — субъединичная структура белка. Взаимное расположение нескольких полипептидных цепей в составе единого белкового комплекс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538200" y="1214280"/>
          <a:ext cx="8137440" cy="5383080"/>
        </p:xfrm>
        <a:graphic>
          <a:graphicData uri="http://schemas.openxmlformats.org/drawingml/2006/table">
            <a:tbl>
              <a:tblPr/>
              <a:tblGrid>
                <a:gridCol w="2800440"/>
                <a:gridCol w="2668680"/>
                <a:gridCol w="26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е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Стро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териал кле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ератин, коллаге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Транспор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еносят различ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емоглоб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Защи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звреживают защитные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муноглобули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Каталитическ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коряют протекание химических реакций в организм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р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Двиг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яют все виды дв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озин, акт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 Регулятор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гулируют обменные процес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м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227680" y="181080"/>
            <a:ext cx="457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Функции бел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29400" cy="2614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2847960" cy="362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914560" cy="4286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37636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516720" y="260280"/>
            <a:ext cx="23479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2400" y="1452600"/>
            <a:ext cx="763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ЩЕГ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ЛЮД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ПРЕДЫДУЩЕМ СЛАЙД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ЭТИ ФОТОГРАФИИ СВЯЗАНЫ С  ТЕМОЙ УРО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2400" y="1452600"/>
            <a:ext cx="763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ИТОГ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.Что узна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.Для чего это ну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3.Насколько это важ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4.Как вас изменили эти зна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2400" y="476280"/>
            <a:ext cx="7635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.Составить синквейн со словами: белок, аминокислота, радика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&amp; 3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 учебнику Общая биология: Учеб. Для 10–11 кл. Д.К.Беляев, П.М.Бородин, Н.Н.Воронцов и др. 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1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Жизнь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то открытые саморегулирующиеся и самовоспроизводящиеся системы совокупностей живых организмов, построенные из сложных биологических полимеров —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белков и нуклеиновых кислот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сновой всего живого считаются нуклеиновые кислоты и белки, так как они функционируют в клетке, образовывают сложные соединения, которые входят в структуру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сех живых организмов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се живые организмы в природе состоят из одинаковых уровней организации, это общая для всех живых организмов характерная биологическая закономерность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Белки— высокомолекулярные органические соединения – (ВМС), нерегулярные биополимеры, состоящие из мономеров- аминокислот, соединенных  пептидной связью. В живых организмах аминокислотный состав белков определяется генетическим кодом, при синтезе в большинстве случаев используется 20 стандартных аминокислот. Множество их комбинаций дают большое разнообразие свойств молекул бел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3680" y="254160"/>
            <a:ext cx="60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ТРОЕНИЕ АМИНОКИСЛ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7120" y="164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5256360" cy="3746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04000" y="177336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 аминокисло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выделя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три функ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груп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6520" y="5084640"/>
            <a:ext cx="18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1.Аминогрупп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116000" y="3789360"/>
            <a:ext cx="79200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3600" y="510696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2.Карбокси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7440" y="5084640"/>
            <a:ext cx="265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3.Радикал ( они раз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у всех аминокисло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4436640"/>
            <a:ext cx="72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229360"/>
            <a:ext cx="144720" cy="7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651280" y="4076640"/>
            <a:ext cx="936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663480"/>
            <a:ext cx="874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 могут быть синтезированы в организме. Поэтому их поступление в организм с пищей необходимо. Незаменимыми для человека и животных являются 8 аминокисло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ал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зерновые, мясе, грибы, молочные продукты, арахи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ол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индаль, кешью, куриное мясо, яйца, рыба, чечевица, печень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ейц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ясо, рыба,  рис, чечевица, орех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из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рыба, мясо, молочные продукты, пшеница, орех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/>
              </a:rPr>
              <a:t>етиони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- мясо, рыба, яйца, бобы, фасоль, чечевица и со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/>
              </a:rPr>
              <a:t>реони́н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молочные продукты и яйца, в умеренных количествах в орехах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риптофан – овес, бананы, сушёные финики, арахис, кунжут, молоко, творог, рыба, курица, индейка, мясо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енилалани́н - говядина, куриное мясо, рыба, соевые бобы, яйца, творог, моло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0200" y="127080"/>
            <a:ext cx="566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Незаменимые аминокислоты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560" y="476280"/>
            <a:ext cx="43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ПТИДН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89240" y="907920"/>
            <a:ext cx="6016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птидная связь — вид амидной связ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озникающе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разовани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белк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и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пептидов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результа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я α-аминогруппы (—NH2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ной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аминокислоты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 α-карбокси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ппой (—СОО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ругой аминокисл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4746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784872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53680" y="0"/>
            <a:ext cx="5781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Impact"/>
              </a:rPr>
              <a:t>Свойства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91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мер белка может измеряться количеством аминокислот Самый большой из известных в настоящее время белков —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тин. Это  крупный эластичный белок, соединяющий миозин с линией Z 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равнительный размер белков. Слева направо: Антитело, гемоглобин, инсулин, аденилаткиназа и глютаминсинтет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87280" y="4479840"/>
            <a:ext cx="6350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Palette"/>
              </a:rPr>
              <a:t>Денатурац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4897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зкое изменение условий, например, нагревание или обработка белка кислотой или щёлочью приводит к потере четвертичной, третичной и вторичной структур белка, называемой денатурацией. Самый известный случай денатурации белка в быту — это приготовление куриного яй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672000" cy="318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>
            <a:off x="2195640" y="3141720"/>
            <a:ext cx="7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2200" y="5253120"/>
            <a:ext cx="27244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сохран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ервичная струк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69120" y="5253120"/>
            <a:ext cx="273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ЕОБРАТИМ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сли первич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труктура разруш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437000"/>
            <a:ext cx="244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42560" y="4437000"/>
            <a:ext cx="2089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76720" y="45252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 Е Л К 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8680" y="2822400"/>
            <a:ext cx="2643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то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инокисл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стат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773360"/>
            <a:ext cx="51116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ожные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гут включ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ионы металла (металлопротеид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пигмент (хром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комплексы с липидами (липопротеин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нуклеиновые кислоты(нукле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остаток фосфорной кислоты (фосфопротеиды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углевод (гликопротеин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58560" y="981000"/>
            <a:ext cx="33130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115236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1:18:04Z</dcterms:created>
  <dc:creator>Лаврентьевы</dc:creator>
  <dc:description/>
  <dc:language>en-US</dc:language>
  <cp:lastModifiedBy>Василий</cp:lastModifiedBy>
  <dcterms:modified xsi:type="dcterms:W3CDTF">2011-12-18T07:09:14Z</dcterms:modified>
  <cp:revision>12</cp:revision>
  <dc:subject/>
  <dc:title>Белки. </dc:title>
</cp:coreProperties>
</file>