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D17-E88A-49AF-A0B8-05A47325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45E-DEAB-4773-8641-B6AFF7DC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DE4-F589-4E89-908B-84545BD0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A3E-E4D1-4128-BE7D-C741F05C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3013-C94A-4969-BC3B-88B7C570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B071-825E-4E67-A2A2-8951CD6B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6DE8-8A2F-42D0-9031-BA06BD2D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CE45-FA56-439B-A0DF-B502CC83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CA55-FE55-45A6-B132-97962B0F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354F-6355-45E4-89B3-9035E205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9044-BB2A-405C-B9A5-5BD1B2FF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06B-58A7-4B7A-A1DF-02FEC85F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03AC-A435-4F06-8BF9-13F16B86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4D5D-7D26-4E06-AC8A-2ADF8CE1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ADA5-0FC2-4B3D-AC56-001006C0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4409-0039-45DB-AC01-EDB2F71D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5213-C671-4738-88A7-77572FCF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0A1-B8DB-47FA-AA7D-3DDDB2C1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D71-61ED-4DE9-AF96-2A559AF8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26B-2A75-4E97-AA67-610A2D08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185-DEB6-45F0-92F7-0A0F414F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18F-B660-4EA6-9D52-F0162C77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A45-7AA1-4B9E-9EEC-6C923E2F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F24-B184-49D5-AFF6-D0E46CD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789E-E343-4FA1-8417-1DE62B4AD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22D8-93C7-47E9-A397-DA55B61A9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hyperlink" Target="http://ru.wikipedia.org/wiki/&#1051;&#1080;&#1079;&#1080;&#1085;" TargetMode="External"/><Relationship Id="rId5" Type="http://schemas.openxmlformats.org/officeDocument/2006/relationships/hyperlink" Target="http://ru.wikipedia.org/wiki/&#1052;&#1077;&#1090;&#1080;&#1086;&#1085;&#1080;&#1085;" TargetMode="External"/><Relationship Id="rId6" Type="http://schemas.openxmlformats.org/officeDocument/2006/relationships/hyperlink" Target="http://ru.wikipedia.org/wiki/&#1058;&#1088;&#1077;&#1086;&#1085;&#1080;&#1085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6;&#1082;" TargetMode="External"/><Relationship Id="rId2" Type="http://schemas.openxmlformats.org/officeDocument/2006/relationships/hyperlink" Target="http://ru.wikipedia.org/wiki/&#1055;&#1077;&#1087;&#1090;&#1080;&#1076;&#1099;" TargetMode="External"/><Relationship Id="rId3" Type="http://schemas.openxmlformats.org/officeDocument/2006/relationships/hyperlink" Target="http://ru.wikipedia.org/wiki/&#1040;&#1084;&#1080;&#1085;&#1086;&#1082;&#1080;&#1089;&#1083;&#1086;&#1090;&#107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eec94"/>
                </a:solidFill>
                <a:latin typeface="Impact"/>
              </a:rPr>
              <a:t>Б Е Л К И</a:t>
            </a:r>
            <a:r>
              <a:rPr b="0" i="1" lang="en-US" sz="9600" spc="-1" strike="noStrike">
                <a:solidFill>
                  <a:srgbClr val="feec94"/>
                </a:solidFill>
                <a:latin typeface="Palette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760" y="5729400"/>
            <a:ext cx="47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ДЖАФАРОВА СААДАТ ЗУБЕИР КЫ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Учитель биологии ГБОУ СОШ №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ЦАО г.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Palette"/>
              </a:rPr>
              <a:t>Уровни структуры белка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ичная структура — последовательность аминокислот в полипептидной цеп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торичная структура 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тичная структура  — пространственное строение полипептидной цепи — взаимное расположение элементов вторичной структуры, стабилизированное взаимодействием между боковыми цепями аминокислотных остатков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148360" y="620280"/>
            <a:ext cx="382752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тверичная структура  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538200" y="1214280"/>
          <a:ext cx="8137440" cy="5383080"/>
        </p:xfrm>
        <a:graphic>
          <a:graphicData uri="http://schemas.openxmlformats.org/drawingml/2006/table">
            <a:tbl>
              <a:tblPr/>
              <a:tblGrid>
                <a:gridCol w="2800440"/>
                <a:gridCol w="2668680"/>
                <a:gridCol w="26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Стро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ратин, коллаге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Транспор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носят различ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звреживают защит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муноглобул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Катали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коряют протекание химических реакций в организ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р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Двиг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яют все виды дв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озин, ак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Регулят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гулируют обменные проце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227680" y="181080"/>
            <a:ext cx="45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ункции бел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29400" cy="261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847960" cy="362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914560" cy="428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376360" cy="302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3479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2400" y="1452600"/>
            <a:ext cx="76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ЛЮД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ПРЕДЫДУЩЕМ СЛАЙ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ЭТИ ФОТОГРАФИИ СВЯЗАНЫ С  ТЕМОЙ УРО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2400" y="1452600"/>
            <a:ext cx="763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ТОГ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.Что узна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.Для чего это ну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.Насколько это ва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.Как вас изменили эти зна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2400" y="476280"/>
            <a:ext cx="763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Составить синквейн со словами: белок, аминокислота, радик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&amp; 3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учебнику Общая биология: Учеб. Для 10–11 кл. Д.К.Беляев, П.М.Бородин, Н.Н.Воронцов и др.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Жизн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открытые саморегулирующиеся и самовоспроизводящиеся системы совокупностей живых организмов, построенные из сложных биологических полимеров —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белков и нуклеиновых кислот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ой всего живого считаются нуклеиновые кислоты и белки, так как они функционируют в клетке, образовывают сложные соединения, которые входят в структуру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х живых организмов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живые организмы в природе состоят из одинаковых уровней организации, это общая для всех живых организмов характерная биологическая закономерность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ки— высокомолекулярные органические соединения – (ВМС), нерегулярные биополимеры, состоящие из мономеров- аминокислот, соединенных  пептидной связью. В живых организмах аминокислотный состав белков определяется генетическим кодом, при синтезе в большинстве случаев используется 20 стандартных аминокислот. Множество их комбинаций дают большое разнообразие свойств молекул бел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3680" y="254160"/>
            <a:ext cx="60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ТРОЕНИЕ АМИНО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 аминокисло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ыдел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три функцион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руп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520" y="508464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1.Аминогруп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3600" y="510696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2.Карбокси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440" y="5084640"/>
            <a:ext cx="26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3.Радикал ( они раз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у всех аминокисло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зерновые, мясе, грибы, молочные продукты, арах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индаль, кешью, куриное мясо, яйца, рыба, чечевица, печень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ясо, рыба,  рис, чечевица, оре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из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рыба, мясо, молочные продукты, пшеница, орех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етион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ясо, рыба, яйца, бобы, фасоль, чечевица и со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реони́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олочные продукты и яйца, в умеренных количествах в орехах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иптофан – овес, бананы, сушёные финики, арахис, кунжут, молоко, творог, рыба, курица, индейка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нилалани́н - говядина, куриное мясо, рыба, соевые бобы, яйца, творог, мол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0200" y="127080"/>
            <a:ext cx="566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езаменимые аминокислоты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560" y="47628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ПТИДН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9240" y="907920"/>
            <a:ext cx="6016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птидная связь — вид амидной связ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никающе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и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белк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пептид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я α-аминогруппы (—NH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минокислот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с α-карбокси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уппой (—СО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ругой аминокисл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474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7848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3680" y="0"/>
            <a:ext cx="5781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Impact"/>
              </a:rPr>
              <a:t>Свойств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ер белка может измеряться количеством аминокислот Самый большой из известных в настоящее время белков —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тин. Это  крупный эластичный белок, соединяющий миозин с линией Z 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размер белков. Слева направо: Антитело, гемоглобин, инсулин, аденилаткиназа и глютаминсинтет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4479840"/>
            <a:ext cx="6350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lette"/>
              </a:rPr>
              <a:t>Денатурац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897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зкое изменение условий, например, нагревание или обработка белка кислотой или щёлочью приводит к потере четвертичной, третичной и вторичной структур белка, называемой денатурацией. Самый известный случай денатурации белка в быту — это приготовление куриного яй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672000" cy="3182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195640" y="314172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5253120"/>
            <a:ext cx="2724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сохран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ервичная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69120" y="5253120"/>
            <a:ext cx="273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первич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 разруш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437000"/>
            <a:ext cx="244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42560" y="4437000"/>
            <a:ext cx="20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76720" y="45252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 Е Л 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8680" y="2822400"/>
            <a:ext cx="264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инокисл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ат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773360"/>
            <a:ext cx="51116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жны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включ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ионы металла (металлопротеид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игмент (хром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мплексы с липидами (липопротеин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уклеиновые кислоты(нукле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статок фосфорной кислоты (фосф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левод (гликопротеин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58560" y="981000"/>
            <a:ext cx="33130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18:04Z</dcterms:created>
  <dc:creator>Лаврентьевы</dc:creator>
  <dc:description/>
  <dc:language>en-US</dc:language>
  <cp:lastModifiedBy>Василий</cp:lastModifiedBy>
  <dcterms:modified xsi:type="dcterms:W3CDTF">2011-12-18T07:09:14Z</dcterms:modified>
  <cp:revision>12</cp:revision>
  <dc:subject/>
  <dc:title>Белки. </dc:title>
</cp:coreProperties>
</file>