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CD96-680F-466E-8B80-D51D16DB0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F4DB-B041-419A-80B4-1867F2AD7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10D4-182B-41F4-8C5E-D69F44C0F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544E-2A68-4272-A3E6-87750BA05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0F3F9-5A56-41C1-A0EB-0CED78C53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1B067-B150-4E1D-8555-9D8705C89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DA573-8F96-423C-98C4-E97272945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C80B6-744F-435A-834A-2303EBC2E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E5298-56F7-4394-983C-ECFC66761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36C82-8AED-41CD-9C81-52B90ABA5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FCD99-95F6-463D-8CF0-1D205AFD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0789-EB1D-4FA2-A6B7-3BED1B907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447FE-35E1-4B0C-8D5E-16241251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56007-E4EA-4E67-86D8-0059D736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0AC3A-0B11-441E-9305-104484183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1A6DB-68EA-4D3C-9AFC-BE2AA14A0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5B2B8-51D9-418F-B5B7-AD6279915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A676B-9CF1-4F54-8E1B-973B25C16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9BC04-0AFC-42F2-AE8B-3A019BE88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8CE24-D29D-4694-82D8-34A352E4E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D09A1-4C49-4610-AA22-585A507DC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03628-728A-4A4D-A726-8D089560E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5344-88E6-4537-9345-59E345086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4E0CD-777D-4231-8216-3298908A4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578A6-2DD8-4748-B447-8E27697E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7563B-1B70-454F-BD74-85D95123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7B4D7-D823-41A0-85CB-B42C1226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C89DB-B679-40DB-B0F9-A98FB3FEF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4C625-EDF8-478A-98A8-684048BB4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6D8BD-A1C3-49E9-A39E-BD8AA2ED8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736E7-18DE-45BB-81B9-BD117CD28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36823-978F-4753-B2E5-C3FE31FA2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E05C6-04F9-49E3-83BD-F89138FA1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6E1D-263C-4E39-9E51-3B0D7084A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2F17E-A9D2-40F0-B8F2-138C85D6A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5041E-E11D-410B-971D-196A7AAA2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BDC76-FC85-4CFA-9B07-3CE21630B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99EA1-1928-4C19-981E-1B701D20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43C20-BA54-4849-8A4F-73F85FD6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52BE9-BC8F-40CF-AE98-F97FC887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A4E92-1417-4431-BF91-F82988F6F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E7C90-6DB3-45C3-9835-8751D8148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99DA8-6997-4E51-A728-185C189F1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68328-B840-47EC-8F6F-11C7D1CF7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FC49-6E1E-4CA8-A969-BE9D4367D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7C052-E504-4136-A77B-75E12212E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1038D-7089-44DD-903D-1A57C8CC3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0D80B-3270-4171-A1E2-4DE597A40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F03E9-7A37-4E09-90B2-952F87006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33BB4-A06A-40B4-972F-ED1383D1F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B7543-F8EA-41A6-9FF2-226EFA52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67CFB-9E21-4155-BE39-4D1985B6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B0B56-3A14-4A37-AC89-E4380EE7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EB719-A81E-4FBF-8649-A32F99284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36483-DC6F-4526-ADDF-890137D98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9537-B326-4B11-8DDD-FDA1297AD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E6117-230E-4960-B56A-C21B0CF6B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BE5F04-E756-499F-B0E9-21EB05B15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DEDD4-7228-4B34-87C9-ED9692A45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8FD3E-695A-4AF0-81DF-B69A5B4DB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6E5B60-AAA1-4F54-A055-3D129AE02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B7EC9-F473-45FA-B0BA-356AC38E4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69DE9B-9336-49E9-97AD-2DDDF8338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9698F-9996-4185-A6B1-1CCAA18D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FD795-18D7-4DDC-9861-F8458E39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E8B04-37AA-4F09-A180-B4C0BAAA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8B3D-2EB8-4611-A647-21A5DD09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A16DD-713D-4742-AAAD-FC14D62FA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64EDE8-313F-4C11-9BF6-989889A24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241CA-136B-4DF4-9FC6-10E96E481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B3818-818E-48E2-9170-18E7B53B4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EFC055-1D07-41F5-AFD7-F5EAD47EC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4FD5A1-772E-43CE-8475-7CA924013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8138FE-0807-4EA4-97E1-E38545E61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7B784-ED50-47C2-AB2B-CA03DC0E6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ED462-C2EA-450B-8035-8E2CF7CD0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4F7C16-13EA-48ED-903A-9E8F7547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7296-0E09-48EB-9ADF-6AA276B9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E6303B-B4F7-4E68-A641-BA835ABF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377FB5-1A45-4862-840E-1CBA80E1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53FAD8-0A24-403D-866A-7A2047060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B00BC-E06D-428F-AE58-B23704579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03DE1-70DF-4FD7-8C39-4459C42F9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43A4B0-1B2E-43BC-9ACA-2A50DE191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A48073-350D-42F7-B1A7-F901B5C64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39D6FC-A8E9-4B64-911A-3CB13378B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480D98-282D-472D-8321-293178409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FEC232-1F45-4C43-949D-09B5BB271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8BD9-ED91-46AA-A9BE-6D6B11A8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E412A7-FD1E-4304-A4B2-C2B65042D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8D2D73-B2B8-41DC-98B2-465F2F35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4A6B1D-3702-4D89-B3BD-0100AA32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8DA262-E5B8-4D68-A4F0-8C50E187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720E3D-7045-4706-A0B3-6E82D0C3E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0B03D6-9B3B-40DF-A982-A80DACD16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9CC7D6-6041-48DC-B496-4AE103948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F40BB-BFAA-4D27-AE7A-D8E8FDD5EFA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A86FE-5CC4-4E0B-9AFE-9B5882EE3BB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99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0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1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2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3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4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5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5AC55-C82E-45D0-8920-7B0BD8BDAB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49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0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1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69EF6-7091-467F-8C9F-4D2A568C070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71A7C-E720-44D0-98EF-FCB555ABDD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35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6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7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8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9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0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1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2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3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4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5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6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7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8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9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63D90-6843-47B8-AC6D-C427B791E6C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92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93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94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95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96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97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201C3-6DE0-4AA0-A06E-445DEE5BF6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340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41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42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43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2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3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D9792-8589-40A7-8BA0-8C574D1B7BF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attachments-blog.tut.by/4426/files/2009/01/03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u.foto.radikal.ru/0705/8d/196aedbedb99.jpg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Урок-путешествие</a:t>
            </a:r>
            <a:br>
              <a:rPr sz="5700"/>
            </a:b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3352680" y="5562360"/>
            <a:ext cx="56390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озлова И.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МАОУСОШ №8 г.Старая Русса Новгородской обл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7" name="WordArt 5"/>
          <p:cNvSpPr txBox="1"/>
          <p:nvPr/>
        </p:nvSpPr>
        <p:spPr>
          <a:xfrm>
            <a:off x="2209680" y="3352680"/>
            <a:ext cx="4572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натоки рыб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Станция 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“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Занимательная 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76312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) Какая рыба в Амазонке самая опасная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) Какие рыбы имеют оружие на носу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)Название каких рыб состоят из трёх букв ? К каким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ряда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х относят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) Давно уже замечено , что большинство видов акул находятся в движении с первого до последнего дня своей жизни и только некоторые неподвижно отдыхают на дне. С чем это связано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) Тело рыб обтекаемой формы . Голова их сразу переходит в туловище , а шеи нет вообще . Хвост у рыб  очень мускулистый и массивный . С чем это связано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) На свежей или вяленной рыбе можно убедиться   , что её позвоночник легко гнётся вправо и влево , но при попытки согнуть его в вертикальной плоскости у вас ничего не получится. Как вы это объясните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) Сельские жители вырыли котлован и заполнили его водой можно ли запустить туда рыб ? Ответ обоснуйте 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Головоломка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«Живое ископаемое»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609480" y="2133720"/>
          <a:ext cx="4191120" cy="310824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Ё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Ш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Ш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7" name="Rectangle 89"/>
          <p:cNvSpPr/>
          <p:nvPr/>
        </p:nvSpPr>
        <p:spPr>
          <a:xfrm>
            <a:off x="5715000" y="2590920"/>
            <a:ext cx="2819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Найдите начало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головоломки и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о непрерывной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линии прочитайте,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какую рыбу и почему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называют живым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ископаемым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Обобщить знания учащихся по теме «Рыбы», проверить их качество, развить познавательный, мыслительный интерес к биологии и коммуникабельность учеников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480" y="5028840"/>
            <a:ext cx="3810240" cy="560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9ddcd"/>
                </a:solidFill>
                <a:latin typeface="Arial"/>
              </a:rPr>
              <a:t>Л.Н. Толстой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ЗНАНИЯ ТОЛЬКО ТОГДА ЗНАНИЯ , КОГДА ОНИ ПРИОБРЕТЕНЫ УСИЛИЯМИ СВОЕЙ МЫСЛИ , А НЕ ПАМЯТЬЮ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                                    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286000" y="228600"/>
            <a:ext cx="4572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Станция «Загадочная»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згадайте загадки. К каким классам относятся рыбы, о которых  пойдет речь и назови признаки классов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Драчун и забияка живет в воде, кости на спине, и щука не проглотит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е человек, не зверь, а с усами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У нее во рту пила. Под водой она жила. Всех пугала, всех глотала. А теперь в котел попала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 зубастой трехметровой рыбкой знакомство было бы ошибкой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495680" y="277560"/>
            <a:ext cx="4114800" cy="78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Занимательная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95" name="Picture 4" descr="Картинка 21 из 121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609480"/>
            <a:ext cx="3200400" cy="30355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5" descr="Картинка 2 из 7005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57600" y="1295280"/>
            <a:ext cx="5216400" cy="18208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6" descr="Картинка 15 из 6364"/>
          <p:cNvPicPr/>
          <p:nvPr/>
        </p:nvPicPr>
        <p:blipFill>
          <a:blip r:embed="rId5"/>
          <a:stretch/>
        </p:blipFill>
        <p:spPr>
          <a:xfrm>
            <a:off x="152280" y="3809880"/>
            <a:ext cx="3962520" cy="25099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7" descr="Картинка 3 из 3323"/>
          <p:cNvPicPr/>
          <p:nvPr/>
        </p:nvPicPr>
        <p:blipFill>
          <a:blip r:embed="rId6"/>
          <a:stretch/>
        </p:blipFill>
        <p:spPr>
          <a:xfrm>
            <a:off x="4419720" y="3505320"/>
            <a:ext cx="411480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3f2d9"/>
                </a:solidFill>
                <a:latin typeface="Arial"/>
              </a:rPr>
              <a:t>Станция </a:t>
            </a:r>
            <a:r>
              <a:rPr b="0" lang="en-US" sz="4400" spc="-1" strike="noStrike">
                <a:solidFill>
                  <a:srgbClr val="f3f2d9"/>
                </a:solidFill>
                <a:latin typeface="Arial"/>
              </a:rPr>
              <a:t>“</a:t>
            </a:r>
            <a:r>
              <a:rPr b="0" lang="ru-RU" sz="4400" spc="-1" strike="noStrike">
                <a:solidFill>
                  <a:srgbClr val="f3f2d9"/>
                </a:solidFill>
                <a:latin typeface="Arial Black"/>
              </a:rPr>
              <a:t>Экологическая</a:t>
            </a:r>
            <a:r>
              <a:rPr b="0" lang="en-US" sz="4400" spc="-1" strike="noStrike">
                <a:solidFill>
                  <a:srgbClr val="f3f2d9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6e6da"/>
                </a:solidFill>
                <a:latin typeface="Verdana"/>
              </a:rPr>
              <a:t>1.</a:t>
            </a:r>
            <a:r>
              <a:rPr b="0" lang="ru-RU" sz="1800" spc="-1" strike="noStrike">
                <a:solidFill>
                  <a:srgbClr val="e6e6da"/>
                </a:solidFill>
                <a:latin typeface="Verdana"/>
              </a:rPr>
              <a:t>Пруд постигла беда : произошёл сброс нефти . Поверхность пруда покрылась тонкой радужной плёнкой . Плёнка не оказала влияния мальков из икры , но затем способствовала их гибели . Почему нефтяная плёнка опасна для мальков ?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da"/>
                </a:solidFill>
                <a:latin typeface="Verdana"/>
              </a:rPr>
              <a:t>2.В ручье , берега которого были покрыты лесом , обитала форель. Через некоторое время после того , как лес вырубили , форели в ручье не стало. Как можно объяснить этот факт ?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6e6da"/>
                </a:solidFill>
                <a:latin typeface="Verdana"/>
              </a:rPr>
              <a:t>3. Водоём  в небольшой степени был загрязнён радиоактивными веществами . Проведённые лабораторные анализы показали , что хищные рыбы являются самыми загрязнёнными организмами в этом водоёме. Как можно объяснить этот факт ?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танция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“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ознавательная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) Прав ли был ученик , сказав 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“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ыбы зимой спят с закрытыми глазами ?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”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чему 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) Определите , какие виды рыбы здесь зашифрованы и определите к какому отряду они относятся ?  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)авлтпо                         г) аскт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)шаку                           д) сду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)цтеун                          е) атшрп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3" name="Picture 5" descr="Картинка 17 из 2143"/>
          <p:cNvPicPr/>
          <p:nvPr/>
        </p:nvPicPr>
        <p:blipFill>
          <a:blip r:embed="rId1"/>
          <a:stretch/>
        </p:blipFill>
        <p:spPr>
          <a:xfrm>
            <a:off x="2362320" y="3962520"/>
            <a:ext cx="1676160" cy="11030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6" descr="Картинка 20 из 2394"/>
          <p:cNvPicPr/>
          <p:nvPr/>
        </p:nvPicPr>
        <p:blipFill>
          <a:blip r:embed="rId2"/>
          <a:stretch/>
        </p:blipFill>
        <p:spPr>
          <a:xfrm>
            <a:off x="6172200" y="3657600"/>
            <a:ext cx="1908000" cy="14320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7" descr="Картинка 34 из 558"/>
          <p:cNvPicPr/>
          <p:nvPr/>
        </p:nvPicPr>
        <p:blipFill>
          <a:blip r:embed="rId3"/>
          <a:stretch/>
        </p:blipFill>
        <p:spPr>
          <a:xfrm>
            <a:off x="2362320" y="5181480"/>
            <a:ext cx="1676160" cy="12369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8" descr=""/>
          <p:cNvPicPr/>
          <p:nvPr/>
        </p:nvPicPr>
        <p:blipFill>
          <a:blip r:embed="rId4"/>
          <a:stretch/>
        </p:blipFill>
        <p:spPr>
          <a:xfrm>
            <a:off x="6172200" y="5257800"/>
            <a:ext cx="190512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танция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“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ознавательная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”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)Была зима - такая, что с ветве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мочком белым падал воробе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кованные в ледяные глыбы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речных глубинах задыхались рыб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чему зимой может происходить замор ( удушье ) рыб 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)Очнувшись от зимней спячки , рыбы стремятся попасть в участок водоёма с быстрым течением воды . Почему 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)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вестны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лучаи вылова рыбаками крупных , нормально упитанных щук , которые были совершенно слепые. Почему отсутствие зрения не сказалось существенно на жизни рыб 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6) В старинных документах имеются сведенья , что Пётр Первый запретил звонить в колокола во время нереста лещей. Это вызвало недовольство у духовенства .Какими соображениями руководствовался  Пётр Первый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096320" cy="9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танция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Литературная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73864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Закончи пословиц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ла бы рыба , а 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удешь спать на берегу , не …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ыба в реке - ещё не 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ыба мелка , да 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хожу во все заливы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 и </a:t>
            </a:r>
            <a:r>
              <a:rPr b="0" lang="ru-RU" sz="3600" spc="-1" strike="noStrike">
                <a:solidFill>
                  <a:srgbClr val="000000"/>
                </a:solidFill>
                <a:latin typeface="comic"/>
              </a:rPr>
              <a:t>щ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акой-нибудь поживы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блю я край родных о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ё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уршит камыш, горит кост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вижу как плывут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. Куда идут  они куда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худ и щу</a:t>
            </a:r>
            <a:r>
              <a:rPr b="0" lang="ru-RU" sz="2400" spc="-1" strike="noStrike">
                <a:solidFill>
                  <a:srgbClr val="000000"/>
                </a:solidFill>
                <a:latin typeface="Calisto MT"/>
              </a:rPr>
              <a:t>п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Отваги пол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учок таранил носом вол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5" descr="Картинка 15 из 3061"/>
          <p:cNvPicPr/>
          <p:nvPr/>
        </p:nvPicPr>
        <p:blipFill>
          <a:blip r:embed="rId1"/>
          <a:stretch/>
        </p:blipFill>
        <p:spPr>
          <a:xfrm>
            <a:off x="5105520" y="838080"/>
            <a:ext cx="3429000" cy="2035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7" descr=""/>
          <p:cNvPicPr/>
          <p:nvPr/>
        </p:nvPicPr>
        <p:blipFill>
          <a:blip r:embed="rId2"/>
          <a:stretch/>
        </p:blipFill>
        <p:spPr>
          <a:xfrm>
            <a:off x="4572000" y="4724280"/>
            <a:ext cx="41148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</cp:lastModifiedBy>
  <dcterms:modified xsi:type="dcterms:W3CDTF">2012-01-12T18:32:1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