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6779-787D-40F3-8BA8-AE4AE07E5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043A-A6A9-429E-97F2-DB64AFD1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569D-610E-49B4-995D-054A687B4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3AB4-1448-49AB-B48D-902557896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A32BB-71A3-4BC3-BF5C-81AEA04CE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94D7-9F02-4894-A82D-3B49FE88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752F-BB65-4D14-8823-720E6585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1685-1237-4424-B32B-CE4A701A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7507-B26D-48F8-A454-E463E2BB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A7E2-A72A-4DE7-8F8F-BAB3215F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A54AC-E89A-4B69-8242-A7E251BF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BBF4-A356-4248-BF99-420192AF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D5B6-51BD-4F79-A7F2-EE58D7FF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B2EA-E433-4DDA-ACC2-278BB88E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1BE8-C42C-474F-A610-40090264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579A-F4B1-49F1-98B1-5D98F8C40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AB25-34E0-417D-BAAF-F99E5C4BD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18FFD-8FF6-4D2C-BF27-05D6ABED9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8E997-2C51-4752-84AE-FE388FB1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FE240-D3D4-439C-BF05-FD116A24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334B4-8071-412F-9E7A-D77D522C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FED47-445E-4C7A-BDD1-C06F6393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91B8-39A1-41DE-BC61-4021689E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21853-B247-4FC8-9B9B-9514C022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A06A2-D5FD-4F3A-BF16-79A356A9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F7F4C-EF16-4D62-A742-DE0876C4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C2D85-B911-4DB7-99D8-E9524CEA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C9B91-F6BF-4D30-8CB4-74EFA1D8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E70F9-9012-42C2-B3B6-41904267B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0B274-2EB5-411B-B78E-48D4C6865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D04AF-DCB1-4DBC-B1C0-83681DD2D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3BDEF-0B75-4F54-9A3A-E6247BCF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9271E-2C32-41D5-A793-CC174591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4637-5F06-4111-BF30-34C9D1B5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E74CB-CE8B-4B2F-A422-2EE54AFB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19C6A-81E5-452F-8951-3A08FDA4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DDC5A-E0B2-426B-AB5A-CB4D0896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582B7-BA6A-4593-A9D8-F7082A2C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A6652-4FC3-4DD3-9ECD-F0950A4C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A55C2-32A0-4CDA-97E9-FD7537D2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05938-8E15-49C8-AE66-08FE19B7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6DF78-9C2A-4D54-BEE5-A48536A32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6DCAC-F775-4C04-B31B-CE6A435AE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84010-E897-41FD-B7DE-55081012E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867E-C3ED-47FE-AE84-5196FF6A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AD5D5-C482-4A1B-B6A4-C1052C60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9D594-2442-4031-ACA1-2DE3E7A9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D715F-9378-4708-8D2E-2715C7C1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C9F86-B09D-4DF7-9D39-8C938D73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D5959-CF1E-432C-BBBB-2A071F15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E58A9-2BB4-4D52-95A9-AF263852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506F8-2672-4291-9758-CD2C7C2E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89CC9-793C-4097-9C9F-FD6F903A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07BEC-E930-4B1F-A951-CB113FE0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131D5-7D36-4FE0-8949-29136FCEA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AF09-C4F6-4CF2-89BA-589B9433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4AFF4-219B-4AF1-9097-5FE2AD247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D13AA-7843-415F-BC49-EE6B9F36E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24CE3-D138-40DB-B99D-3776DE47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24A3C-CAB2-45C1-833B-61335113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2D984-C9AF-48EF-B35E-5ADE217F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1609C-B435-4C81-BB3E-B742915B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AA723-381E-46A3-BE81-DE4ED4AB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61E3A-2499-4003-B003-46F31962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AE17D-21FD-40FF-9D2A-9C9B022B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F082D-F2BE-4B05-B01F-562CD430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C8A9-DFE3-4F6C-8AF3-B9418AE9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5BE40-6F16-44EB-A6B2-2900E0D4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110CD-AD07-4CD8-B24F-85C761445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0A507-B1D8-47C0-9D73-68CA65BA2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986A3-B626-41C2-BB0A-5E94DAC83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9C3DF-3C83-42CF-BF08-B8138D84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719A5-597B-4639-9978-94346096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323A9-B4D2-47E3-A719-73C20CA3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486AF-DF64-4C3A-B995-D045A10B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68B55-CE7F-417C-861D-0115ECDB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AEA19-AEDC-4BA9-9A6B-AB32462C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5A9E-B9F2-4773-9987-C90B763E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7E18E-58B0-4A73-819A-F07C24A0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15D6B-31D2-4AAF-A364-8FC760B7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E8538-3330-4743-83E7-0653ED60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BD360-3F89-45F0-99AC-67B94BDB7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70C1F-3D6B-464F-9E80-B2AE3A6E6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9AA00-17E1-40A7-A003-8668883C9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B3EE5-7F67-4937-9C7A-4E400A47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F8BDA-3668-4637-95AE-A229923C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C1262-55D7-49C2-A3CD-B2F794DE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7C4AE-A4C0-4823-B866-5F54FBF3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B68E-4935-43F5-8D77-E92416FB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70976-EA9C-4C12-ACD2-2C5B3669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EC37F-8B45-4690-8FBC-32AE3EA0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7511D-A904-49CB-851B-B6EC039F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DD89D-5CA6-400A-BF06-63CF5E94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74518-C108-4FC9-846F-9382F17D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7BB92-0054-4759-BF2F-FD2460B57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17206-54D3-48A7-A739-700199E0B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EF1C-E9E2-494E-8068-5BA068A7FE8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F34A-9A4B-455C-83E3-545CF1A421A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8EEF-971C-49FE-A240-A6A62AB67F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49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0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1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388F-E888-4360-B1C3-478F5655CA2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3278-4F18-4AF4-ACC4-853CCD57EC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3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9CFA-AEC1-49C4-96C9-C585785B11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9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2A2E-1673-4267-90AD-60E8DCA480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340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41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42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43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3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1AD7-6FF2-429B-BC10-E48EAA15154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ttachments-blog.tut.by/4426/files/2009/01/03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u.foto.radikal.ru/0705/8d/196aedbedb99.jpg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Урок-путешествие</a:t>
            </a:r>
            <a:br>
              <a:rPr sz="5700"/>
            </a:b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3352680" y="5562360"/>
            <a:ext cx="56390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озлова И.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МАОУСОШ №8 г.Старая Русса Новгородской обл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7" name="WordArt 5"/>
          <p:cNvSpPr txBox="1"/>
          <p:nvPr/>
        </p:nvSpPr>
        <p:spPr>
          <a:xfrm>
            <a:off x="2209680" y="3352680"/>
            <a:ext cx="4572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натоки рыб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Станция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анимательная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76312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) Какая рыба в Амазонке самая опасная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) Какие рыбы имеют оружие на носу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)Название каких рыб состоят из трёх букв ? К каким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ряда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х относят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) Давно уже замечено , что большинство видов акул находятся в движении с первого до последнего дня своей жизни и только некоторые неподвижно отдыхают на дне. С чем это связано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) Тело рыб обтекаемой формы . Голова их сразу переходит в туловище , а шеи нет вообще . Хвост у рыб  очень мускулистый и массивный . С чем это связано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) На свежей или вяленной рыбе можно убедиться   , что её позвоночник легко гнётся вправо и влево , но при попытки согнуть его в вертикальной плоскости у вас ничего не получится. Как вы это объясните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) Сельские жители вырыли котлован и заполнили его водой можно ли запустить туда рыб ? Ответ обоснуйте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Головоломка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«Живое ископаемое»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609480" y="2133720"/>
          <a:ext cx="4191120" cy="310824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Ё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Rectangle 89"/>
          <p:cNvSpPr/>
          <p:nvPr/>
        </p:nvSpPr>
        <p:spPr>
          <a:xfrm>
            <a:off x="5715000" y="2590920"/>
            <a:ext cx="2819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Найдите начал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головоломки 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о непрерывной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линии прочитайте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какую рыбу и почему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называют живым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ископаемым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Обобщить знания учащихся по теме «Рыбы», проверить их качество, развить познавательный, мыслительный интерес к биологии и коммуникабельность учеников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5028840"/>
            <a:ext cx="3810240" cy="560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9ddcd"/>
                </a:solidFill>
                <a:latin typeface="Arial"/>
              </a:rPr>
              <a:t>Л.Н. Толстой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ЗНАНИЯ ТОЛЬКО ТОГДА ЗНАНИЯ , КОГДА ОНИ ПРИОБРЕТЕНЫ УСИЛИЯМИ СВОЕЙ МЫСЛИ , А НЕ ПАМЯТЬЮ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                      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0" y="228600"/>
            <a:ext cx="4572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танция «Загадочная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згадайте загадки. К каким классам относятся рыбы, о которых  пойдет речь и назови признаки классов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Драчун и забияка живет в воде, кости на спине, и щука не проглотит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 человек, не зверь, а с усам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У нее во рту пила. Под водой она жила. Всех пугала, всех глотала. А теперь в котел попала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 зубастой трехметровой рыбкой знакомство было бы ошибкой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95680" y="277560"/>
            <a:ext cx="41148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Занимательна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5" name="Picture 4" descr="Картинка 21 из 12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609480"/>
            <a:ext cx="3200400" cy="30355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Картинка 2 из 7005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1295280"/>
            <a:ext cx="5216400" cy="18208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Картинка 15 из 6364"/>
          <p:cNvPicPr/>
          <p:nvPr/>
        </p:nvPicPr>
        <p:blipFill>
          <a:blip r:embed="rId5"/>
          <a:stretch/>
        </p:blipFill>
        <p:spPr>
          <a:xfrm>
            <a:off x="152280" y="3809880"/>
            <a:ext cx="3962520" cy="25099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7" descr="Картинка 3 из 3323"/>
          <p:cNvPicPr/>
          <p:nvPr/>
        </p:nvPicPr>
        <p:blipFill>
          <a:blip r:embed="rId6"/>
          <a:stretch/>
        </p:blipFill>
        <p:spPr>
          <a:xfrm>
            <a:off x="4419720" y="3505320"/>
            <a:ext cx="411480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Станция </a:t>
            </a: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f3f2d9"/>
                </a:solidFill>
                <a:latin typeface="Arial Black"/>
              </a:rPr>
              <a:t>Экологическая</a:t>
            </a: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e6da"/>
                </a:solidFill>
                <a:latin typeface="Verdana"/>
              </a:rPr>
              <a:t>1.</a:t>
            </a:r>
            <a:r>
              <a:rPr b="0" lang="ru-RU" sz="1800" spc="-1" strike="noStrike">
                <a:solidFill>
                  <a:srgbClr val="e6e6da"/>
                </a:solidFill>
                <a:latin typeface="Verdana"/>
              </a:rPr>
              <a:t>Пруд постигла беда : произошёл сброс нефти . Поверхность пруда покрылась тонкой радужной плёнкой . Плёнка не оказала влияния мальков из икры , но затем способствовала их гибели . Почему нефтяная плёнка опасна для мальков ?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da"/>
                </a:solidFill>
                <a:latin typeface="Verdana"/>
              </a:rPr>
              <a:t>2.В ручье , берега которого были покрыты лесом , обитала форель. Через некоторое время после того , как лес вырубили , форели в ручье не стало. Как можно объяснить этот факт ?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6e6da"/>
                </a:solidFill>
                <a:latin typeface="Verdana"/>
              </a:rPr>
              <a:t>3. Водоём  в небольшой степени был загрязнён радиоактивными веществами . Проведённые лабораторные анализы показали , что хищные рыбы являются самыми загрязнёнными организмами в этом водоёме. Как можно объяснить этот факт ?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танция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знавательная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 Прав ли был ученик , сказав 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ыбы зимой спят с закрытыми глазами ?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”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чему 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 Определите , какие виды рыбы здесь зашифрованы и определите к какому отряду они относятся ?  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авлтпо                         г) аск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шаку                           д) сду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цтеун                          е) атшрп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Picture 5" descr="Картинка 17 из 2143"/>
          <p:cNvPicPr/>
          <p:nvPr/>
        </p:nvPicPr>
        <p:blipFill>
          <a:blip r:embed="rId1"/>
          <a:stretch/>
        </p:blipFill>
        <p:spPr>
          <a:xfrm>
            <a:off x="2362320" y="3962520"/>
            <a:ext cx="1676160" cy="11030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Картинка 20 из 2394"/>
          <p:cNvPicPr/>
          <p:nvPr/>
        </p:nvPicPr>
        <p:blipFill>
          <a:blip r:embed="rId2"/>
          <a:stretch/>
        </p:blipFill>
        <p:spPr>
          <a:xfrm>
            <a:off x="6172200" y="3657600"/>
            <a:ext cx="1908000" cy="14320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Картинка 34 из 558"/>
          <p:cNvPicPr/>
          <p:nvPr/>
        </p:nvPicPr>
        <p:blipFill>
          <a:blip r:embed="rId3"/>
          <a:stretch/>
        </p:blipFill>
        <p:spPr>
          <a:xfrm>
            <a:off x="2362320" y="5181480"/>
            <a:ext cx="1676160" cy="12369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8" descr=""/>
          <p:cNvPicPr/>
          <p:nvPr/>
        </p:nvPicPr>
        <p:blipFill>
          <a:blip r:embed="rId4"/>
          <a:stretch/>
        </p:blipFill>
        <p:spPr>
          <a:xfrm>
            <a:off x="6172200" y="5257800"/>
            <a:ext cx="19051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танция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знавательная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”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Была зима - такая, что с ветве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мочком белым падал вороб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кованные в ледяные глыбы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речных глубинах задыхались рыб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чему зимой может происходить замор ( удушье ) рыб 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)Очнувшись от зимней спячки , рыбы стремятся попасть в участок водоёма с быстрым течением воды . Почему 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)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вестны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лучаи вылова рыбаками крупных , нормально упитанных щук , которые были совершенно слепые. Почему отсутствие зрения не сказалось существенно на жизни рыб 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6) В старинных документах имеются сведенья , что Пётр Первый запретил звонить в колокола во время нереста лещей. Это вызвало недовольство у духовенства .Какими соображениями руководствовался  Пётр Первый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09632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танция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Литературная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7386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Закончи пословиц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а бы рыба , а 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дешь спать на берегу , не …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ба в реке - ещё не 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ба мелка , да 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хожу во все заливы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 и </a:t>
            </a:r>
            <a:r>
              <a:rPr b="0" lang="ru-RU" sz="3600" spc="-1" strike="noStrike">
                <a:solidFill>
                  <a:srgbClr val="000000"/>
                </a:solidFill>
                <a:latin typeface="comic"/>
              </a:rPr>
              <a:t>щ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акой-нибудь поживы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лю я край родных о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ё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уршит камыш, горит кост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вижу как плывут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. Куда идут  они куда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худ и щу</a:t>
            </a:r>
            <a:r>
              <a:rPr b="0" lang="ru-RU" sz="2400" spc="-1" strike="noStrike">
                <a:solidFill>
                  <a:srgbClr val="000000"/>
                </a:solidFill>
                <a:latin typeface="Calisto MT"/>
              </a:rPr>
              <a:t>п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Отваги пол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учок таранил носом вол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5" descr="Картинка 15 из 3061"/>
          <p:cNvPicPr/>
          <p:nvPr/>
        </p:nvPicPr>
        <p:blipFill>
          <a:blip r:embed="rId1"/>
          <a:stretch/>
        </p:blipFill>
        <p:spPr>
          <a:xfrm>
            <a:off x="5105520" y="838080"/>
            <a:ext cx="3429000" cy="2035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7" descr=""/>
          <p:cNvPicPr/>
          <p:nvPr/>
        </p:nvPicPr>
        <p:blipFill>
          <a:blip r:embed="rId2"/>
          <a:stretch/>
        </p:blipFill>
        <p:spPr>
          <a:xfrm>
            <a:off x="4572000" y="4724280"/>
            <a:ext cx="41148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1-12T18:32:1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