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9B1C-3BDB-434E-A16C-AA2FC880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DFD2-9C6A-405C-BC53-3AEA3692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F690-658C-4FAC-BA16-FAFA7887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350C-5AF1-410C-A7E3-9BEE9350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C217-B49D-4993-9A72-5AFC98A8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ACAD-9192-479A-B483-84941967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CA29-A394-49EE-BD93-1351A415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AD33-3968-42D8-A919-731EAD54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ACD0-E172-40DA-A177-A4DD52A7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0037-2375-46F9-AFB0-41CE2B3E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6246-533E-407A-B8ED-35399476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8971-C76A-4D39-A2E0-8C01294C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7219-CD7A-431B-9F8D-E16D3A40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9764-C74B-434F-BCDC-82267888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8D46-B33D-4C0F-A9E9-BFD88DA5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F434-628A-4167-B4BC-8B3A7410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FA2B-7F57-449E-80E3-9CFE701C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6A807-1308-491B-803D-6AAD3700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CF5BE-94DD-4CA2-96AD-09964BF0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F43BE-8B57-4C87-AF18-70D9CBCC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617E7-948D-4B85-93AF-9013F91A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90125-2563-4F8A-9350-89FE069B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F6D1-80B5-465D-926C-0DF01FB2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79C36-6F4F-4673-9A2B-69EEB792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AB471-8D5A-4519-A9EC-4497FD6A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9ECD9-1182-43B5-9226-3DD72951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60B59-3320-42CE-B3C8-097E3688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B9A7C-E5EC-492B-AED4-345BC367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3C5F3-BBF5-4A4F-8F42-CC744CA4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924BF-1E84-4BAD-94ED-43169260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8B754-60F8-40A7-9755-1C177667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2512E-12FD-44BF-8E85-76A18685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5F104-3026-4960-B878-14144F82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789-BBB4-4B2B-BD7F-06DF3299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0BE60-E8DC-4314-B5D0-800E87D2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5DDBF-B80A-4CF3-ADE5-FC328B32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CD221-327B-4106-82BD-3D34DAD8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7C053-D2B2-4F3A-9701-9E054E96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A8CE2-2012-476D-B8A1-80D9DC96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C54F9-4851-4A07-9398-FC35496F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D85E6-2632-41B0-A2AA-54A5331F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39A7C-001F-442A-A66B-2CF7CD72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D3B6C-175A-4856-A382-D53C86D7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BF3D8-7B12-47B9-ACC0-5269777C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479C-4733-4921-AADF-72A270A6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405CA-E9E9-45C7-A970-77F52200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D9335-04AB-4F16-BA2F-FF776E71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E313F-6129-4723-9482-630AE3A5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4B0F0-DE97-4265-A054-D485BB46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2ED16-C111-4856-B701-DB144331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B72DF-3D9A-4FDB-B34C-5A591BC0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8A408-5D51-4157-9B43-3DBCEFAB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8E7D5-D75E-47C9-A2ED-A8202877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4DD2D-B0D4-496D-AD1F-037BF482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3101C-DA9C-4433-AC60-6C407912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AAF-01A9-4421-AE8B-0CED6B4D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2E270-BB2D-4EE7-ACFB-C8244E7B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147F9-4B60-4E9E-AED1-6107E117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372B2-9CA8-46F5-8C15-07551B15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F9FD1-BF88-4CD8-9B16-F02B5B43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4559E-9CF3-4395-A4DE-56BC44F0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9C2B6-0561-4F88-89A1-ADB2861E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4FF6A-BC3A-4A60-B793-7DF94CEA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B0C6F-5F7B-4097-A917-787E8514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B2862-B4BD-481A-A31F-7DC63FA6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1CB80-001F-427C-A68B-F83BEE7C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865-2B3E-48E1-BE2E-D5946B17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C7224-C247-4BEB-96EB-1D002CA4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5577F-E0DC-4330-894C-7EF7FB5E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2E075-2597-43C7-9AF0-FFF28660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26694-3028-4B3F-9D59-6A4B8159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C0C0A-1D18-4B2A-9A9F-818D6D83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47B21-2E17-442C-97B5-AC01EDA9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CF8E0-B888-41C6-8097-4F9E3041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799A9-2B8D-4D6A-953F-4C4D96DB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5CE21-EDE9-4B78-B0FF-6FF57B12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DD025-85E7-46D3-BA07-095B370F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AF8F-2124-4F2C-A381-CD1D0DB7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0AECC-50C5-4C31-A70B-B74ECA7B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E5D20-CB1C-4426-B4F2-761D1F77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7FA4C-13EC-470E-9129-AEE01282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252A0-F513-489A-82F0-230B0C73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B44A4-A28A-48DB-9151-DF570A09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56A4B-C77F-4CFB-85E9-1B6AE6BF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212FD-CB20-47C0-A786-92A3EB9C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01FBB-41EC-4BAF-8D84-3B673836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430D4-A44C-44F4-A2DA-175DE05C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25999-1CAA-4E66-8DE9-2758ADF7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0435-02AD-41F1-9349-BBF315F7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C667B-BD9C-445F-B8D4-9197ADEA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40D07-0F46-4ECC-8FD9-450229D2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8E0EC-214F-4321-9FBB-AA6C05F1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3A160-C0AF-444B-8102-B7476331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0CFA9-372E-4DBF-B07A-307D3359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1D8A4-56F9-4CDD-AE2A-A6E15884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7F74B-8EAB-47ED-B4E1-90A574B2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3074-2C59-4074-9CAD-E78A26C0AD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95C0-BF83-4A0E-8DBD-4D544ABB77B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4090-0FCB-4BB4-BF92-302E920C16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4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0A20-EC81-4C16-A407-A2E1E0207E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C9A2-47DC-4F97-99F0-469FFE93C4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3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B134-852E-49A1-9607-86068FC576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8EFB-BE2B-463F-8983-73A6F4262B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4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3E6D-28B9-4A82-8250-0B1FA24FD6A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ttachments-blog.tut.by/4426/files/2009/01/03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.foto.radikal.ru/0705/8d/196aedbedb99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Урок-путешествие</a:t>
            </a:r>
            <a:br>
              <a:rPr sz="5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3352680" y="5562360"/>
            <a:ext cx="5639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злова И.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ОУСОШ №8 г.Старая Русса Новгородской об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7" name="WordArt 5"/>
          <p:cNvSpPr txBox="1"/>
          <p:nvPr/>
        </p:nvSpPr>
        <p:spPr>
          <a:xfrm>
            <a:off x="2209680" y="3352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натоки рыб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нимательна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Какая рыба в Амазонке самая опасная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Какие рыбы имеют оружие на носу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Название каких рыб состоят из трёх букв ? К каки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яда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х относят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Давно уже замечено , что большинство видов акул находятся в движении с первого до последнего дня своей жизни и только некоторые неподвижно отдыхают на дне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Тело рыб обтекаемой формы . Голова их сразу переходит в туловище , а шеи нет вообще . Хвост у рыб  очень мускулистый и массивный 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) На свежей или вяленной рыбе можно убедиться   , что её позвоночник легко гнётся вправо и влево , но при попытки согнуть его в вертикальной плоскости у вас ничего не получится. Как вы это объясните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) Сельские жители вырыли котлован и заполнили его водой можно ли запустить туда рыб ? Ответ обоснуйте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Головоломк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«Живое ископаемое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09480" y="2133720"/>
          <a:ext cx="4191120" cy="310824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89"/>
          <p:cNvSpPr/>
          <p:nvPr/>
        </p:nvSpPr>
        <p:spPr>
          <a:xfrm>
            <a:off x="5715000" y="2590920"/>
            <a:ext cx="2819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йдите начал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оловоломки 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 непрерывно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инии прочитайте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акую рыбу и почем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зывают живым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скопаемы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бобщить знания учащихся по теме «Рыбы», проверить их качество, развить познавательный, мыслительный интерес к биологии и коммуникабельность учен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5028840"/>
            <a:ext cx="3810240" cy="56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9ddcd"/>
                </a:solidFill>
                <a:latin typeface="Arial"/>
              </a:rPr>
              <a:t>Л.Н. Толсто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ЗНАНИЯ ТОЛЬКО ТОГДА ЗНАНИЯ , КОГДА ОНИ ПРИОБРЕТЕНЫ УСИЛИЯМИ СВОЕЙ МЫСЛИ , А НЕ ПАМЯТЬЮ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танция «Загадочная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гадайте загадки. К каким классам относятся рыбы, о которых  пойдет речь и назови признаки классов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рачун и забияка живет в воде, кости на спине, и щука не проглоти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человек, не зверь, а с усам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 нее во рту пила. Под водой она жила. Всех пугала, всех глотала. А теперь в котел попал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 зубастой трехметровой рыбкой знакомство было бы ошибко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95680" y="277560"/>
            <a:ext cx="4114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Занимательна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5" name="Picture 4" descr="Картинка 21 из 1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09480"/>
            <a:ext cx="3200400" cy="3035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Картинка 2 из 700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1295280"/>
            <a:ext cx="5216400" cy="1820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Картинка 15 из 6364"/>
          <p:cNvPicPr/>
          <p:nvPr/>
        </p:nvPicPr>
        <p:blipFill>
          <a:blip r:embed="rId5"/>
          <a:stretch/>
        </p:blipFill>
        <p:spPr>
          <a:xfrm>
            <a:off x="152280" y="3809880"/>
            <a:ext cx="3962520" cy="2509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Картинка 3 из 3323"/>
          <p:cNvPicPr/>
          <p:nvPr/>
        </p:nvPicPr>
        <p:blipFill>
          <a:blip r:embed="rId6"/>
          <a:stretch/>
        </p:blipFill>
        <p:spPr>
          <a:xfrm>
            <a:off x="4419720" y="3505320"/>
            <a:ext cx="41148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f3f2d9"/>
                </a:solidFill>
                <a:latin typeface="Arial Black"/>
              </a:rPr>
              <a:t>Экологическая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da"/>
                </a:solidFill>
                <a:latin typeface="Verdana"/>
              </a:rPr>
              <a:t>1.</a:t>
            </a: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Пруд постигла беда : произошёл сброс нефти . Поверхность пруда покрылась тонкой радужной плёнкой . Плёнка не оказала влияния мальков из икры , но затем способствовала их гибели . Почему нефтяная плёнка опасна для мальков ?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2.В ручье , берега которого были покрыты лесом , обитала форель. Через некоторое время после того , как лес вырубили , форели в ручье не стало. Как можно объяснить этот факт ?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6e6da"/>
                </a:solidFill>
                <a:latin typeface="Verdana"/>
              </a:rPr>
              <a:t>3. Водоём  в небольшой степени был загрязнён радиоактивными веществами . Проведённые лабораторные анализы показали , что хищные рыбы являются самыми загрязнёнными организмами в этом водоёме. Как можно объяснить этот факт ?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Прав ли был ученик , сказав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бы зимой спят с закрытыми глазами 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чему 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Определите , какие виды рыбы здесь зашифрованы и определите к какому отряду они относятся ?  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авлтпо                         г) аск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шаку                           д) сду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цтеун                          е) атшрп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5" descr="Картинка 17 из 2143"/>
          <p:cNvPicPr/>
          <p:nvPr/>
        </p:nvPicPr>
        <p:blipFill>
          <a:blip r:embed="rId1"/>
          <a:stretch/>
        </p:blipFill>
        <p:spPr>
          <a:xfrm>
            <a:off x="2362320" y="3962520"/>
            <a:ext cx="1676160" cy="11030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Картинка 20 из 2394"/>
          <p:cNvPicPr/>
          <p:nvPr/>
        </p:nvPicPr>
        <p:blipFill>
          <a:blip r:embed="rId2"/>
          <a:stretch/>
        </p:blipFill>
        <p:spPr>
          <a:xfrm>
            <a:off x="6172200" y="365760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Картинка 34 из 558"/>
          <p:cNvPicPr/>
          <p:nvPr/>
        </p:nvPicPr>
        <p:blipFill>
          <a:blip r:embed="rId3"/>
          <a:stretch/>
        </p:blipFill>
        <p:spPr>
          <a:xfrm>
            <a:off x="2362320" y="5181480"/>
            <a:ext cx="1676160" cy="1236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4"/>
          <a:stretch/>
        </p:blipFill>
        <p:spPr>
          <a:xfrm>
            <a:off x="6172200" y="525780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Была зима - такая, что с ветв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мочком белым падал вороб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ованные в ледяные глыб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чных глубинах задыхались рыб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чему зимой может происходить замор ( удушье )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Очнувшись от зимней спячки , рыбы стремятся попасть в участок водоёма с быстрым течением воды . Почему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вестн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учаи вылова рыбаками крупных , нормально упитанных щук , которые были совершенно слепые. Почему отсутствие зрения не сказалось существенно на жизни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) В старинных документах имеются сведенья , что Пётр Первый запретил звонить в колокола во время нереста лещей. Это вызвало недовольство у духовенства .Какими соображениями руководствовался  Пётр Первый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9632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танция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Литературная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386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Закончи пословиц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бы рыба , 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ешь спать на берегу , не 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в реке - ещё не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мелка , д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ожу во все заливы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и </a:t>
            </a: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щ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ой-нибудь поживы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лю я край родных о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ршит камыш, горит кос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вижу как плыву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. Куда идут  они куда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уд и щу</a:t>
            </a:r>
            <a:r>
              <a:rPr b="0" lang="ru-RU" sz="2400" spc="-1" strike="noStrike">
                <a:solidFill>
                  <a:srgbClr val="000000"/>
                </a:solidFill>
                <a:latin typeface="Calisto MT"/>
              </a:rPr>
              <a:t>п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тваги пол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учок таранил носом вол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5" descr="Картинка 15 из 3061"/>
          <p:cNvPicPr/>
          <p:nvPr/>
        </p:nvPicPr>
        <p:blipFill>
          <a:blip r:embed="rId1"/>
          <a:stretch/>
        </p:blipFill>
        <p:spPr>
          <a:xfrm>
            <a:off x="5105520" y="838080"/>
            <a:ext cx="3429000" cy="2035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2"/>
          <a:stretch/>
        </p:blipFill>
        <p:spPr>
          <a:xfrm>
            <a:off x="4572000" y="4724280"/>
            <a:ext cx="41148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2T18:32:1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