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gif" ContentType="image/gif"/>
  <Override PartName="/ppt/media/image25.jpeg" ContentType="image/jpeg"/>
  <Override PartName="/ppt/media/image24.jpeg" ContentType="image/jpeg"/>
  <Override PartName="/ppt/media/image19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87D5-9387-40E7-A865-DFA23B1F4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A629-95E8-4422-9D47-BB26975382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крепляем материал. Анимация стрелки.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486-9F99-4AE2-A8F5-09B5C66C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BEE-556F-4A0C-8C64-CE3484B5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4C2-9215-42CE-8032-6A284867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403-96F9-4BFE-A275-7F612BF9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02E-A47C-4954-B924-426BD13A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958-68EE-42AB-BBD7-754C6458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7AB-F820-4529-8F2C-C6CD307B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08B-E223-4054-B9ED-D2146810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203-3357-4700-A1D9-DD3DE270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4CC-FE8C-4AF4-BD5F-CBB541E6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5BDE-37C3-48E6-A761-48CB8168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E84-6D09-48ED-B32D-DE27EE23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3763-2E11-48FF-81C1-F69E27CCC38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EC57-8CC1-4381-903C-2C7791A1F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rcitaty.com/darwin.html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pwr.ru/" TargetMode="External"/><Relationship Id="rId2" Type="http://schemas.openxmlformats.org/officeDocument/2006/relationships/hyperlink" Target="http://www.epwr.ru/quotauthor/384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549360"/>
            <a:ext cx="439128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шунова Ирина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. Королев,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СОШ №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221000"/>
            <a:ext cx="4043160" cy="1922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ять пиков активности: с 5.00 до 8.00, с 11.00 до 12.00, с 16.00-17.00, с 20.00 до 21.00 и с 0.00 до 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88296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435640" y="28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т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итании долгожит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ко выражена молочно-растительная направленность, низкое потребление соли, сахара, растительного масла, мяса, рыбы. Также высокое содержание в рационе зернобобовых (кукуруза, фасоль), кисломолочных продуктов, острых приправ, разнообразных растительных соусов, пря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тание населения с низкой продолжительностью жи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личается низким потреблением молока и кисломолочных продуктов, овощей (кроме картофеля), фруктов. Однако существенно выше потребление свиного сала, свиного мяса, растительного масла, и в целом питание носит углеводно-жировую направл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297080" cy="151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187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1470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70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405000"/>
            <a:ext cx="68421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и основных принципа составляют суть рационального пит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весие между поступающей с пищей энергией и энергией, расходуемой человеком в процессе жизне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влетворение потребностей организма человека в определенном количестве, качественном составе и соотношении пищевых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людение режима питания (то, что мы никогда не дела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024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1990440"/>
            <a:ext cx="81723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ександр Александрович Люб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дающийся  ученый и мыслитель, биолог, математ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учета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еление времени на категории, где критерием выступает достойная цель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увеличения времени основной категории за счет других категорий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вномерность и ритмичность нагрузок: трудные работы с ут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дование легкой и тяжелой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тказ от срочных поруч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ланирование и обратная связь по самоотч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ход из-под давления внешних обстоятельств, в частности, отказ от высоких должностей, административ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бездефицитности сил, т.е. приход к началу следующего цикла труд-отдых без накопления устал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3827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621000"/>
            <a:ext cx="706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щев сам формулировал короч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Я не беру обязатель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Не беру сроч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В случае утомления сейчас же прекращаю работу и отдых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Сплю много, часов дес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Комбинирую утомительные занятия с прия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Чтение художественной литературы - основная раб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2707920"/>
            <a:ext cx="71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редотачиваюсь на том, что  дано контролировать, и отключаюсь оттого, что выше моих возмо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476244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991080"/>
            <a:ext cx="57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ирает только хилое и слабое, здоровое и сильное всегда выходит победителем в борьбе за существ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Чарльз Дар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4292640"/>
            <a:ext cx="62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один совет, который сохранит наше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й в себе настрой, полный любви к делу, которым ты занимаешься, не забывая о том, что это выб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.И. Кутова (психол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3320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0000" y="26938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 здоровье люди молят богов. Но они не понимают, что его сохранение зависит от них самих». Гипп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0000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187280" y="1557360"/>
            <a:ext cx="6913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здоров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. ОБОЛКИ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ший преподаватель кафедры философии ИФиП УрО Р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дат философских нау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Газета Уральского отделения Российской академии наук (Январь 2009, №2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ктор медицинских наук В. ГРИН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«Наука и жизнь» 2005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иоритм- Вики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айт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v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рв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epwr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quotauthor/38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4032000" cy="358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59280" y="404640"/>
            <a:ext cx="3672000" cy="2159280"/>
          </a:xfrm>
          <a:prstGeom prst="cloudCallout">
            <a:avLst>
              <a:gd name="adj1" fmla="val -89342"/>
              <a:gd name="adj2" fmla="val -95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5-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вый общий подъем активности. Организм постепенно просыпаетс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и начинает работу всех своих орга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3068640"/>
            <a:ext cx="2809800" cy="1584360"/>
          </a:xfrm>
          <a:prstGeom prst="wedgeRoundRectCallout">
            <a:avLst>
              <a:gd name="adj1" fmla="val -18870"/>
              <a:gd name="adj2" fmla="val -10120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исходит выброс адреналина. Давление повышается, частота сердечных сокращений увеличивается. Иммунитет особенно сил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24000" y="4508640"/>
            <a:ext cx="8489880" cy="2166840"/>
            <a:chOff x="324000" y="4508640"/>
            <a:chExt cx="8489880" cy="21668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24000" y="4581360"/>
              <a:ext cx="15253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908000" y="5084640"/>
              <a:ext cx="140688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3348000" y="4508640"/>
              <a:ext cx="202248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5435640" y="5013360"/>
              <a:ext cx="133020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7020000" y="5084640"/>
              <a:ext cx="1793880" cy="134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611280" y="2997360"/>
            <a:ext cx="3889440" cy="1584000"/>
          </a:xfrm>
          <a:prstGeom prst="wedgeRoundRectCallout">
            <a:avLst>
              <a:gd name="adj1" fmla="val -5305"/>
              <a:gd name="adj2" fmla="val -8757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иод наибольшей активности желудка. Все, съеденное в это время, максимально усваивается. Позаботьтесь о том, чтобы это была полезная пищ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00360" y="0"/>
            <a:ext cx="4319640" cy="2708280"/>
          </a:xfrm>
          <a:prstGeom prst="cloudCallout">
            <a:avLst>
              <a:gd name="adj1" fmla="val -75837"/>
              <a:gd name="adj2" fmla="val -20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ается спад активности, не беритесь за сложные дела, требующие пристального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34 из 64000"/>
          <p:cNvPicPr/>
          <p:nvPr/>
        </p:nvPicPr>
        <p:blipFill>
          <a:blip r:embed="rId1"/>
          <a:stretch/>
        </p:blipFill>
        <p:spPr>
          <a:xfrm>
            <a:off x="1116000" y="2852640"/>
            <a:ext cx="3024360" cy="306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59280" y="3068640"/>
            <a:ext cx="36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ерь самое время для умственной и физической активности. В это время все органы включаются в активную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наивысшей физической и духовн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27200" y="90360"/>
            <a:ext cx="53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ять спа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ткажите себе в чашечке ч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тоже содержит кофеин, но намного меньш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 кофе, это важно для «сердеч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, когда организм вырабат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 всего желудочного с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нно в это время нужно обе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400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33408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к работоспособности человека, это время, когда лучше всего проявляется и его физическая активность, и умственная деятельность дает хорошие результаты. Также сейчас активно протекают процессы пищеварения и очищения всего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лы возвращаются голова становиться ясной. Занятия идут легко, без труда. Долговременная память работает наилучш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333360"/>
            <a:ext cx="7618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ый подъем физической активности, но спад умственной. Самое время заняться спортом или просто пройтись, чтобы собрать мысли воед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и замедляются. Обостряется чувство голода. Надо перекусить, чтобы поддержать убывающи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496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404640"/>
            <a:ext cx="81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кровяное давление организма. В это время часты беспочвенные конфликты и ссоры, сдерживайте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физическая активность, и для активного спорта сейчас самое время. Еще можно поуж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3116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53200">
            <a:off x="2268000" y="4292640"/>
            <a:ext cx="2016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35640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ова начинает активно работать мозг. Если у вас еще осталась незаконченная работа – самое время ее с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45600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241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35280" y="620640"/>
            <a:ext cx="568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м начинает настраиваться на отдых и потихоньку засып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альное время для того, чтобы пойти спать, ведь не зря сном красоты называют сон до полун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672000" cy="3276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16360" y="2924280"/>
            <a:ext cx="3527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32:01Z</dcterms:created>
  <dc:creator>user</dc:creator>
  <dc:description/>
  <dc:language>en-US</dc:language>
  <cp:lastModifiedBy>КарМаН</cp:lastModifiedBy>
  <dcterms:modified xsi:type="dcterms:W3CDTF">2011-11-03T09:31:40Z</dcterms:modified>
  <cp:revision>20</cp:revision>
  <dc:subject/>
  <dc:title>Слайд 1</dc:title>
</cp:coreProperties>
</file>