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gif" ContentType="image/gif"/>
  <Override PartName="/ppt/media/image25.jpeg" ContentType="image/jpeg"/>
  <Override PartName="/ppt/media/image24.jpeg" ContentType="image/jpeg"/>
  <Override PartName="/ppt/media/image19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209A-BB17-4237-9584-FCDFAC1337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C438-524B-4581-BF55-A11A9C3367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CDF4-29D3-48A8-95AA-6E580FB8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496-28E1-4B79-AA10-D88DB7AF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AD2-5046-47E8-ACAD-37A3BCDA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0A5-259F-46C6-88B4-5021BE1A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D7A-F291-4678-8E08-628F6FAD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766-25DA-44F3-9971-D237399E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2CC-59C0-4F28-BFB9-AF4922C4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F9F-8D0D-48BA-A42A-4D999421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B83-3D06-4FE2-9B18-71827573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D00-308C-4072-8038-9E3218BF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263-B8E5-47CF-A3E7-CBE8F176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3E4-6C55-4E74-9EC7-7F37031D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CEE2-5BC7-4FC3-84B6-5906A8F30BF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9618-829E-4C4D-AFD9-443ACB5B6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rcitaty.com/darwin.html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wr.ru/" TargetMode="External"/><Relationship Id="rId2" Type="http://schemas.openxmlformats.org/officeDocument/2006/relationships/hyperlink" Target="http://www.epwr.ru/quotauthor/384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549360"/>
            <a:ext cx="43912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шунова Ири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 Королев,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СО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221000"/>
            <a:ext cx="4043160" cy="1922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ять пиков активности: с 5.00 до 8.00, с 11.00 до 12.00, с 16.00-17.00, с 20.00 до 21.00 и с 0.00 до 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8829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28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итании долгожит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о выражена молочно-растительная направленность, низкое потребление соли, сахара, растительного масла, мяса, рыбы. Также высокое содержание в рационе зернобобовых (кукуруза, фасоль), кисломолочных продуктов, острых приправ, разнообразных растительных соусов, пря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тание населения с низкой продолжительностью жи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личается низким потреблением молока и кисломолочных продуктов, овощей (кроме картофеля), фруктов. Однако существенно выше потребление свиного сала, свиного мяса, растительного масла, и в целом питание носит углеводно-жировую направл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297080" cy="151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405000"/>
            <a:ext cx="6842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и основных принципа составляют суть рационального пи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весие между поступающей с пищей энергией и энергией, расходуемой человеком в процессе жизне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ение потребностей организма человека в определенном количестве, качественном составе и соотношении пищевы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людение режима питания (то, что мы никогда не дела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024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1990440"/>
            <a:ext cx="8172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Александрович Люб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дающийся  ученый и мыслитель, биолог, математ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учета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ление времени на категории, где критерием выступает достойная цель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увеличения времени основной категории за счет других категорий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вномерность и ритмичность нагрузок: трудные работы с ут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дование легкой и тяжел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каз от срочных поруч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ланирование и обратная связь по самоотч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ход из-под давления внешних обстоятельств, в частности, отказ от высоких должностей, административ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бездефицитности сил, т.е. приход к началу следующего цикла труд-отдых без накопления устал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827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621000"/>
            <a:ext cx="706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щев сам формулировал коро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Я не беру обязатель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е беру сроч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 случае утомления сейчас же прекращаю работу и отдых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плю много, часов дес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омбинирую утомительные занятия с прия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Чтение художественной литературы - основная раб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70792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редотачиваюсь на том, что  дано контролировать, и отключаюсь оттого, что выше моих возм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47624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99108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ирает только хилое и слабое, здоровое и сильное всегда выходит победителем в борьбе за существ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Чарльз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4292640"/>
            <a:ext cx="62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один совет, который сохранит наш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й в себе настрой, полный любви к делу, которым ты занимаешься, не забывая о том, что это выб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.И. Кутова (психо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320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0000" y="26938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здоровье люди молят богов. Но они не понимают, что его сохранение зависит от них самих». 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0000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87280" y="1557360"/>
            <a:ext cx="6913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. ОБОЛКИ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философии ИФиП УрО Р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дат философских нау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Газета Уральского отделения Российской академии наук (Январь 2009, №2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ктор медицинских наук В. ГРИН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Наука и жизнь» 2005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иоритм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йт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v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в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epwr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quotauthor/38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0320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59280" y="404640"/>
            <a:ext cx="3672000" cy="2159280"/>
          </a:xfrm>
          <a:prstGeom prst="cloudCallout">
            <a:avLst>
              <a:gd name="adj1" fmla="val -89342"/>
              <a:gd name="adj2" fmla="val -9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5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ый общий подъем активности. Организм постепенно просып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и начинает работу всех своих орга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3068640"/>
            <a:ext cx="2809800" cy="1584360"/>
          </a:xfrm>
          <a:prstGeom prst="wedgeRoundRectCallout">
            <a:avLst>
              <a:gd name="adj1" fmla="val -18870"/>
              <a:gd name="adj2" fmla="val -10120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исходит выброс адреналина. Давление повышается, частота сердечных сокращений увеличивается. Иммунитет особенно сил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4000" y="4508640"/>
            <a:ext cx="8489880" cy="2166840"/>
            <a:chOff x="324000" y="4508640"/>
            <a:chExt cx="8489880" cy="21668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4581360"/>
              <a:ext cx="15253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908000" y="5084640"/>
              <a:ext cx="1406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348000" y="4508640"/>
              <a:ext cx="20224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5435640" y="5013360"/>
              <a:ext cx="133020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7020000" y="5084640"/>
              <a:ext cx="1793880" cy="134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11280" y="2997360"/>
            <a:ext cx="3889440" cy="1584000"/>
          </a:xfrm>
          <a:prstGeom prst="wedgeRoundRectCallout">
            <a:avLst>
              <a:gd name="adj1" fmla="val -5305"/>
              <a:gd name="adj2" fmla="val -875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иод наибольшей активности желудка. Все, съеденное в это время, максимально усваивается. Позаботьтесь о том, чтобы это была полезная п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00360" y="0"/>
            <a:ext cx="4319640" cy="2708280"/>
          </a:xfrm>
          <a:prstGeom prst="cloudCallout">
            <a:avLst>
              <a:gd name="adj1" fmla="val -75837"/>
              <a:gd name="adj2" fmla="val -20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ется спад активности, не беритесь за сложные дела, требующие пристального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34 из 64000"/>
          <p:cNvPicPr/>
          <p:nvPr/>
        </p:nvPicPr>
        <p:blipFill>
          <a:blip r:embed="rId1"/>
          <a:stretch/>
        </p:blipFill>
        <p:spPr>
          <a:xfrm>
            <a:off x="1116000" y="2852640"/>
            <a:ext cx="3024360" cy="306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59280" y="306864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 самое время для умственной и физической активности. В это время все органы включаются в активн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наивысшей физической и духов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27200" y="90360"/>
            <a:ext cx="53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ять сп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ткажите себе в чашечке ч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тоже содержит кофеин, но намного мень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кофе, это важно для «сердеч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, когда организм выраба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 всего желудочного 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но в это время нужно обе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40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3340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к работоспособности человека, это время, когда лучше всего проявляется и его физическая активность, и умственная деятельность дает хорошие результаты. Также сейчас активно протекают процессы пищеварения и очищения всего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ы возвращаются голова становиться ясной. Занятия идут легко, без труда. Долговременная память работает наилучш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333360"/>
            <a:ext cx="7618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й подъем физической активности, но спад умственной. Самое время заняться спортом или просто пройтись, чтобы собрать мысли воед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и замедляются. Обостряется чувство голода. Надо перекусить, чтобы поддержать убывающи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4640"/>
            <a:ext cx="81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кровяное давление организма. В это время часты беспочвенные конфликты и ссоры, сдерживайте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физическая активность, и для активного спорта сейчас самое время. Еще можно поуж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3116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53200">
            <a:off x="2268000" y="4292640"/>
            <a:ext cx="2016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5640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ова начинает активно работать мозг. Если у вас еще осталась незаконченная работа – самое время ее с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24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620640"/>
            <a:ext cx="56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м начинает настраиваться на отдых и потихоньку засы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альное время для того, чтобы пойти спать, ведь не зря сном красоты называют сон до полу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672000" cy="327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3527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КарМаН</cp:lastModifiedBy>
  <dcterms:modified xsi:type="dcterms:W3CDTF">2011-11-03T09:31:40Z</dcterms:modified>
  <cp:revision>20</cp:revision>
  <dc:subject/>
  <dc:title>Слайд 1</dc:title>
</cp:coreProperties>
</file>