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3.gif" ContentType="image/gif"/>
  <Override PartName="/ppt/media/image25.jpeg" ContentType="image/jpeg"/>
  <Override PartName="/ppt/media/image24.jpeg" ContentType="image/jpeg"/>
  <Override PartName="/ppt/media/image19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A69E-EECC-4C50-8733-68B7FDF4FC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D593-D08E-4E49-BDB7-313BA6AB42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акрепляем материал. Анимация стрелки. Что это тако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0259-538F-400D-AD74-9AB32527F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31CE-FB7C-489E-9A4D-6525C1AC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DA9C-2372-4885-827C-A2D5A09DD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9880-8DC6-4E84-9CFD-31F8C4CAF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5A6E-CF63-468E-8CBB-BFE3A8C7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70F0-7761-4058-A59C-D29A5380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2E23-58FB-44CE-8447-58BF89E9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519E-650F-40E7-8BDC-A60B4210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D0CA-D3DB-4DC3-B671-03877871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00D3-4DD4-45A5-9AE6-5623FD6D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9E6F-76C6-4EA3-A00A-0E7223A8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6DF3-C6CD-402D-8793-F8B3D897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2FC4-2489-43E8-8209-184CE8B3B1E8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37E1-60AC-4B58-9ED6-C91397977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ircitaty.com/darwin.html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pwr.ru/" TargetMode="External"/><Relationship Id="rId2" Type="http://schemas.openxmlformats.org/officeDocument/2006/relationships/hyperlink" Target="http://www.epwr.ru/quotauthor/384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26920" y="549360"/>
            <a:ext cx="439128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Биологические ритмы организма челове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ь би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оршунова Ирина Валенти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. Королев, Моск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УСОШ №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4221000"/>
            <a:ext cx="4043160" cy="1922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ять пиков активности: с 5.00 до 8.00, с 11.00 до 12.00, с 16.00-17.00, с 20.00 до 21.00 и с 0.00 до 1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859280" y="1268280"/>
            <a:ext cx="388296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435640" y="288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ит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питании долгожител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зко выражена молочно-растительная направленность, низкое потребление соли, сахара, растительного масла, мяса, рыбы. Также высокое содержание в рационе зернобобовых (кукуруза, фасоль), кисломолочных продуктов, острых приправ, разнообразных растительных соусов, пря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итание населения с низкой продолжительностью жиз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тличается низким потреблением молока и кисломолочных продуктов, овощей (кроме картофеля), фруктов. Однако существенно выше потребление свиного сала, свиного мяса, растительного масла, и в целом питание носит углеводно-жировую направле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451640" y="0"/>
            <a:ext cx="1297080" cy="1512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18716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147080" y="72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70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16000" y="405000"/>
            <a:ext cx="684216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и основных принципа составляют суть рационального пит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вновесие между поступающей с пищей энергией и энергией, расходуемой человеком в процессе жизне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довлетворение потребностей организма человека в определенном количестве, качественном составе и соотношении пищевых вещест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блюдение режима питания (то, что мы никогда не делае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9640" y="3933720"/>
            <a:ext cx="1143000" cy="1079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148360" y="3860640"/>
            <a:ext cx="302400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95280" y="1990440"/>
            <a:ext cx="817236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лександр Александрович Любищ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ыдающийся  ученый и мыслитель, биолог, математ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тема учета време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деление времени на категории, где критерием выступает достойная цель жиз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инцип увеличения времени основной категории за счет других категорий рабо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вномерность и ритмичность нагрузок: трудные работы с ут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чередование легкой и тяжелой рабо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тказ от срочных поруч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ланирование и обратная связь по самоотчет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ыход из-под давления внешних обстоятельств, в частности, отказ от высоких должностей, административной рабо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инцип бездефицитности сил, т.е. приход к началу следующего цикла труд-отдых без накопления устал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38276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42920" y="621000"/>
            <a:ext cx="7064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юбищев сам формулировал короч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Я не беру обязательных поруч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Не беру срочных поруч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В случае утомления сейчас же прекращаю работу и отдых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Сплю много, часов дес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Комбинирую утомительные занятия с прият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Чтение художественной литературы - основная рабо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76360" y="2707920"/>
            <a:ext cx="71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редотачиваюсь на том, что  дано контролировать, и отключаюсь оттого, что выше моих возмож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76360" y="3429000"/>
            <a:ext cx="476244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32000" y="991080"/>
            <a:ext cx="576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мирает только хилое и слабое, здоровое и сильное всегда выходит победителем в борьбе за существ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Чарльз Дарв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47640" y="4292640"/>
            <a:ext cx="626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ще один совет, который сохранит наше здоров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й в себе настрой, полный любви к делу, которым ты занимаешься, не забывая о том, что это выбо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Е.И. Кутова (психоло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451640" y="260280"/>
            <a:ext cx="13320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340000" y="269388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О здоровье люди молят богов. Но они не понимают, что его сохранение зависит от них самих». Гиппокр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948360" y="2852640"/>
            <a:ext cx="10000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1187280" y="1557360"/>
            <a:ext cx="691380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удьте  здоров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«Биологические ритмы организма человека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С. ОБОЛКИН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рший преподаватель кафедры философии ИФиП УрО РАН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ндидат философских наук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Газета Уральского отделения Российской академии наук (Январь 2009, №2-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октор медицинских наук В. ГРИН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рнал «Наука и жизнь» 2005 г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Биоритм- Википе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Сайт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vi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рв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epwr.r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›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quotauthor/384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4032000" cy="3581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859280" y="404640"/>
            <a:ext cx="3672000" cy="2159280"/>
          </a:xfrm>
          <a:prstGeom prst="cloudCallout">
            <a:avLst>
              <a:gd name="adj1" fmla="val -89342"/>
              <a:gd name="adj2" fmla="val -95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5-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вый общий подъем активности. Организм постепенно просыпаетс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и начинает работу всех своих орган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08720" y="3068640"/>
            <a:ext cx="2809800" cy="1584360"/>
          </a:xfrm>
          <a:prstGeom prst="wedgeRoundRectCallout">
            <a:avLst>
              <a:gd name="adj1" fmla="val -18870"/>
              <a:gd name="adj2" fmla="val -101203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6-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оисходит выброс адреналина. Давление повышается, частота сердечных сокращений увеличивается. Иммунитет особенно силе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24000" y="4508640"/>
            <a:ext cx="8489880" cy="2166840"/>
            <a:chOff x="324000" y="4508640"/>
            <a:chExt cx="8489880" cy="216684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324000" y="4581360"/>
              <a:ext cx="1525320" cy="11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1908000" y="5084640"/>
              <a:ext cx="1406880" cy="133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4"/>
            <a:stretch/>
          </p:blipFill>
          <p:spPr>
            <a:xfrm>
              <a:off x="3348000" y="4508640"/>
              <a:ext cx="2022480" cy="10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5"/>
            <a:stretch/>
          </p:blipFill>
          <p:spPr>
            <a:xfrm>
              <a:off x="5435640" y="5013360"/>
              <a:ext cx="1330200" cy="16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6"/>
            <a:stretch/>
          </p:blipFill>
          <p:spPr>
            <a:xfrm>
              <a:off x="7020000" y="5084640"/>
              <a:ext cx="1793880" cy="134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611280" y="2997360"/>
            <a:ext cx="3889440" cy="1584000"/>
          </a:xfrm>
          <a:prstGeom prst="wedgeRoundRectCallout">
            <a:avLst>
              <a:gd name="adj1" fmla="val -5305"/>
              <a:gd name="adj2" fmla="val -87574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7-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риод наибольшей активности желудка. Все, съеденное в это время, максимально усваивается. Позаботьтесь о том, чтобы это была полезная пищ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700360" y="0"/>
            <a:ext cx="4319640" cy="2708280"/>
          </a:xfrm>
          <a:prstGeom prst="cloudCallout">
            <a:avLst>
              <a:gd name="adj1" fmla="val -75837"/>
              <a:gd name="adj2" fmla="val -2010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9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чинается спад активности, не беритесь за сложные дела, требующие пристального вним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Картинка 34 из 64000"/>
          <p:cNvPicPr/>
          <p:nvPr/>
        </p:nvPicPr>
        <p:blipFill>
          <a:blip r:embed="rId1"/>
          <a:stretch/>
        </p:blipFill>
        <p:spPr>
          <a:xfrm>
            <a:off x="1116000" y="2852640"/>
            <a:ext cx="3024360" cy="3060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859280" y="3068640"/>
            <a:ext cx="360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перь самое время для умственной и физической активности. В это время все органы включаются в активную рабо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ремя наивысшей физической и духовной актив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27200" y="90360"/>
            <a:ext cx="536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ять спад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откажите себе в чашечке ч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 тоже содержит кофеин, но намного меньш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м кофе, это важно для «сердечник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ремя, когда организм вырабаты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льше всего желудочного со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енно в это время нужно обед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47640" y="3068640"/>
            <a:ext cx="5400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11280" y="334080"/>
            <a:ext cx="7920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ик работоспособности человека, это время, когда лучше всего проявляется и его физическая активность, и умственная деятельность дает хорошие результаты. Также сейчас активно протекают процессы пищеварения и очищения всего орган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лы возвращаются голова становиться ясной. Занятия идут легко, без труда. Долговременная память работает наилучшим обра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700360" y="3716280"/>
            <a:ext cx="3456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71640" y="333360"/>
            <a:ext cx="7618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вый подъем физической активности, но спад умственной. Самое время заняться спортом или просто пройтись, чтобы собрать мысли воеди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акции замедляются. Обостряется чувство голода. Надо перекусить, чтобы поддержать убывающие си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79640" y="2565360"/>
            <a:ext cx="4968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11280" y="404640"/>
            <a:ext cx="81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ышается кровяное давление организма. В это время часты беспочвенные конфликты и ссоры, сдерживайте с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ышается физическая активность, и для активного спорта сейчас самое время. Еще можно поужин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076720" y="3716280"/>
            <a:ext cx="3311640" cy="2881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 rot="2053200">
            <a:off x="2268000" y="4292640"/>
            <a:ext cx="20163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68360" y="356400"/>
            <a:ext cx="48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нова начинает активно работать мозг. Если у вас еще осталась незаконченная работа – самое время ее сдел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3456000" cy="2881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859280" y="2492280"/>
            <a:ext cx="32418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835280" y="620640"/>
            <a:ext cx="568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м начинает настраиваться на отдых и потихоньку засып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деальное время для того, чтобы пойти спать, ведь не зря сном красоты называют сон до полуно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8360" y="2924280"/>
            <a:ext cx="3672000" cy="3276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716360" y="2924280"/>
            <a:ext cx="352764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15:32:01Z</dcterms:created>
  <dc:creator>user</dc:creator>
  <dc:description/>
  <dc:language>en-US</dc:language>
  <cp:lastModifiedBy>КарМаН</cp:lastModifiedBy>
  <dcterms:modified xsi:type="dcterms:W3CDTF">2011-11-03T09:31:40Z</dcterms:modified>
  <cp:revision>20</cp:revision>
  <dc:subject/>
  <dc:title>Слайд 1</dc:title>
</cp:coreProperties>
</file>