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41E8-6A18-44DC-8B84-C4E30FF0C5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8064-BAA6-4385-86BE-682BA7020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F09-6CB0-469A-A0AE-40D1059E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BC2-6DB6-4C2C-9777-F30A2BDA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919-80B7-4566-B180-74708157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EBF-8F1B-40A3-9E1B-67CD33E9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E5D-8858-4786-875C-007F26C8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AFA-598A-4A70-B755-3F021777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38A-A88D-4AFE-A1CD-096CA43E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782-B9C4-4D43-8207-979E684A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536-01FD-45C7-996F-80865E22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F5D-9AD4-4625-8DF2-AE53CE6B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C23-6FBC-4EC1-8D8D-6CA4FDD1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BDC-3373-4326-A137-246D4689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54AC-B14B-4923-91AB-6253832D8AC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6A12-3F5F-4821-AA4C-4EAAB478E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rcitaty.com/darwin.html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wr.ru/" TargetMode="External"/><Relationship Id="rId2" Type="http://schemas.openxmlformats.org/officeDocument/2006/relationships/hyperlink" Target="http://www.epwr.ru/quotauthor/384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4391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шунов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Королев,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21000"/>
            <a:ext cx="4043160" cy="1922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ь пиков активности: с 5.00 до 8.00, с 11.00 до 12.00, с 16.00-17.00, с 20.00 до 21.00 и с 0.00 до 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882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28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итании долгожи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о выражена молочно-растительная направленность, низкое потребление соли, сахара, растительного масла, мяса, рыбы. Также высокое содержание в рационе зернобобовых (кукуруза, фасоль), кисломолочных продуктов, острых приправ, разнообразных растительных соусов, пря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тание населения с низкой продолжительностью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личается низким потреблением молока и кисломолочных продуктов, овощей (кроме картофеля), фруктов. Однако существенно выше потребление свиного сала, свиного мяса, растительного масла, и в целом питание носит углеводно-жировую направ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5000"/>
            <a:ext cx="6842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и основных принципа составляют суть рационального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весие между поступающей с пищей энергией и энергией, расходуемой человеком в процессе жизне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ие потребностей организма человека в определенном количестве, качественном составе и соотношении пищевы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 режима питания (то, что мы никогда не дела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24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990440"/>
            <a:ext cx="8172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Александрович Люб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дающийся  ученый и мыслитель, биолог, матема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учета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ление времени на категории, где критерием выступает достойная цель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увеличения времени основной категории за счет других категорий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вномерность и ритмичность нагрузок: трудные работы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дование легкой и тяжел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срочных пору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ирование и обратная связь по самоотч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 из-под давления внешних обстоятельств, в частности, отказ от высоких должностей, административ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бездефицитности сил, т.е. приход к началу следующего цикла труд-отдых без накопления устал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827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21000"/>
            <a:ext cx="70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щев сам формулировал коро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Я не беру обязатель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беру сроч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 случае утомления сейчас же прекращаю работу и отдых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плю много, часов дес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омбинирую утомительные занятия с прия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Чтение художественной литературы - основная раб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70792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редотачиваюсь на том, что  дано контролировать, и отключаюсь оттого, что выше мои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47624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9910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ирает только хилое и слабое, здоровое и сильное всегда выходит победителем в борьбе за существ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429264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ин совет, который сохранит наш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 в себе настрой, полный любви к делу, которым ты занимаешься, не забывая о том, что это выб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.И. Кутова (псих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320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0000" y="26938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здоровье люди молят богов. Но они не понимают, что его сохранение зависит от них самих». 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0000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1557360"/>
            <a:ext cx="6913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. ОБОЛКИ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философии ИФиП УрО 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дат философских нау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азета Уральского отделения Российской академии наук (Январь 2009, №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ктор медицинских наук В. ГРИН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Наука и жизнь» 2005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иоритм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й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v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pwr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quotauthor/38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032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404640"/>
            <a:ext cx="3672000" cy="2159280"/>
          </a:xfrm>
          <a:prstGeom prst="cloudCallout">
            <a:avLst>
              <a:gd name="adj1" fmla="val -89342"/>
              <a:gd name="adj2" fmla="val -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общий подъем активности. Организм постепенно просып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начинает работу всех своих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068640"/>
            <a:ext cx="2809800" cy="1584360"/>
          </a:xfrm>
          <a:prstGeom prst="wedgeRoundRectCallout">
            <a:avLst>
              <a:gd name="adj1" fmla="val -18870"/>
              <a:gd name="adj2" fmla="val -10120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дит выброс адреналина. Давление повышается, частота сердечных сокращений увеличивается. Иммунитет особенно си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4508640"/>
            <a:ext cx="8489880" cy="2166840"/>
            <a:chOff x="324000" y="4508640"/>
            <a:chExt cx="8489880" cy="2166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15253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908000" y="5084640"/>
              <a:ext cx="1406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348000" y="4508640"/>
              <a:ext cx="2022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435640" y="5013360"/>
              <a:ext cx="133020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7020000" y="5084640"/>
              <a:ext cx="1793880" cy="13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3889440" cy="1584000"/>
          </a:xfrm>
          <a:prstGeom prst="wedgeRoundRectCallout">
            <a:avLst>
              <a:gd name="adj1" fmla="val -5305"/>
              <a:gd name="adj2" fmla="val -875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 наибольшей активности желудка. Все, съеденное в это время, максимально усваивается. Позаботьтесь о том, чтобы это была полезная п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0360" y="0"/>
            <a:ext cx="4319640" cy="2708280"/>
          </a:xfrm>
          <a:prstGeom prst="cloudCallout">
            <a:avLst>
              <a:gd name="adj1" fmla="val -75837"/>
              <a:gd name="adj2" fmla="val -20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ется спад активности, не беритесь за сложные дела, требующие присталь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34 из 64000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06864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самое время для умственной и физической активности. В это время все органы включаются в актив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наивысшей физической и духов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7200" y="90360"/>
            <a:ext cx="53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ять сп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ткажите себе в чашечке 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тоже содержит кофеин, но намного мен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кофе, это важно для «сердеч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когда организм вы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 всего желудочного 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в это время нужно обе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3340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к работоспособности человека, это время, когда лучше всего проявляется и его физическая активность, и умственная деятельность дает хорошие результаты. Также сейчас активно протекают процессы пищеварения и очищения все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ы возвращаются голова становиться ясной. Занятия идут легко, без труда. Долговременная память работает наилучш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33360"/>
            <a:ext cx="761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й подъем физической активности, но спад умственной. Самое время заняться спортом или просто пройтись, чтобы собрать мысли воед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замедляются. Обостряется чувство голода. Надо перекусить, чтобы поддержать убывающ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81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кровяное давление организма. В это время часты беспочвенные конфликты и ссоры, сдерживайте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физическая активность, и для активного спорта сейчас самое время. Еще можно поуж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53200">
            <a:off x="2268000" y="4292640"/>
            <a:ext cx="2016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5640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начинает активно работать мозг. Если у вас еще осталась незаконченная работа – самое время ее с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24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62064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м начинает настраиваться на отдых и потихоньку засы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альное время для того, чтобы пойти спать, ведь не зря сном красоты называют сон до полу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52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КарМаН</cp:lastModifiedBy>
  <dcterms:modified xsi:type="dcterms:W3CDTF">2011-11-03T09:31:40Z</dcterms:modified>
  <cp:revision>20</cp:revision>
  <dc:subject/>
  <dc:title>Слайд 1</dc:title>
</cp:coreProperties>
</file>