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FEA4-0FCF-4079-8A0C-C0EB4CE1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770B-F06D-43A7-98C6-16234906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F5FD-302D-45E7-882F-50034025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D572-F389-4183-A7E5-DCF1725D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B1F9-109F-4578-8CFE-50145FD2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9453-A98E-412F-80D8-AE6F7806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EF8D-8B92-4FF8-906E-B10E75BC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A2F9-7AE4-4896-895E-40EAB178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D238-677C-4F44-8BBC-ECEE1561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CB69-AC8F-48AE-BFA6-6C67E220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00DD-36FB-40C0-9F3B-9781AC26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12E7-BEDA-4439-95BE-F1B473E9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E29F-12D7-48E0-964C-9E63FCE4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8482-42F7-4763-AF27-BA409B2C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E4FF-AF49-4E21-A3A1-98D7442F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B362-7391-468F-9244-F5398991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9B5F-0345-4767-A4B9-A5392B83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3C42-8495-41D1-A63C-40479162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680C-C9D7-4EFF-A356-07D60730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7382-D32D-46FB-9FBA-0F7A6F3F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A4E6-6AA3-448B-8484-75C96FF1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364D-69EC-4F8C-B731-6D6508DC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4A5-FE42-4C00-90DC-74B94A63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3BAC-A873-4D00-A600-89565895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1238-ECC0-4E2C-9668-CD73F1AAA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811B-484E-4C13-859A-F2A3F5C99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0000" y="2421000"/>
            <a:ext cx="82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ипы сред обитани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способленность к н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5589720"/>
            <a:ext cx="43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шакова Л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Брединская СОШ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 и приспособленность к ней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–недоста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 –по-раз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ровнее, чем на воздух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 -недоста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пательны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або развиты органы чув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льно развито обоняние, осяз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Кто занимает наземно-воздушную среду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744720" cy="201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3529080" cy="208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3600360" cy="223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643280" y="3860640"/>
            <a:ext cx="3384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Кто занимает водную среду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20000" y="1844640"/>
            <a:ext cx="1908000" cy="201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2017800" cy="201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484360" y="1844640"/>
            <a:ext cx="2016360" cy="2017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79280" y="1916280"/>
            <a:ext cx="194328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27746E-006 L -2.77778E-007 0.17826 E">
                                      <p:cBhvr>
                                        <p:cTn id="14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4.45087E-006 L -6.11111E-006 0.24115 E">
                                      <p:cBhvr>
                                        <p:cTn id="14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Кто занимает почвенную среду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3628" t="21326" r="51755" b="32552"/>
          <a:stretch/>
        </p:blipFill>
        <p:spPr>
          <a:xfrm>
            <a:off x="179280" y="1916280"/>
            <a:ext cx="2024280" cy="2041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77080" y="1916280"/>
            <a:ext cx="2014560" cy="208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3280" y="1844640"/>
            <a:ext cx="2087640" cy="2089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340000" y="1916280"/>
            <a:ext cx="2087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4509E-006 L -0.62222 0.38798 E">
                                      <p:cBhvr>
                                        <p:cTn id="15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63785 0.35653 E">
                                      <p:cBhvr>
                                        <p:cTn id="154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Выберите организмы, живущие в водной среде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020000" y="1628640"/>
            <a:ext cx="180000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411280" y="1628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643280" y="1628640"/>
            <a:ext cx="1800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7884 L 0.004 0.41433 E">
                                      <p:cBhvr>
                                        <p:cTn id="16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44509E-006 L -5.55556E-007 0.30404 E">
                                      <p:cBhvr>
                                        <p:cTn id="16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Выберите правильное утверждение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Летучие мыши населяют наземно-воздушную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У всех водных животных орган передвижения-плав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Изменение температуры воздуха - это фактор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Дельфин и акула имеют внешнее сходство, потому что населяют одну и ту же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Большинство насекомых занимает водную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Пиявки занимают водную среду об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На растения оказывают влияние только факторы неживой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У  крота плоские передние лапы с большими когтями, так как он живет в поч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114-1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162864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Среда обитания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это все то, что окружает организм и прямо или косвенно на него влия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68360" y="47628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кторы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3240" y="3130560"/>
            <a:ext cx="29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450864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не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4360" y="321300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ятель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619280" y="1125360"/>
            <a:ext cx="165744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1125360"/>
            <a:ext cx="0" cy="331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1125360"/>
            <a:ext cx="11527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24000" y="333360"/>
            <a:ext cx="51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еда об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70028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емно-воздуш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1844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0720" y="19162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76360" y="98100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98100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43640" y="981000"/>
            <a:ext cx="1368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2837" t="34236" r="27556" b="-378"/>
          <a:stretch/>
        </p:blipFill>
        <p:spPr>
          <a:xfrm>
            <a:off x="3203640" y="234936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2987640" cy="364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35640" y="3213000"/>
            <a:ext cx="2808360" cy="364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Наземно-воздушная среда обитания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3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300720" y="1916280"/>
            <a:ext cx="2374920" cy="230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268360" y="4581360"/>
            <a:ext cx="2232360" cy="2089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788000" y="4581360"/>
            <a:ext cx="2303280" cy="2089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232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и приспособленность к ней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- не всегд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значительно ме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нехватке воды- запас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топад, отлет птиц, смена шер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ивно передвигаются- бег, прыжки, по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Водная среда обитания.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376360" cy="2303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84720" y="1628640"/>
            <a:ext cx="2303640" cy="2233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63640" y="4221000"/>
            <a:ext cx="2232000" cy="237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427640" y="4221000"/>
            <a:ext cx="2376360" cy="2303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419640" y="1628640"/>
            <a:ext cx="216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обитания и приспособленность к ней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 -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– не достато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 – меняется мень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 – не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способления для пла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ения живут у поверх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вотные живут повсемес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Примеры животных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2055960"/>
            <a:ext cx="3662280" cy="3519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2749" t="21029" r="50938" b="34889"/>
          <a:stretch/>
        </p:blipFill>
        <p:spPr>
          <a:xfrm>
            <a:off x="5003640" y="2060640"/>
            <a:ext cx="3529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3:38:18Z</dcterms:created>
  <dc:creator>User</dc:creator>
  <dc:description/>
  <dc:language>en-US</dc:language>
  <cp:lastModifiedBy>КарМаН</cp:lastModifiedBy>
  <dcterms:modified xsi:type="dcterms:W3CDTF">2011-11-02T13:20:23Z</dcterms:modified>
  <cp:revision>9</cp:revision>
  <dc:subject/>
  <dc:title>Слайд 1</dc:title>
</cp:coreProperties>
</file>