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6.png" ContentType="image/png"/>
  <Override PartName="/ppt/media/image15.png" ContentType="image/png"/>
  <Override PartName="/ppt/media/image3.jpeg" ContentType="image/jpeg"/>
  <Override PartName="/ppt/media/image30.png" ContentType="image/png"/>
  <Override PartName="/ppt/media/image5.png" ContentType="image/png"/>
  <Override PartName="/ppt/media/image28.png" ContentType="image/png"/>
  <Override PartName="/ppt/media/image27.png" ContentType="image/png"/>
  <Override PartName="/ppt/media/image4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1.jpeg" ContentType="image/jpeg"/>
  <Override PartName="/ppt/media/image10.png" ContentType="image/png"/>
  <Override PartName="/ppt/media/image14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2.jpeg" ContentType="image/jpeg"/>
  <Override PartName="/ppt/media/image19.png" ContentType="image/png"/>
  <Override PartName="/ppt/media/image21.png" ContentType="image/png"/>
  <Override PartName="/ppt/media/image22.png" ContentType="image/png"/>
  <Override PartName="/ppt/media/image23.png" ContentType="image/png"/>
  <Override PartName="/ppt/media/image24.png" ContentType="image/png"/>
  <Override PartName="/ppt/media/image2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C6037-E1A1-4F23-9072-6B9886C479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a847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66BAB-97C0-43A0-8CD5-3B882A37D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a8472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717FD-C1C4-42A5-A1A3-8F164EB450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a847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837BB-B0C5-4249-8021-C9762F352C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7A631-B63A-46D7-884D-93A3420ED2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a8472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E463B-B925-4B46-AEF2-7B6ED3311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a8472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1BE0E-92DE-4768-ADCB-A2FE143DB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a8472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529A6-7E07-4D07-AFF2-412BA4B2C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a84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494C1-2EEB-487A-89F2-EB930BD7D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508CE-E3E1-4DA0-8D69-48B435AFC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a8472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3BEA5-C787-4D78-85EE-7ABFE0A0F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a8472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491E7-3428-4B2F-9702-52627E041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a8472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BD155-AB11-46B4-95C4-CFD9FADF7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a847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44639-BEDC-4D05-924E-63BDF18E2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a847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FC864-32E0-4EC5-9648-1872B3F52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a8472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99F12-8426-4972-9F77-1C2C5E859C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a8472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E862C-2F95-462A-8427-F781447EBA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a8472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5D05D-F4E5-49F4-8BD7-A91212B99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a8472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5A813-5527-4C22-8E86-54747E875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a84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8605C-CA4E-4864-AB0B-2C0F632A9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F2D45-B96A-43E4-8C2D-F3A6ADB5E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a8472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98A96-8AE3-488C-9976-A629F7FB4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a8472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250E5-16E7-49C5-AA6C-28CEBB5B8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a847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56B21-CFD2-4F3C-BCD5-16FEB82E1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89400"/>
            </a:gs>
            <a:gs pos="100000">
              <a:srgbClr val="38b7c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a84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8a8472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A6722-4D91-4F7F-81D5-16FC9D9474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89400"/>
            </a:gs>
            <a:gs pos="100000">
              <a:srgbClr val="38b7c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a84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8a8472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37AFD-0C2A-414F-B221-70D9724AD8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89400"/>
            </a:gs>
            <a:gs pos="100000">
              <a:srgbClr val="38b7c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900000" y="2421000"/>
            <a:ext cx="824400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Типы сред обитания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Приспособленность к ним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284720" y="5589720"/>
            <a:ext cx="43927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шакова Л.В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У Брединская СОШ№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89400"/>
            </a:gs>
            <a:gs pos="100000">
              <a:srgbClr val="38b7c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a8472"/>
                </a:solidFill>
                <a:latin typeface="Arial"/>
              </a:rPr>
              <a:t>Характеристика среды  и приспособленность к ней</a:t>
            </a:r>
            <a:endParaRPr b="0" lang="en-US" sz="4000" spc="-1" strike="noStrike">
              <a:solidFill>
                <a:srgbClr val="8a8472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911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ислорода –недостаточ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оды –по-разном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Температура- ровнее, чем на воздух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вет -недостаточ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51200" y="1676160"/>
            <a:ext cx="41911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бтекаемая форма те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опательные конеч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лабо развиты органы чувст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ильно развито обоняние, осязани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8" dur="8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6,-86,127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2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9" dur="8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6,-86,127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2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0" dur="8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89400"/>
            </a:gs>
            <a:gs pos="100000">
              <a:srgbClr val="38b7c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a8472"/>
                </a:solidFill>
                <a:latin typeface="Arial"/>
              </a:rPr>
              <a:t>Кто занимает наземно-воздушную среду</a:t>
            </a:r>
            <a:endParaRPr b="0" lang="en-US" sz="4000" spc="-1" strike="noStrike">
              <a:solidFill>
                <a:srgbClr val="8a8472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50920" y="1628640"/>
            <a:ext cx="3744720" cy="201636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4572000" y="1628640"/>
            <a:ext cx="3529080" cy="208764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3"/>
          <a:stretch/>
        </p:blipFill>
        <p:spPr>
          <a:xfrm>
            <a:off x="324000" y="4005360"/>
            <a:ext cx="3600360" cy="223344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4"/>
          <a:stretch/>
        </p:blipFill>
        <p:spPr>
          <a:xfrm>
            <a:off x="4643280" y="3860640"/>
            <a:ext cx="338472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6" dur="50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32" dur="50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89400"/>
            </a:gs>
            <a:gs pos="100000">
              <a:srgbClr val="38b7c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a8472"/>
                </a:solidFill>
                <a:latin typeface="Arial"/>
              </a:rPr>
              <a:t>Кто занимает водную среду</a:t>
            </a:r>
            <a:endParaRPr b="0" lang="en-US" sz="4400" spc="-1" strike="noStrike">
              <a:solidFill>
                <a:srgbClr val="8a8472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7020000" y="1844640"/>
            <a:ext cx="1908000" cy="201600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4643280" y="1844640"/>
            <a:ext cx="2017800" cy="201600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3"/>
          <a:stretch/>
        </p:blipFill>
        <p:spPr>
          <a:xfrm>
            <a:off x="2484360" y="1844640"/>
            <a:ext cx="2016360" cy="201780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4"/>
          <a:stretch/>
        </p:blipFill>
        <p:spPr>
          <a:xfrm>
            <a:off x="179280" y="1916280"/>
            <a:ext cx="1943280" cy="194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4.27746E-006 L -2.77778E-007 0.17826 E">
                                      <p:cBhvr>
                                        <p:cTn id="140" dur="2000" fill="hold"/>
                                        <p:tgtEl>
                                          <p:spTgt spid="1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6.11111E-006 4.45087E-006 L -6.11111E-006 0.24115 E">
                                      <p:cBhvr>
                                        <p:cTn id="144" dur="2000" fill="hold"/>
                                        <p:tgtEl>
                                          <p:spTgt spid="1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89400"/>
            </a:gs>
            <a:gs pos="100000">
              <a:srgbClr val="38b7c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a8472"/>
                </a:solidFill>
                <a:latin typeface="Arial"/>
              </a:rPr>
              <a:t>Кто занимает почвенную среду</a:t>
            </a:r>
            <a:endParaRPr b="0" lang="en-US" sz="4000" spc="-1" strike="noStrike">
              <a:solidFill>
                <a:srgbClr val="8a8472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rcRect l="3628" t="21326" r="51755" b="32552"/>
          <a:stretch/>
        </p:blipFill>
        <p:spPr>
          <a:xfrm>
            <a:off x="179280" y="1916280"/>
            <a:ext cx="2024280" cy="204120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6877080" y="1916280"/>
            <a:ext cx="2014560" cy="208908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3"/>
          <a:stretch/>
        </p:blipFill>
        <p:spPr>
          <a:xfrm>
            <a:off x="4643280" y="1844640"/>
            <a:ext cx="2087640" cy="208908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4"/>
          <a:stretch/>
        </p:blipFill>
        <p:spPr>
          <a:xfrm>
            <a:off x="2340000" y="1916280"/>
            <a:ext cx="2087640" cy="20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1.44509E-006 L -0.62222 0.38798 E">
                                      <p:cBhvr>
                                        <p:cTn id="150" dur="2000" fill="hold"/>
                                        <p:tgtEl>
                                          <p:spTgt spid="1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path" presetID="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Motion origin="layout" path="M 0 0 L 0.63785 0.35653 E">
                                      <p:cBhvr>
                                        <p:cTn id="154" dur="2000" fill="hold"/>
                                        <p:tgtEl>
                                          <p:spTgt spid="1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89400"/>
            </a:gs>
            <a:gs pos="100000">
              <a:srgbClr val="38b7c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a8472"/>
                </a:solidFill>
                <a:latin typeface="Arial"/>
              </a:rPr>
              <a:t>Выберите организмы, живущие в водной среде.</a:t>
            </a:r>
            <a:endParaRPr b="0" lang="en-US" sz="4000" spc="-1" strike="noStrike">
              <a:solidFill>
                <a:srgbClr val="8a8472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7020000" y="1628640"/>
            <a:ext cx="1800000" cy="194328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2411280" y="1628640"/>
            <a:ext cx="1944720" cy="194472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3"/>
          <a:stretch/>
        </p:blipFill>
        <p:spPr>
          <a:xfrm>
            <a:off x="250920" y="1628640"/>
            <a:ext cx="1942920" cy="194328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4643280" y="1628640"/>
            <a:ext cx="1800360" cy="20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4 0.07884 L 0.004 0.41433 E">
                                      <p:cBhvr>
                                        <p:cTn id="160" dur="2000" fill="hold"/>
                                        <p:tgtEl>
                                          <p:spTgt spid="1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1.44509E-006 L -5.55556E-007 0.30404 E">
                                      <p:cBhvr>
                                        <p:cTn id="164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89400"/>
            </a:gs>
            <a:gs pos="100000">
              <a:srgbClr val="38b7c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a8472"/>
                </a:solidFill>
                <a:latin typeface="Arial"/>
              </a:rPr>
              <a:t>Выберите правильное утверждение</a:t>
            </a:r>
            <a:endParaRPr b="0" lang="en-US" sz="4400" spc="-1" strike="noStrike">
              <a:solidFill>
                <a:srgbClr val="8a8472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Летучие мыши населяют наземно-воздушную среду обит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У всех водных животных орган передвижения-плавни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Изменение температуры воздуха - это фактор живой природ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 Дельфин и акула имеют внешнее сходство, потому что населяют одну и ту же среду обит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. Большинство насекомых занимает водную среду обит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. Пиявки занимают водную среду обита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. На растения оказывают влияние только факторы неживой природ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 У  крота плоские передние лапы с большими когтями, так как он живет в почв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89400"/>
            </a:gs>
            <a:gs pos="100000">
              <a:srgbClr val="38b7c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a8472"/>
                </a:solidFill>
                <a:latin typeface="Arial"/>
              </a:rPr>
              <a:t>Домашнее задание.</a:t>
            </a:r>
            <a:endParaRPr b="0" lang="en-US" sz="4400" spc="-1" strike="noStrike">
              <a:solidFill>
                <a:srgbClr val="8a8472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.114-115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89400"/>
            </a:gs>
            <a:gs pos="100000">
              <a:srgbClr val="38b7c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900000" y="1628640"/>
            <a:ext cx="76327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Среда обитания-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это все то, что окружает организм и прямо или косвенно на него влияет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89400"/>
            </a:gs>
            <a:gs pos="100000">
              <a:srgbClr val="38b7c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68360" y="476280"/>
            <a:ext cx="475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Факторы сред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-3240" y="3130560"/>
            <a:ext cx="2990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Факторы живой природ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843280" y="4508640"/>
            <a:ext cx="3673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Факторы неживой природ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724360" y="3213000"/>
            <a:ext cx="309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Деятельность челове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1619280" y="1125360"/>
            <a:ext cx="1657440" cy="194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356000" y="1125360"/>
            <a:ext cx="0" cy="331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724360" y="1125360"/>
            <a:ext cx="1152720" cy="208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89400"/>
            </a:gs>
            <a:gs pos="100000">
              <a:srgbClr val="38b7c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2124000" y="333360"/>
            <a:ext cx="511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Среда обита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0" y="1700280"/>
            <a:ext cx="2916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аземно-воздуш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203640" y="1844640"/>
            <a:ext cx="27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од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300720" y="1916280"/>
            <a:ext cx="28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очвен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76360" y="981000"/>
            <a:ext cx="1224000" cy="71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572000" y="981000"/>
            <a:ext cx="0" cy="93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443640" y="981000"/>
            <a:ext cx="1368360" cy="93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rcRect l="22837" t="34236" r="27556" b="-378"/>
          <a:stretch/>
        </p:blipFill>
        <p:spPr>
          <a:xfrm>
            <a:off x="3203640" y="2349360"/>
            <a:ext cx="3024000" cy="302436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0" y="3213000"/>
            <a:ext cx="2987640" cy="364500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3"/>
          <a:stretch/>
        </p:blipFill>
        <p:spPr>
          <a:xfrm>
            <a:off x="6335640" y="3213000"/>
            <a:ext cx="2808360" cy="36450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89400"/>
            </a:gs>
            <a:gs pos="100000">
              <a:srgbClr val="38b7c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a8472"/>
                </a:solidFill>
                <a:latin typeface="Arial"/>
              </a:rPr>
              <a:t>Наземно-воздушная среда обитания.</a:t>
            </a:r>
            <a:endParaRPr b="0" lang="en-US" sz="4000" spc="-1" strike="noStrike">
              <a:solidFill>
                <a:srgbClr val="8a8472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324000" y="1989000"/>
            <a:ext cx="2303280" cy="208764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6300720" y="1916280"/>
            <a:ext cx="2374920" cy="230472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2268360" y="4581360"/>
            <a:ext cx="2232360" cy="208944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4"/>
          <a:stretch/>
        </p:blipFill>
        <p:spPr>
          <a:xfrm>
            <a:off x="4788000" y="4581360"/>
            <a:ext cx="2303280" cy="208944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5"/>
          <a:stretch/>
        </p:blipFill>
        <p:spPr>
          <a:xfrm>
            <a:off x="3564000" y="1989000"/>
            <a:ext cx="2232000" cy="20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3" dur="8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6,-86,127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2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4" dur="8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6,-86,127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2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5" dur="8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89400"/>
            </a:gs>
            <a:gs pos="100000">
              <a:srgbClr val="38b7c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a8472"/>
                </a:solidFill>
                <a:latin typeface="Arial"/>
              </a:rPr>
              <a:t>Характеристика среды и приспособленность к ней.</a:t>
            </a:r>
            <a:endParaRPr b="0" lang="en-US" sz="4000" spc="-1" strike="noStrike">
              <a:solidFill>
                <a:srgbClr val="8a8472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9400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ислорода достаточн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оды- не всегда достаточн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Температура- значительно меняетс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вета достаточн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48320" y="1676160"/>
            <a:ext cx="419400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и нехватке воды- запас вод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Листопад, отлет птиц, смена шерс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Активно передвигаются- бег, прыжки, поле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2" dur="8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6,-86,127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2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3" dur="8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6,-86,127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2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4" dur="8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89400"/>
            </a:gs>
            <a:gs pos="100000">
              <a:srgbClr val="38b7c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a8472"/>
                </a:solidFill>
                <a:latin typeface="Arial"/>
              </a:rPr>
              <a:t>Водная среда обитания.</a:t>
            </a:r>
            <a:endParaRPr b="0" lang="en-US" sz="4400" spc="-1" strike="noStrike">
              <a:solidFill>
                <a:srgbClr val="8a8472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324000" y="1557360"/>
            <a:ext cx="2376360" cy="230328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84720" y="1628640"/>
            <a:ext cx="2303640" cy="223380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1763640" y="4221000"/>
            <a:ext cx="2232000" cy="237672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4"/>
          <a:stretch/>
        </p:blipFill>
        <p:spPr>
          <a:xfrm>
            <a:off x="4427640" y="4221000"/>
            <a:ext cx="2376360" cy="230364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5"/>
          <a:stretch/>
        </p:blipFill>
        <p:spPr>
          <a:xfrm>
            <a:off x="3419640" y="1628640"/>
            <a:ext cx="216036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1" dur="8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6,-86,127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2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2" dur="8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6,-86,127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2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3" dur="8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89400"/>
            </a:gs>
            <a:gs pos="100000">
              <a:srgbClr val="38b7c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a8472"/>
                </a:solidFill>
                <a:latin typeface="Arial"/>
              </a:rPr>
              <a:t>Характеристика среды обитания и приспособленность к ней.</a:t>
            </a:r>
            <a:endParaRPr b="0" lang="en-US" sz="4000" spc="-1" strike="noStrike">
              <a:solidFill>
                <a:srgbClr val="8a8472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9400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оды - достаточн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ислорода – не достаточно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Температура – меняется меньш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вет – не достаточн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48320" y="1676160"/>
            <a:ext cx="419400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испособления для плава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астения живут у поверхнос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Животные живут повсеместн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0" dur="8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6,-86,127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2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1" dur="8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6,-86,127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2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2" dur="8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89400"/>
            </a:gs>
            <a:gs pos="100000">
              <a:srgbClr val="38b7c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a8472"/>
                </a:solidFill>
                <a:latin typeface="Arial"/>
              </a:rPr>
              <a:t>Примеры животных</a:t>
            </a:r>
            <a:endParaRPr b="0" lang="en-US" sz="4400" spc="-1" strike="noStrike">
              <a:solidFill>
                <a:srgbClr val="8a8472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762120" y="2055960"/>
            <a:ext cx="3662280" cy="351936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2"/>
          <a:srcRect l="2749" t="21029" r="50938" b="34889"/>
          <a:stretch/>
        </p:blipFill>
        <p:spPr>
          <a:xfrm>
            <a:off x="5003640" y="2060640"/>
            <a:ext cx="3529080" cy="35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9" dur="8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6,-86,127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2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0" dur="8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6,-86,127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2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1" dur="8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6T13:38:18Z</dcterms:created>
  <dc:creator>User</dc:creator>
  <dc:description/>
  <dc:language>en-US</dc:language>
  <cp:lastModifiedBy>КарМаН</cp:lastModifiedBy>
  <dcterms:modified xsi:type="dcterms:W3CDTF">2011-11-02T13:20:23Z</dcterms:modified>
  <cp:revision>9</cp:revision>
  <dc:subject/>
  <dc:title>Слайд 1</dc:title>
</cp:coreProperties>
</file>