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D28-8AD8-448E-8783-BDF2A4E1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108-C111-44DC-94E1-897A11CC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642-47E4-4A26-BB52-3E6BD15C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777-5ADE-4F52-865D-B5EA5086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38E1-F9D0-4F98-905F-B8ADE5CB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63DD-7539-473A-A762-0B2B0BFA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F6F1-B760-4430-9B2C-5DD36590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DD45-8EB5-4B03-8E57-2F1B9883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9FDE-AE4E-4FD4-9688-E0C39CC5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0E6E-72B8-4C93-AA02-29E0576A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0A41-202F-4982-B5EF-FE6D51D1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E7F-5375-464F-8A21-BE2FCDD3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18CE-73A7-41CD-9E5A-D7130C44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0E23-4B7D-4DCB-9F8B-D4AE5A6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66A2-9E19-4DFC-A4E4-D9366DDD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A010-CA70-409C-A674-3838F3B7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5AE9-D568-43D5-B6B5-B046DACE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4E0E-AE4F-4ECE-BA14-50134CA7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4571-9DB2-4781-B020-086A711B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726D-3DBE-4D8E-B26E-99464DC3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890C-8E32-4335-A0A9-66E61B43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E3BD2-002B-4AE2-A7E4-7DAABBDB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F77-1A1D-4DC0-9346-2DB81EB6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AFA1F-000D-4FD4-8702-A0E513F4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DC39-6C78-4475-937E-1589C996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6FE2-6DFB-4079-AB13-2FCBEC03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1BD6B-EDF1-493F-A6A3-D857076D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D8B3-E8F7-4132-8B09-0B562663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C1C8-8580-42EA-9D50-3628D904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A7E1-5C9C-43AF-8CB0-FF4DDC6C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888E3-0610-4F17-B632-8D8B5A71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8CEE-CCE6-4DE4-A5E5-6DE482E1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05A39-35EF-4D9C-A240-AFA22A22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E3F-BCEE-47A6-962F-99F5A7B2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958E2-EC18-427A-A750-AC5887EE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DCB4-7ED5-4DDA-AF8F-7622C825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1F53-EA13-4A53-A04E-BF66723D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47DF-49E5-470F-8E33-8AC6FF63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F5063-2E0C-4AE9-9A57-1E065409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2B0C-A491-4526-8E0B-07C02A0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1F9A0-97A2-4326-885C-B9506B67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072D4-2EAD-4A18-BC27-74F1586B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C0DD-5BBB-420C-82DB-ECA6C531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A53-9E94-47F7-B786-E90B614A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8FB-D99F-4885-9A57-DD277671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27A-CB38-4057-8CDE-E654E8E8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0E1D-F423-458C-905E-3AA130D1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60E-EC5A-4F95-B7BA-57927C55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7B5C-B3C3-452A-982B-580996397A2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3314-3076-41B5-B299-C075962F5DC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124D-E8BE-479F-8A50-BA435D6948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3984-8330-4B33-9CC6-622657F9DD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89360"/>
            <a:ext cx="2870280" cy="20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98880" y="2889360"/>
            <a:ext cx="2870280" cy="20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9160" y="2889360"/>
            <a:ext cx="2869920" cy="201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Внутренняя среда организма.</a:t>
            </a:r>
            <a:br>
              <a:rPr sz="6700"/>
            </a:br>
            <a:br>
              <a:rPr sz="6700"/>
            </a:b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Кровь, ее строение и значение</a:t>
            </a:r>
            <a:endParaRPr b="0" lang="en-US" sz="67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6386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ДАНИЛОВА О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Times New Roman"/>
              </a:rPr>
              <a:t>Состав крови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Эритр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032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все эритроциты человека уложить рядом, то получиться лента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3 раз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поясывающая земной шар по эквато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считать число эритроцитов со скоростью 100 шт. в минуту, то для того, чтобы пересчитать их все потребуется почт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50 тысяч л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321600">
            <a:off x="1444320" y="34920"/>
            <a:ext cx="70120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мать только..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3760" y="990360"/>
            <a:ext cx="38098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Лейк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6137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.И. Ме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Свертывание крови </a:t>
            </a:r>
            <a:br>
              <a:rPr sz="4400"/>
            </a:b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(образование тромба)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137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209680"/>
            <a:ext cx="2209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оци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уш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мбоплас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и С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6668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рменты плазмы (глобул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396252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ин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 плазм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4800600"/>
            <a:ext cx="2133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о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растворим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876920"/>
            <a:ext cx="1981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(в виде ни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5791320"/>
            <a:ext cx="2286000" cy="64260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ро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тки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828800"/>
            <a:ext cx="0" cy="4572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4191120"/>
            <a:ext cx="259092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200400"/>
            <a:ext cx="1067040" cy="7621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257440" y="3124080"/>
            <a:ext cx="1066680" cy="9144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029200"/>
            <a:ext cx="243828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267080" y="4343400"/>
            <a:ext cx="1524240" cy="6094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038480" y="5257800"/>
            <a:ext cx="1447920" cy="5335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962160" y="6019920"/>
            <a:ext cx="990360" cy="30456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За 1 день</a:t>
            </a:r>
            <a:endParaRPr b="0" lang="en-US" sz="6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костный мозг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изво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320 млрд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ритроцит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Arial"/>
              </a:rPr>
              <a:t>За 1 секунду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,5 млн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Лабораторная работа № 3 </a:t>
            </a:r>
            <a:br>
              <a:rPr sz="4000"/>
            </a:b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Тема: «Сравнение крови человека с кровью лягушки»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епарате лягушки рассмотрите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сните, в чем их разли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ритроциты и лейкоциты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те препарат крови человека, найдите в поле зрения микроскопа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ти кровяные тельца в своих тетра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отличия эритроцитов человека от эритроцитов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ья кровь, человека или лягушки, перенесет в единицу времени больше кислорода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«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Кровь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как зеркало отражает многое из того, что происходит в организме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»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.А. Касси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Внутренняя среда -</a:t>
            </a:r>
            <a:r>
              <a:rPr b="1" i="1" lang="en-US" sz="5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ая система жидкостей – является естественным продолжением водной основы клет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66ff"/>
                </a:solidFill>
                <a:latin typeface="Times New Roman"/>
              </a:rPr>
              <a:t>Внутренняя среда организма</a:t>
            </a:r>
            <a:endParaRPr b="0" lang="en-US" sz="5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28800" y="1562040"/>
            <a:ext cx="5029200" cy="5295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457200"/>
            <a:ext cx="8229600" cy="838080"/>
          </a:xfrm>
          <a:prstGeom prst="rect">
            <a:avLst/>
          </a:prstGeom>
          <a:solidFill>
            <a:srgbClr val="ffff99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ff"/>
                </a:solidFill>
                <a:latin typeface="Times New Roman"/>
              </a:rPr>
              <a:t>Компоненты и их рас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44792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1523880"/>
            <a:ext cx="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447920"/>
            <a:ext cx="0" cy="1447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286000"/>
            <a:ext cx="2743200" cy="6858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3124080"/>
            <a:ext cx="3048120" cy="9907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кан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2895480"/>
            <a:ext cx="2666880" cy="7621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м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9718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809880"/>
            <a:ext cx="2361960" cy="17528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дц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овено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572000"/>
            <a:ext cx="2361960" cy="1295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3657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4191120"/>
            <a:ext cx="2666880" cy="1676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имфа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Задание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ите данные, приведенные в таб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равните состав морской воды и сыворотки кров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чему кровь называют «плененным мор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57200" y="304920"/>
          <a:ext cx="8229600" cy="538956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Химический эле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орская в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ыворотка кров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9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,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5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5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O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7200" y="5715000"/>
          <a:ext cx="8229600" cy="70020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ругие эле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7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5400000">
            <a:off x="-1105200" y="28573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Функции крови</a:t>
            </a:r>
            <a:endParaRPr b="0" i="1" lang="en-US" sz="2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00800" y="2438280"/>
            <a:ext cx="0" cy="23623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Monotype Corsiva"/>
              </a:rPr>
              <a:t>КРОВЬ</a:t>
            </a:r>
            <a:r>
              <a:rPr b="1" i="1" lang="en-US" sz="4800" spc="-1" strike="noStrike">
                <a:solidFill>
                  <a:srgbClr val="9933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09680" y="1447920"/>
            <a:ext cx="609840" cy="2286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447920"/>
            <a:ext cx="990720" cy="3808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752480"/>
            <a:ext cx="3352680" cy="6858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лазма кр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828800"/>
            <a:ext cx="4495680" cy="685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орменны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0" cy="17528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2438280"/>
            <a:ext cx="0" cy="1828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2514600"/>
            <a:ext cx="0" cy="21337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1911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42670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7242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480060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46483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1-06T07:53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