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94D-B40C-41BF-A6C3-F35770DE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A15-C37A-4205-875A-974F26B6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917-FD8B-43A1-8ACC-6556F6B1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995-0BF6-4A4B-AF83-7D9B8939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3AD0-05E5-449A-84E7-B561F2A9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A1C1-CCA1-41C8-AEA9-2442A33B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570C-F281-4246-8AEE-AF9B395F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DE84-9FF1-4032-A79E-076CD342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B768-6615-4055-84E4-3B2C6FDF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7082-400D-4BD8-854A-5AC5AC7B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528D-C0D0-45AC-944A-661501FE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22C-CFC3-45F9-AB5F-E8CA9CD2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C4AC-A2A6-4887-B246-6740D40A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FBDB-4FC0-4ACC-8698-45B30BA0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D87C-B779-415E-B340-B1E8FBEC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DC39-5743-4129-8E82-097F5360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58C3-1652-4C58-89F1-2F0A5961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ED4C-F32B-4BB0-915B-6263341D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1EC1-F37F-41D4-9270-03766A7D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9611-A142-4553-8886-FF17F883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4AF1-ABC9-4945-888B-E73678D7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0749-8E6E-46EB-B23F-C0FB74F8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C20-68C5-4C8F-86D2-9E7E7CA9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7F05-A93B-40C1-8C00-A61D1A5E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D440A-3FBA-44CB-89BD-E70DBDFD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4850-1091-4ED8-96A4-998C9486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818B-9247-403F-AB76-583A8D78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4116E-3518-48B4-BB9B-344A8765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500DA-67F9-409E-AE2A-2764A6B4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B6ED-0A88-417C-8FBD-F43A61F7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E72D-1951-4562-992F-6FBE431E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0DA5D-7FFB-43F6-AD2F-32289697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FC400-2BC9-4DC5-8B5F-87E915AE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9A3-D6AD-4FB3-BDBE-C6F3F73D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6B4B4-2D8A-42F2-B58C-A5AB03B0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051A-BCF6-491F-A3BD-5AA48230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819D-C1E8-4DBA-82BA-5E79E6B8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A271-B3F8-47D6-8EA3-7EEEBAD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BDE2-3805-4485-AFA5-03F91829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A6BF-B237-461B-9515-37693D04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50238-C862-462C-BF70-BDBCB82D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777F-759E-47D4-A070-96FDDFCB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39622-B52A-4FBE-B752-644EBEBE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F48-A152-4221-A3DD-377A6B70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0A1-CC42-495D-AF8E-03DDE90D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414-0E08-458C-AD50-B34347AC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F63-F171-48D2-BFBD-40E2A3CB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349-C59E-4F1E-AC60-F5359A68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33AE-DBEE-43FE-AD95-F1B37E134DF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595C-99BC-4337-9F20-461A1ACD51A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A4F9-5A4B-432C-AC0D-4232256FB1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5821-3695-41BE-BED5-241A50812A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89360"/>
            <a:ext cx="2870280" cy="20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98880" y="2889360"/>
            <a:ext cx="2870280" cy="20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9160" y="2889360"/>
            <a:ext cx="2869920" cy="201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Внутренняя среда организма.</a:t>
            </a:r>
            <a:br>
              <a:rPr sz="6700"/>
            </a:br>
            <a:br>
              <a:rPr sz="6700"/>
            </a:b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Кровь, ее строение и значение</a:t>
            </a:r>
            <a:endParaRPr b="0" lang="en-US" sz="67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6386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ДАНИЛОВА О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Times New Roman"/>
              </a:rPr>
              <a:t>Состав крови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Эритр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032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все эритроциты человека уложить рядом, то получиться лента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3 раз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поясывающая земной шар по эквато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считать число эритроцитов со скоростью 100 шт. в минуту, то для того, чтобы пересчитать их все потребуется почт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50 тысяч л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321600">
            <a:off x="1444320" y="34920"/>
            <a:ext cx="70120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мать только..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3760" y="990360"/>
            <a:ext cx="38098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Лейк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6137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.И. Ме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Свертывание крови </a:t>
            </a:r>
            <a:br>
              <a:rPr sz="4400"/>
            </a:b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(образование тромба)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137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209680"/>
            <a:ext cx="2209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оци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уш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мбоплас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и С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6668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рменты плазмы (глобул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396252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ин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 плазм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4800600"/>
            <a:ext cx="2133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о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растворим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876920"/>
            <a:ext cx="1981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(в виде ни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5791320"/>
            <a:ext cx="2286000" cy="64260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ро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тки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828800"/>
            <a:ext cx="0" cy="4572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4191120"/>
            <a:ext cx="259092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200400"/>
            <a:ext cx="1067040" cy="7621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257440" y="3124080"/>
            <a:ext cx="1066680" cy="9144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029200"/>
            <a:ext cx="243828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267080" y="4343400"/>
            <a:ext cx="1524240" cy="6094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038480" y="5257800"/>
            <a:ext cx="1447920" cy="5335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962160" y="6019920"/>
            <a:ext cx="990360" cy="30456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За 1 день</a:t>
            </a:r>
            <a:endParaRPr b="0" lang="en-US" sz="6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костный мозг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изво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320 млрд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ритроцит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Arial"/>
              </a:rPr>
              <a:t>За 1 секунду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,5 млн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Лабораторная работа № 3 </a:t>
            </a:r>
            <a:br>
              <a:rPr sz="4000"/>
            </a:b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Тема: «Сравнение крови человека с кровью лягушки»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епарате лягушки рассмотрите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сните, в чем их разли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ритроциты и лейкоциты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те препарат крови человека, найдите в поле зрения микроскопа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ти кровяные тельца в своих тетра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отличия эритроцитов человека от эритроцитов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ья кровь, человека или лягушки, перенесет в единицу времени больше кислорода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«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Кровь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как зеркало отражает многое из того, что происходит в организме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»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.А. Касси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Внутренняя среда -</a:t>
            </a:r>
            <a:r>
              <a:rPr b="1" i="1" lang="en-US" sz="5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ая система жидкостей – является естественным продолжением водной основы клет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66ff"/>
                </a:solidFill>
                <a:latin typeface="Times New Roman"/>
              </a:rPr>
              <a:t>Внутренняя среда организма</a:t>
            </a:r>
            <a:endParaRPr b="0" lang="en-US" sz="5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28800" y="1562040"/>
            <a:ext cx="5029200" cy="5295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457200"/>
            <a:ext cx="8229600" cy="838080"/>
          </a:xfrm>
          <a:prstGeom prst="rect">
            <a:avLst/>
          </a:prstGeom>
          <a:solidFill>
            <a:srgbClr val="ffff99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ff"/>
                </a:solidFill>
                <a:latin typeface="Times New Roman"/>
              </a:rPr>
              <a:t>Компоненты и их рас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44792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1523880"/>
            <a:ext cx="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447920"/>
            <a:ext cx="0" cy="1447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286000"/>
            <a:ext cx="2743200" cy="6858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3124080"/>
            <a:ext cx="3048120" cy="9907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кан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2895480"/>
            <a:ext cx="2666880" cy="7621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м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9718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809880"/>
            <a:ext cx="2361960" cy="17528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дц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овено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572000"/>
            <a:ext cx="2361960" cy="1295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3657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4191120"/>
            <a:ext cx="2666880" cy="1676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имфа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Задание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ите данные, приведенные в таб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равните состав морской воды и сыворотки кров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чему кровь называют «плененным мор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57200" y="304920"/>
          <a:ext cx="8229600" cy="538956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Химический эле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орская в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ыворотка кров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9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,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5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5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O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7200" y="5715000"/>
          <a:ext cx="8229600" cy="70020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ругие эле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7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5400000">
            <a:off x="-1105200" y="28573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Функции крови</a:t>
            </a:r>
            <a:endParaRPr b="0" i="1" lang="en-US" sz="2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00800" y="2438280"/>
            <a:ext cx="0" cy="23623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Monotype Corsiva"/>
              </a:rPr>
              <a:t>КРОВЬ</a:t>
            </a:r>
            <a:r>
              <a:rPr b="1" i="1" lang="en-US" sz="4800" spc="-1" strike="noStrike">
                <a:solidFill>
                  <a:srgbClr val="9933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09680" y="1447920"/>
            <a:ext cx="609840" cy="2286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447920"/>
            <a:ext cx="990720" cy="3808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752480"/>
            <a:ext cx="3352680" cy="6858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лазма кр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828800"/>
            <a:ext cx="4495680" cy="685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орменны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0" cy="17528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2438280"/>
            <a:ext cx="0" cy="1828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2514600"/>
            <a:ext cx="0" cy="21337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1911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42670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7242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480060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46483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1-06T07:53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