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573-4080-4C47-9862-90D81DAD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7CDC-67A5-4656-AC92-29F808EA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714-8933-4CDE-80E1-C5BF6C63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6E5-B475-4FA8-BA78-3AC18D39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011C-9646-4755-B763-D5DFDC06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73A0-48BC-4542-86DD-D7DFC843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319B-108A-4382-8A22-5D07D40D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7D01-FFC8-46BF-9C49-9C01F84D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6F78-B41A-472C-AF51-2A4BF0BB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25E7-7B99-4765-B28E-238DF4AE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F859-CE49-4873-931F-462E15E9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9D0-8106-46A1-A464-1A5294EB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77B5-0ED9-4EC5-AAF3-2C8B7B61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4D51-6092-4A3F-857D-ECAE2B0E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AAF9-E085-40BA-B181-3D97C636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257F-3D90-413A-92E5-0584683C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663D-2D3A-4B51-AF4D-8BA091DF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5A0D3-7117-4943-9CD0-5A4B652D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93A5D-DFD8-4B78-BBFA-9DF17F18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E7A36-B8C8-4AF7-987D-599ADCE7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822C0-73A5-4CED-9A21-9D23C9F6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63E6E-A507-4681-BCCD-4892A8FD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E1E-0845-484B-B238-B9EC2098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541F8-96A4-40CD-8DCA-B15E4676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B9BE3-C81D-44C1-968B-E25B0AD0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7DDDE-EA6E-4B0A-9A82-0FCCA9F2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83B99-3B02-4366-98A3-661F02E2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D4022-0559-4ABA-A6ED-F992810B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6ADF7-6543-49FA-9055-53861BA4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DABBC-A875-4DFD-AD24-C8BD732B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B9680-1760-45CA-BA55-85793F54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74F26-23BC-4338-ADB1-3C01140B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7AC35-ED39-4275-89BE-3C5EFCA5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F95-F9FB-4636-85EF-A2AB406E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17719-C031-4BB2-BA7F-4F1625E1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E2BCA-123A-438E-B508-25BB74BE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F04DB-6AF3-4D5C-8D32-75575AF7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269CB-C5C6-4542-974E-409499A3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1A566-C9AE-4095-AFB5-4F77296A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B2BC9-7FEC-4103-BFD0-014D3C42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A9A5F-DF1C-4437-A8E7-82964646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5F7C7-FC23-4613-8106-03CCA77C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A39B9-8265-4B8E-9BCB-57C371D0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9B0-5340-4962-8224-330E1567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ED54-57F1-44EC-95C6-EF019184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3FA6-4358-410C-B123-2794E576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1D44-B429-4A81-B301-2FF556CA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FEF-BD27-4745-AD42-D4BD450B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C6B2-AD42-4711-B713-2D41A3D18B7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ECCE-3DE8-466A-9865-32EC61B87F3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51A5-F5A8-41F3-A40C-39817784E4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5822-AE8A-486E-964D-5A3B39EAAA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889360"/>
            <a:ext cx="2870280" cy="201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98880" y="2889360"/>
            <a:ext cx="2870280" cy="20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69160" y="2889360"/>
            <a:ext cx="2869920" cy="201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297144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9933ff"/>
                </a:solidFill>
                <a:latin typeface="Monotype Corsiva"/>
              </a:rPr>
              <a:t>Внутренняя среда организма.</a:t>
            </a:r>
            <a:br>
              <a:rPr sz="6700"/>
            </a:br>
            <a:br>
              <a:rPr sz="6700"/>
            </a:br>
            <a:r>
              <a:rPr b="1" lang="en-US" sz="6700" spc="-1" strike="noStrike">
                <a:solidFill>
                  <a:srgbClr val="9933ff"/>
                </a:solidFill>
                <a:latin typeface="Monotype Corsiva"/>
              </a:rPr>
              <a:t>Кровь, ее строение и значение</a:t>
            </a:r>
            <a:endParaRPr b="0" lang="en-US" sz="67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563868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ДАНИЛОВА О.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МОУ Брединская СОШ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33ff"/>
                </a:solidFill>
                <a:latin typeface="Times New Roman"/>
              </a:rPr>
              <a:t>Состав крови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Эритроциты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40323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все эритроциты человека уложить рядом, то получиться лента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3 раз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опоясывающая земной шар по эквато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считать число эритроцитов со скоростью 100 шт. в минуту, то для того, чтобы пересчитать их все потребуется почти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450 тысяч ле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 rot="321600">
            <a:off x="1444320" y="34920"/>
            <a:ext cx="701208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умать только...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3760" y="990360"/>
            <a:ext cx="380988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Лейкоциты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33520" y="6137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.И. Ме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76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ff"/>
                </a:solidFill>
                <a:latin typeface="Times New Roman"/>
              </a:rPr>
              <a:t>Свертывание крови </a:t>
            </a:r>
            <a:br>
              <a:rPr sz="4400"/>
            </a:br>
            <a:r>
              <a:rPr b="1" i="1" lang="en-US" sz="4400" spc="-1" strike="noStrike">
                <a:solidFill>
                  <a:srgbClr val="9933ff"/>
                </a:solidFill>
                <a:latin typeface="Times New Roman"/>
              </a:rPr>
              <a:t>(образование тромба)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1371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209680"/>
            <a:ext cx="2209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омбоцит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уш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124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омбоплас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971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и С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26668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рменты плазмы (глобули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4038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тром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3962520"/>
            <a:ext cx="182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омбин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в плазм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4800600"/>
            <a:ext cx="2133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бриног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растворим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4876920"/>
            <a:ext cx="1981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брин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(в виде нит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5791320"/>
            <a:ext cx="2286000" cy="64260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Тром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тки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1828800"/>
            <a:ext cx="0" cy="45720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2895480"/>
            <a:ext cx="0" cy="38124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4191120"/>
            <a:ext cx="2590920" cy="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200400"/>
            <a:ext cx="1067040" cy="76212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257440" y="3124080"/>
            <a:ext cx="1066680" cy="91440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43400" y="3581280"/>
            <a:ext cx="0" cy="60984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5029200"/>
            <a:ext cx="2438280" cy="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267080" y="4343400"/>
            <a:ext cx="1524240" cy="60948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038480" y="5257800"/>
            <a:ext cx="1447920" cy="53352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962160" y="6019920"/>
            <a:ext cx="990360" cy="30456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33ff"/>
                </a:solidFill>
                <a:latin typeface="Times New Roman"/>
              </a:rPr>
              <a:t>За 1 день</a:t>
            </a:r>
            <a:endParaRPr b="0" lang="en-US" sz="66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костный мозг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извод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320 млрд. кл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ритроцит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33ff"/>
                </a:solidFill>
                <a:latin typeface="Arial"/>
              </a:rPr>
              <a:t>За 1 секунду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2,5 млн. кл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ff"/>
                </a:solidFill>
                <a:latin typeface="Times New Roman"/>
              </a:rPr>
              <a:t>Лабораторная работа № 3 </a:t>
            </a:r>
            <a:br>
              <a:rPr sz="4000"/>
            </a:br>
            <a:r>
              <a:rPr b="1" i="1" lang="en-US" sz="4000" spc="-1" strike="noStrike">
                <a:solidFill>
                  <a:srgbClr val="9933ff"/>
                </a:solidFill>
                <a:latin typeface="Times New Roman"/>
              </a:rPr>
              <a:t>Тема: «Сравнение крови человека с кровью лягушки»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репарате лягушки рассмотрите эритроциты и лейкоци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сните, в чем их различ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исуйте эритроциты и лейкоциты в тетра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мотрите препарат крови человека, найдите в поле зрения микроскопа эритроциты и лейкоци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исуйте эти кровяные тельца в своих тетрад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отличия эритроцитов человека от эритроцитов ляг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ья кровь, человека или лягушки, перенесет в единицу времени больше кислорода? 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«</a:t>
            </a: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Кровь</a:t>
            </a: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как зеркало отражает многое из того, что происходит в организме</a:t>
            </a: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»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.А. Кассир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Внутренняя среда -</a:t>
            </a:r>
            <a:r>
              <a:rPr b="1" i="1" lang="en-US" sz="5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диная система жидкостей – является естественным продолжением водной основы клето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9966ff"/>
                </a:solidFill>
                <a:latin typeface="Times New Roman"/>
              </a:rPr>
              <a:t>Внутренняя среда организма</a:t>
            </a:r>
            <a:endParaRPr b="0" lang="en-US" sz="50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828800" y="1562040"/>
            <a:ext cx="5029200" cy="5295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09480" y="457200"/>
            <a:ext cx="8229600" cy="838080"/>
          </a:xfrm>
          <a:prstGeom prst="rect">
            <a:avLst/>
          </a:prstGeom>
          <a:solidFill>
            <a:srgbClr val="ffff99"/>
          </a:soli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ff"/>
                </a:solidFill>
                <a:latin typeface="Times New Roman"/>
              </a:rPr>
              <a:t>Компоненты и их распо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1447920"/>
            <a:ext cx="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1523880"/>
            <a:ext cx="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1447920"/>
            <a:ext cx="0" cy="14475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2286000"/>
            <a:ext cx="2743200" cy="6858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ро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3124080"/>
            <a:ext cx="3048120" cy="9907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кане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ид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2895480"/>
            <a:ext cx="2666880" cy="7621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им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2971800"/>
            <a:ext cx="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809880"/>
            <a:ext cx="2361960" cy="17528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ердц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ровенос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4191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572000"/>
            <a:ext cx="2361960" cy="1295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лет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ка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2400" y="365760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72200" y="4191120"/>
            <a:ext cx="2666880" cy="1676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имфат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Задание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зучите данные, приведенные в табли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равните состав морской воды и сыворотки кров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чему кровь называют «плененным море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457200" y="304920"/>
          <a:ext cx="8229600" cy="5389560"/>
        </p:xfrm>
        <a:graphic>
          <a:graphicData uri="http://schemas.openxmlformats.org/drawingml/2006/table">
            <a:tbl>
              <a:tblPr/>
              <a:tblGrid>
                <a:gridCol w="2971800"/>
                <a:gridCol w="2438280"/>
                <a:gridCol w="2819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Химический элеме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орская во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ыворотка кров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0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9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M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,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,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5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5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O</a:t>
                      </a:r>
                      <a:r>
                        <a:rPr b="0" lang="en-US" sz="4000" spc="-1" strike="noStrike" baseline="-25000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1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57200" y="5715000"/>
          <a:ext cx="8229600" cy="700200"/>
        </p:xfrm>
        <a:graphic>
          <a:graphicData uri="http://schemas.openxmlformats.org/drawingml/2006/table">
            <a:tbl>
              <a:tblPr/>
              <a:tblGrid>
                <a:gridCol w="2971800"/>
                <a:gridCol w="2438280"/>
                <a:gridCol w="2819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ругие элем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7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,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 rot="5400000">
            <a:off x="-1105200" y="285732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Функции крови</a:t>
            </a:r>
            <a:endParaRPr b="0" i="1" lang="en-US" sz="2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400800" y="2438280"/>
            <a:ext cx="0" cy="23623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Monotype Corsiva"/>
              </a:rPr>
              <a:t>КРОВЬ</a:t>
            </a:r>
            <a:r>
              <a:rPr b="1" i="1" lang="en-US" sz="4800" spc="-1" strike="noStrike">
                <a:solidFill>
                  <a:srgbClr val="9933ff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209680" y="1447920"/>
            <a:ext cx="609840" cy="2286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1447920"/>
            <a:ext cx="990720" cy="3808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752480"/>
            <a:ext cx="3352680" cy="68580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Плазма кро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828800"/>
            <a:ext cx="4495680" cy="685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Форменные эле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438280"/>
            <a:ext cx="0" cy="17528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2438280"/>
            <a:ext cx="0" cy="1828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2514600"/>
            <a:ext cx="0" cy="22096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29600" y="2514600"/>
            <a:ext cx="0" cy="21337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419112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4267080"/>
            <a:ext cx="76212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4724280"/>
            <a:ext cx="76212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480060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464832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11-06T07:53:3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