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53A-0F85-4766-999F-DD805A05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6EB-CF41-4D54-9503-5521B0D7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8B3-4DA2-4FEE-985C-EDE1A1BC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99C-2574-483F-BCF1-906C2F19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8AAD-6EF5-4135-A926-365774A9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78CB-DE62-462B-943B-491F6F5E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9973-980E-4E48-8D8F-6D8454AE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0005-3491-4F81-AB9F-1400892A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C28A-B426-47D7-992D-2B27A730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7890-7850-40DB-BCEA-81A886D3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B8A4-9B8A-41E4-88F9-48E10683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1C7-CBCE-473C-84C6-AECB824C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735A-0E82-4291-9CDB-E3E841F8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EEBC-BAEC-4397-839E-EFC3920E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181E-19E8-4990-8ADF-4DABDDB5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3515-A7E8-4AEF-9EA4-A2F7FDE9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B407-3F36-4B94-9DBE-F9FB41E9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9F4F-23B4-4ED4-A930-E07782A7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7E652-FA24-4038-A0A6-6C3E369F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1E864-ABDB-4335-B946-17C69CBB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A992-9761-435B-9525-080C2F6A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66BC-DDE7-4A14-87B9-B7D97CFF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0611-D41F-4DA7-A6CB-893EF490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2F12-6EF3-4AA7-9F03-72F6D413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009D4-16EB-4E51-A2D3-09B6E4FE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6B654-7F94-457A-8735-085048E7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6C3C-2A0F-4974-A4E9-EEB51842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8602-1BA8-431B-B07E-0833477B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31F0D-641E-4972-9364-294CFC8B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48B3-DA29-4EF0-9832-F5CAECB7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ABC5E-EDAF-42BD-96CD-E51BA601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FA510-A025-4954-B72A-FF653693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3EE78-7852-4202-ABF5-23A6707C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F72-5089-4EE2-96AB-1F11C2FE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98BD-C744-44C6-B076-C166CC44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632B0-0E63-453A-9D0A-D1946878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06B2B-48E6-4B54-B428-F5A64A98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2C2A6-F752-40F2-87B1-ADE51475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A04E-AFC4-4DC9-A67B-85860387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FCDD-781B-4AC5-A453-E82FE217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8A8C6-4CEB-4FBE-BCD9-460ECCE2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6948-ACE7-4C47-A03C-0EA33CD2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35B6-9578-46A2-AF89-B0ACF49A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28C-051A-4152-B1FD-EC558C0A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8E9-17FA-40CB-8F98-04703359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B91-9FDD-49CA-BC4A-0CFCA506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B29-6925-4675-A22C-8408C7D3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715-8DA5-4E38-A761-0FDD95A3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F78B-BD5C-4481-8E6F-65898380AC5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378C-54B3-4809-A1DA-FB6FB26353F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9166-9029-474D-B2CC-DD28EDF691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C7A4-2A9F-491F-85EB-C647DE0B90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89360"/>
            <a:ext cx="2870280" cy="201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98880" y="2889360"/>
            <a:ext cx="2870280" cy="20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69160" y="2889360"/>
            <a:ext cx="2869920" cy="201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Внутренняя среда организма.</a:t>
            </a:r>
            <a:br>
              <a:rPr sz="6700"/>
            </a:br>
            <a:br>
              <a:rPr sz="6700"/>
            </a:br>
            <a:r>
              <a:rPr b="1" lang="en-US" sz="6700" spc="-1" strike="noStrike">
                <a:solidFill>
                  <a:srgbClr val="9933ff"/>
                </a:solidFill>
                <a:latin typeface="Monotype Corsiva"/>
              </a:rPr>
              <a:t>Кровь, ее строение и значение</a:t>
            </a:r>
            <a:endParaRPr b="0" lang="en-US" sz="67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563868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ДАНИЛОВА О.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Times New Roman"/>
              </a:rPr>
              <a:t>Состав крови</a:t>
            </a: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Эритр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4032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все эритроциты человека уложить рядом, то получиться лента 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3 раз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опоясывающая земной шар по эквато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ли считать число эритроцитов со скоростью 100 шт. в минуту, то для того, чтобы пересчитать их все потребуется почти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450 тысяч л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321600">
            <a:off x="1444320" y="34920"/>
            <a:ext cx="70120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умать только...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781680" cy="6781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3760" y="990360"/>
            <a:ext cx="38098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Лейкоциты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520" y="6137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.И. Ме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762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Свертывание крови </a:t>
            </a:r>
            <a:br>
              <a:rPr sz="4400"/>
            </a:br>
            <a:r>
              <a:rPr b="1" i="1" lang="en-US" sz="4400" spc="-1" strike="noStrike">
                <a:solidFill>
                  <a:srgbClr val="9933ff"/>
                </a:solidFill>
                <a:latin typeface="Times New Roman"/>
              </a:rPr>
              <a:t>(образование тромба)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1371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209680"/>
            <a:ext cx="2209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оци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уш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124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омбоплас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2971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и С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26668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рменты плазмы (глобул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тром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3962520"/>
            <a:ext cx="1828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мбин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 плазм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4800600"/>
            <a:ext cx="2133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о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растворим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8680" y="4876920"/>
            <a:ext cx="1981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брин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(в виде нит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5791320"/>
            <a:ext cx="2286000" cy="642600"/>
          </a:xfrm>
          <a:prstGeom prst="rect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Тром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тки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1828800"/>
            <a:ext cx="0" cy="4572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2895480"/>
            <a:ext cx="0" cy="3812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4191120"/>
            <a:ext cx="259092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200400"/>
            <a:ext cx="1067040" cy="7621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257440" y="3124080"/>
            <a:ext cx="1066680" cy="91440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029200"/>
            <a:ext cx="2438280" cy="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267080" y="4343400"/>
            <a:ext cx="1524240" cy="60948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038480" y="5257800"/>
            <a:ext cx="1447920" cy="53352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962160" y="6019920"/>
            <a:ext cx="990360" cy="304560"/>
          </a:xfrm>
          <a:prstGeom prst="line">
            <a:avLst/>
          </a:prstGeom>
          <a:ln cap="sq"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Times New Roman"/>
              </a:rPr>
              <a:t>За 1 день</a:t>
            </a:r>
            <a:endParaRPr b="0" lang="en-US" sz="66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костный мозг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изво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320 млрд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ритроцит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33ff"/>
                </a:solidFill>
                <a:latin typeface="Arial"/>
              </a:rPr>
              <a:t>За 1 секунду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,5 млн. кл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Лабораторная работа № 3 </a:t>
            </a:r>
            <a:br>
              <a:rPr sz="4000"/>
            </a:br>
            <a:r>
              <a:rPr b="1" i="1" lang="en-US" sz="4000" spc="-1" strike="noStrike">
                <a:solidFill>
                  <a:srgbClr val="9933ff"/>
                </a:solidFill>
                <a:latin typeface="Times New Roman"/>
              </a:rPr>
              <a:t>Тема: «Сравнение крови человека с кровью лягушки»</a:t>
            </a:r>
            <a:endParaRPr b="0" lang="en-US" sz="4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репарате лягушки рассмотрите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сните, в чем их разли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ритроциты и лейкоциты в тетр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те препарат крови человека, найдите в поле зрения микроскопа эритроциты и лейкоци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рисуйте эти кровяные тельца в своих тетра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отличия эритроцитов человека от эритроцитов ляг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ья кровь, человека или лягушки, перенесет в единицу времени больше кислорода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«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Кровь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как зеркало отражает многое из того, что происходит в организме</a:t>
            </a:r>
            <a:r>
              <a:rPr b="1" i="1" lang="en-US" sz="4400" spc="-1" strike="noStrike">
                <a:solidFill>
                  <a:srgbClr val="666699"/>
                </a:solidFill>
                <a:latin typeface="Times New Roman"/>
              </a:rPr>
              <a:t>»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.А. Касси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Внутренняя среда -</a:t>
            </a:r>
            <a:r>
              <a:rPr b="1" i="1" lang="en-US" sz="54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диная система жидкостей – является естественным продолжением водной основы клето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66ff"/>
                </a:solidFill>
                <a:latin typeface="Times New Roman"/>
              </a:rPr>
              <a:t>Внутренняя среда организма</a:t>
            </a:r>
            <a:endParaRPr b="0" lang="en-US" sz="5000" spc="-1" strike="noStrike">
              <a:solidFill>
                <a:srgbClr val="666699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28800" y="1562040"/>
            <a:ext cx="5029200" cy="5295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457200"/>
            <a:ext cx="8229600" cy="838080"/>
          </a:xfrm>
          <a:prstGeom prst="rect">
            <a:avLst/>
          </a:prstGeom>
          <a:solidFill>
            <a:srgbClr val="ffff99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ff"/>
                </a:solidFill>
                <a:latin typeface="Times New Roman"/>
              </a:rPr>
              <a:t>Компоненты и их рас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144792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1523880"/>
            <a:ext cx="0" cy="1600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1447920"/>
            <a:ext cx="0" cy="14475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286000"/>
            <a:ext cx="2743200" cy="6858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3124080"/>
            <a:ext cx="3048120" cy="9907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кане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2895480"/>
            <a:ext cx="2666880" cy="7621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Лим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9718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809880"/>
            <a:ext cx="2361960" cy="17528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дц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ровенос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41911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572000"/>
            <a:ext cx="2361960" cy="1295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л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к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36576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4191120"/>
            <a:ext cx="2666880" cy="1676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Лимфат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с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66ff"/>
                </a:solidFill>
                <a:latin typeface="Times New Roman"/>
              </a:rPr>
              <a:t>Задание</a:t>
            </a:r>
            <a:endParaRPr b="0" lang="en-US" sz="5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учите данные, приведенные в таб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равните состав морской воды и сыворотки кров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901"/>
              </a:spcBef>
              <a:buClr>
                <a:srgbClr val="9933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чему кровь называют «плененным море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57200" y="304920"/>
          <a:ext cx="8229600" cy="538956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Химический эле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Морская во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6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ыворотка кров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9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3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,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5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45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O</a:t>
                      </a:r>
                      <a:r>
                        <a:rPr b="0" lang="en-US" sz="4000" spc="-1" strike="noStrike" baseline="-25000">
                          <a:solidFill>
                            <a:srgbClr val="000000"/>
                          </a:solidFill>
                          <a:latin typeface="Monotype Corsiv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,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11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57200" y="5715000"/>
          <a:ext cx="8229600" cy="700200"/>
        </p:xfrm>
        <a:graphic>
          <a:graphicData uri="http://schemas.openxmlformats.org/drawingml/2006/table">
            <a:tbl>
              <a:tblPr/>
              <a:tblGrid>
                <a:gridCol w="2971800"/>
                <a:gridCol w="2438280"/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ругие элем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7,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0,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 rot="5400000">
            <a:off x="-1105200" y="285732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Функции крови</a:t>
            </a:r>
            <a:endParaRPr b="0" i="1" lang="en-US" sz="28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00800" y="2438280"/>
            <a:ext cx="0" cy="23623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Monotype Corsiva"/>
              </a:rPr>
              <a:t>КРОВЬ</a:t>
            </a:r>
            <a:r>
              <a:rPr b="1" i="1" lang="en-US" sz="4800" spc="-1" strike="noStrike">
                <a:solidFill>
                  <a:srgbClr val="9933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209680" y="1447920"/>
            <a:ext cx="609840" cy="2286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447920"/>
            <a:ext cx="990720" cy="3808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752480"/>
            <a:ext cx="3352680" cy="68580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лазма кро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1828800"/>
            <a:ext cx="4495680" cy="685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Форменные эле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0" cy="175284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66880" y="2438280"/>
            <a:ext cx="0" cy="1828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2514600"/>
            <a:ext cx="0" cy="220968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2514600"/>
            <a:ext cx="0" cy="21337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1911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42670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724280"/>
            <a:ext cx="76212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480060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4648320"/>
            <a:ext cx="761760" cy="1008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11-06T07:53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