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CDAE-24C0-4B47-AEAD-8543F278B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0C3E-CC12-4301-9779-174EEA844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C042-AC09-4BBA-B5D6-96861FA89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52C6-8A40-4C13-B687-9683705F0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D3707-1E73-41BA-BE74-1790757B1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A9DA3-12C6-49FE-8A7E-89C105574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E81EA-86C6-4A6A-B5D1-AADEF05B6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D1A0D-31CD-4014-AFD8-B2A93C67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831CA-06CA-4397-8141-EE06F6370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30609-75A5-4795-A404-0FE471965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1D0D1-9CD5-4025-B139-CADB168D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F708-54A0-4CA6-BD86-4BF0B81FA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50541-F05F-4831-A8E5-0DC91EA0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C0D26-BBE0-4A28-9C2F-3C3A2E55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77D16-2A58-4083-8392-655F946C5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02E58-51BB-4208-94C1-CE138C080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07F91-AA74-416B-9CBB-5A28B18C0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951C8-3941-4BD2-AE34-8C6C69D60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28715-F6B2-4F05-90F9-3A9FA4AF4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8B2DA-9259-4D4E-9EA9-6726BC723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C7FC4-B736-4E3A-A0E1-626C24ADE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1B5DB-4BF9-486F-B107-51DF3A2FE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D110-79F1-436F-B633-90B252C5C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F2A2D-3CE4-4EC3-A4FE-CDA678467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7FC3B-2F00-4580-84FA-CFC49D4A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6C6BB-52E9-41F5-9A54-883E1686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8D710-6691-47AD-8EBD-52558E30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69029-036E-4306-8949-660AADF1B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17E58-A530-4E50-BC96-C037E0574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DE24C-167D-448D-B3C3-DAEC05F89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50857-06D9-43B3-BEB6-B5F107EBA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099C8-0348-4D14-BEB5-CCAFA0D1B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9C1EE-9C0C-42B2-BDD1-2EE6C652B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53FC-3004-4CCD-9459-89E41A6AB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96ABD-D51F-45BF-AA14-D5FD105D1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07083-02FA-4A93-BAB4-797D4CA40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256FE-5AFC-47DB-B595-0A016307D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9B3EF-CAF5-4E38-AC3A-A2AE2DD0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5CA26-AED7-4E6A-8B5E-EB3E61B3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C324C-4A5A-42B2-AE6A-9D6A0F00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8C622-8831-4B7D-9F6E-8F8D0AF8E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46692-23A0-45AC-856B-EE1FAA8F9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05254-BF85-41E7-80C1-A6F912B15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5454-AC99-4EC5-A69E-41AB74D4A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243D-B046-4A9E-9C46-DCB89D0EC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EA4E-9972-4C76-812B-D13BA440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5496-B768-40C8-A398-739AE9C2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2E1A-B69C-446B-977C-FD78F430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9C657-3B3C-448E-AF2E-250C930FADB4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7CD5C-EEE2-4423-B2F1-69A22EBBE7D2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BBF11-CE08-475B-B8CF-5E235CC0328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666699"/>
                </a:solidFill>
                <a:latin typeface="Times New Roman"/>
              </a:rPr>
              <a:t>Click to edit the title text format</a:t>
            </a:r>
            <a:endParaRPr b="0" lang="en-US" sz="5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F244B-8473-4BAD-8078-565D5232775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2889360"/>
            <a:ext cx="2870280" cy="201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98880" y="2889360"/>
            <a:ext cx="2870280" cy="201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969160" y="2889360"/>
            <a:ext cx="2869920" cy="2016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160" y="2971440"/>
            <a:ext cx="79246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700" spc="-1" strike="noStrike">
                <a:solidFill>
                  <a:srgbClr val="9933ff"/>
                </a:solidFill>
                <a:latin typeface="Monotype Corsiva"/>
              </a:rPr>
              <a:t>Внутренняя среда организма.</a:t>
            </a:r>
            <a:br>
              <a:rPr sz="6700"/>
            </a:br>
            <a:br>
              <a:rPr sz="6700"/>
            </a:br>
            <a:r>
              <a:rPr b="1" lang="en-US" sz="6700" spc="-1" strike="noStrike">
                <a:solidFill>
                  <a:srgbClr val="9933ff"/>
                </a:solidFill>
                <a:latin typeface="Monotype Corsiva"/>
              </a:rPr>
              <a:t>Кровь, ее строение и значение</a:t>
            </a:r>
            <a:endParaRPr b="0" lang="en-US" sz="67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15000" y="5638680"/>
            <a:ext cx="2895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6699"/>
                </a:solidFill>
                <a:latin typeface="Arial"/>
              </a:rPr>
              <a:t>ДАНИЛОВА О.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6699"/>
                </a:solidFill>
                <a:latin typeface="Arial"/>
              </a:rPr>
              <a:t>МОУ Брединская СОШ№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981080" y="1600200"/>
            <a:ext cx="5257800" cy="52578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33ff"/>
                </a:solidFill>
                <a:latin typeface="Times New Roman"/>
              </a:rPr>
              <a:t>Состав крови</a:t>
            </a:r>
            <a:r>
              <a:rPr b="0" lang="en-US" sz="4400" spc="-1" strike="noStrike">
                <a:solidFill>
                  <a:srgbClr val="666699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572000" y="190512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66ff"/>
                </a:solidFill>
                <a:latin typeface="Times New Roman"/>
              </a:rPr>
              <a:t>Эритроциты</a:t>
            </a:r>
            <a:endParaRPr b="0" lang="en-US" sz="5400" spc="-1" strike="noStrike">
              <a:solidFill>
                <a:srgbClr val="666699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09480" y="1676520"/>
            <a:ext cx="403236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04560" y="159984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сли все эритроциты человека уложить рядом, то получиться лента 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3 раз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опоясывающая земной шар по экватор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сли считать число эритроцитов со скоростью 100 шт. в минуту, то для того, чтобы пересчитать их все потребуется почти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450 тысяч лет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 rot="321600">
            <a:off x="1444320" y="34920"/>
            <a:ext cx="7012080" cy="1600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думать только...</a:t>
            </a:r>
            <a:endParaRPr b="0" lang="en-US" sz="18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6781680" cy="67816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3760" y="990360"/>
            <a:ext cx="3809880" cy="19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i="1" lang="en-US" sz="5400" spc="-1" strike="noStrike">
                <a:solidFill>
                  <a:srgbClr val="9966ff"/>
                </a:solidFill>
                <a:latin typeface="Times New Roman"/>
              </a:rPr>
              <a:t>Лейкоциты</a:t>
            </a:r>
            <a:endParaRPr b="0" lang="en-US" sz="5400" spc="-1" strike="noStrike">
              <a:solidFill>
                <a:srgbClr val="66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533520" y="6137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И.И. Меч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286000" y="380880"/>
            <a:ext cx="4762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33ff"/>
                </a:solidFill>
                <a:latin typeface="Times New Roman"/>
              </a:rPr>
              <a:t>Свертывание крови </a:t>
            </a:r>
            <a:br>
              <a:rPr sz="4400"/>
            </a:br>
            <a:r>
              <a:rPr b="1" i="1" lang="en-US" sz="4400" spc="-1" strike="noStrike">
                <a:solidFill>
                  <a:srgbClr val="9933ff"/>
                </a:solidFill>
                <a:latin typeface="Times New Roman"/>
              </a:rPr>
              <a:t>(образование тромба)</a:t>
            </a: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48120" y="13716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Р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209680"/>
            <a:ext cx="22096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ромбоцит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руша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00400" y="31240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омбопласт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29718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ли С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248520" y="266688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ерменты плазмы (глобулин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066680" y="40384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тромб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638680" y="3962520"/>
            <a:ext cx="1828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ромбин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в плазм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143000" y="4800600"/>
            <a:ext cx="2133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ибриноге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растворимы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638680" y="4876920"/>
            <a:ext cx="19814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ибрин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(в виде ните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447920" y="5791320"/>
            <a:ext cx="2286000" cy="642600"/>
          </a:xfrm>
          <a:prstGeom prst="rect">
            <a:avLst/>
          </a:prstGeom>
          <a:noFill/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Тром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02920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летки кр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343400" y="1828800"/>
            <a:ext cx="0" cy="457200"/>
          </a:xfrm>
          <a:prstGeom prst="line">
            <a:avLst/>
          </a:prstGeom>
          <a:ln cap="sq"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343400" y="2895480"/>
            <a:ext cx="0" cy="381240"/>
          </a:xfrm>
          <a:prstGeom prst="line">
            <a:avLst/>
          </a:prstGeom>
          <a:ln cap="sq"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00400" y="4191120"/>
            <a:ext cx="2590920" cy="0"/>
          </a:xfrm>
          <a:prstGeom prst="line">
            <a:avLst/>
          </a:prstGeom>
          <a:ln cap="sq"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09680" y="3200400"/>
            <a:ext cx="1067040" cy="762120"/>
          </a:xfrm>
          <a:prstGeom prst="line">
            <a:avLst/>
          </a:prstGeom>
          <a:ln cap="sq"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5257440" y="3124080"/>
            <a:ext cx="1066680" cy="914400"/>
          </a:xfrm>
          <a:prstGeom prst="line">
            <a:avLst/>
          </a:prstGeom>
          <a:ln cap="sq"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343400" y="3581280"/>
            <a:ext cx="0" cy="609840"/>
          </a:xfrm>
          <a:prstGeom prst="line">
            <a:avLst/>
          </a:prstGeom>
          <a:ln cap="sq"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76720" y="5029200"/>
            <a:ext cx="2438280" cy="0"/>
          </a:xfrm>
          <a:prstGeom prst="line">
            <a:avLst/>
          </a:prstGeom>
          <a:ln cap="sq"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4267080" y="4343400"/>
            <a:ext cx="1524240" cy="609480"/>
          </a:xfrm>
          <a:prstGeom prst="line">
            <a:avLst/>
          </a:prstGeom>
          <a:ln cap="sq"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4038480" y="5257800"/>
            <a:ext cx="1447920" cy="533520"/>
          </a:xfrm>
          <a:prstGeom prst="line">
            <a:avLst/>
          </a:prstGeom>
          <a:ln cap="sq"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3962160" y="6019920"/>
            <a:ext cx="990360" cy="304560"/>
          </a:xfrm>
          <a:prstGeom prst="line">
            <a:avLst/>
          </a:prstGeom>
          <a:ln cap="sq"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33ff"/>
                </a:solidFill>
                <a:latin typeface="Times New Roman"/>
              </a:rPr>
              <a:t>За 1 день</a:t>
            </a:r>
            <a:endParaRPr b="0" lang="en-US" sz="66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ff"/>
                </a:solidFill>
                <a:latin typeface="Arial"/>
              </a:rPr>
              <a:t>костный мозг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оизводи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320 млрд. клет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эритроцитов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33ff"/>
                </a:solidFill>
                <a:latin typeface="Arial"/>
              </a:rPr>
              <a:t>За 1 секунду –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2,5 млн. клет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17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33ff"/>
                </a:solidFill>
                <a:latin typeface="Times New Roman"/>
              </a:rPr>
              <a:t>Лабораторная работа № 3 </a:t>
            </a:r>
            <a:br>
              <a:rPr sz="4000"/>
            </a:br>
            <a:r>
              <a:rPr b="1" i="1" lang="en-US" sz="4000" spc="-1" strike="noStrike">
                <a:solidFill>
                  <a:srgbClr val="9933ff"/>
                </a:solidFill>
                <a:latin typeface="Times New Roman"/>
              </a:rPr>
              <a:t>Тема: «Сравнение крови человека с кровью лягушки»</a:t>
            </a:r>
            <a:endParaRPr b="0" lang="en-US" sz="40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33f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препарате лягушки рассмотрите эритроциты и лейкоци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33f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ясните, в чем их различ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33f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рисуйте эритроциты и лейкоциты в тетрад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33f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смотрите препарат крови человека, найдите в поле зрения микроскопа эритроциты и лейкоци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33f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рисуйте эти кровяные тельца в своих тетрадя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33f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йдите отличия эритроцитов человека от эритроцитов лягуш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33f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ья кровь, человека или лягушки, перенесет в единицу времени больше кислорода? Почему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13712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6699"/>
                </a:solidFill>
                <a:latin typeface="Times New Roman"/>
              </a:rPr>
              <a:t>«</a:t>
            </a:r>
            <a:r>
              <a:rPr b="1" i="1" lang="en-US" sz="4400" spc="-1" strike="noStrike">
                <a:solidFill>
                  <a:srgbClr val="cc0000"/>
                </a:solidFill>
                <a:latin typeface="Times New Roman"/>
              </a:rPr>
              <a:t>Кровь</a:t>
            </a:r>
            <a:r>
              <a:rPr b="1" i="1" lang="en-US" sz="44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008000"/>
                </a:solidFill>
                <a:latin typeface="Times New Roman"/>
              </a:rPr>
              <a:t>как зеркало отражает многое из того, что происходит в организме</a:t>
            </a:r>
            <a:r>
              <a:rPr b="1" i="1" lang="en-US" sz="4400" spc="-1" strike="noStrike">
                <a:solidFill>
                  <a:srgbClr val="666699"/>
                </a:solidFill>
                <a:latin typeface="Times New Roman"/>
              </a:rPr>
              <a:t>».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56386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Н.А. Кассир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66ff"/>
                </a:solidFill>
                <a:latin typeface="Times New Roman"/>
              </a:rPr>
              <a:t>Внутренняя среда -</a:t>
            </a:r>
            <a:r>
              <a:rPr b="1" i="1" lang="en-US" sz="5400" spc="-1" strike="noStrike">
                <a:solidFill>
                  <a:srgbClr val="666699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единая система жидкостей – является естественным продолжением водной основы клеток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-3049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9966ff"/>
                </a:solidFill>
                <a:latin typeface="Times New Roman"/>
              </a:rPr>
              <a:t>Внутренняя среда организма</a:t>
            </a:r>
            <a:endParaRPr b="0" lang="en-US" sz="5000" spc="-1" strike="noStrike">
              <a:solidFill>
                <a:srgbClr val="666699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828800" y="1562040"/>
            <a:ext cx="5029200" cy="52959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609480" y="457200"/>
            <a:ext cx="8229600" cy="838080"/>
          </a:xfrm>
          <a:prstGeom prst="rect">
            <a:avLst/>
          </a:prstGeom>
          <a:solidFill>
            <a:srgbClr val="ffff99"/>
          </a:solidFill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66ff"/>
                </a:solidFill>
                <a:latin typeface="Times New Roman"/>
              </a:rPr>
              <a:t>Компоненты и их располож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14600" y="1447920"/>
            <a:ext cx="0" cy="83808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1523880"/>
            <a:ext cx="0" cy="16002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543800" y="1447920"/>
            <a:ext cx="0" cy="144756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62120" y="2286000"/>
            <a:ext cx="2743200" cy="6858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Кров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71800" y="3124080"/>
            <a:ext cx="3048120" cy="9907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Тканев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жидк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172200" y="2895480"/>
            <a:ext cx="2666880" cy="7621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Лимф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95280" y="2971800"/>
            <a:ext cx="0" cy="7621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04920" y="3809880"/>
            <a:ext cx="2361960" cy="175284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ердце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кровенос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осу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495680" y="4191120"/>
            <a:ext cx="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76720" y="4572000"/>
            <a:ext cx="2361960" cy="12952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Межд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клет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тка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2400" y="3657600"/>
            <a:ext cx="0" cy="5335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72200" y="4191120"/>
            <a:ext cx="2666880" cy="16761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Лимфатиче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осу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66ff"/>
                </a:solidFill>
                <a:latin typeface="Times New Roman"/>
              </a:rPr>
              <a:t>Задание</a:t>
            </a:r>
            <a:endParaRPr b="0" lang="en-US" sz="5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spcBef>
                <a:spcPts val="901"/>
              </a:spcBef>
              <a:buClr>
                <a:srgbClr val="9933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Изучите данные, приведенные в таблиц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901"/>
              </a:spcBef>
              <a:buClr>
                <a:srgbClr val="9933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Сравните состав морской воды и сыворотки крови челове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901"/>
              </a:spcBef>
              <a:buClr>
                <a:srgbClr val="9933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Почему кровь называют «плененным морем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457200" y="304920"/>
          <a:ext cx="8229600" cy="5389560"/>
        </p:xfrm>
        <a:graphic>
          <a:graphicData uri="http://schemas.openxmlformats.org/drawingml/2006/table">
            <a:tbl>
              <a:tblPr/>
              <a:tblGrid>
                <a:gridCol w="2971800"/>
                <a:gridCol w="2438280"/>
                <a:gridCol w="281952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Химический элемен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6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Морская вод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6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Сыворотка кров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N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30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,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39,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M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3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,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0,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C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1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,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1,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1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,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2,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55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,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45,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CO</a:t>
                      </a:r>
                      <a:r>
                        <a:rPr b="0" lang="en-US" sz="4000" spc="-1" strike="noStrike" baseline="-25000">
                          <a:solidFill>
                            <a:srgbClr val="000000"/>
                          </a:solidFill>
                          <a:latin typeface="Monotype Corsiva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0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,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11,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457200" y="5715000"/>
          <a:ext cx="8229600" cy="700200"/>
        </p:xfrm>
        <a:graphic>
          <a:graphicData uri="http://schemas.openxmlformats.org/drawingml/2006/table">
            <a:tbl>
              <a:tblPr/>
              <a:tblGrid>
                <a:gridCol w="2971800"/>
                <a:gridCol w="2438280"/>
                <a:gridCol w="28195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Другие элемен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7,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0,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3429000" y="0"/>
            <a:ext cx="5715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 rot="5400000">
            <a:off x="-1105200" y="2857320"/>
            <a:ext cx="5639040" cy="685800"/>
          </a:xfrm>
          <a:prstGeom prst="rect">
            <a:avLst/>
          </a:prstGeom>
        </p:spPr>
        <p:txBody>
          <a:bodyPr wrap="none" lIns="90000" rIns="90000" tIns="46800" bIns="46800" anchor="ctr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cap="sq" w="12600">
                  <a:solidFill>
                    <a:srgbClr val="ff0000"/>
                  </a:solidFill>
                  <a:miter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Функции крови</a:t>
            </a:r>
            <a:endParaRPr b="0" i="1" lang="en-US" sz="2800" spc="1" strike="noStrike">
              <a:ln cap="sq" w="12600">
                <a:solidFill>
                  <a:srgbClr val="ff0000"/>
                </a:solidFill>
                <a:miter/>
              </a:ln>
              <a:solidFill>
                <a:srgbClr val="ff00ff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400800" y="2438280"/>
            <a:ext cx="0" cy="236232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0000"/>
                </a:solidFill>
                <a:latin typeface="Monotype Corsiva"/>
              </a:rPr>
              <a:t>КРОВЬ</a:t>
            </a:r>
            <a:r>
              <a:rPr b="1" i="1" lang="en-US" sz="4800" spc="-1" strike="noStrike">
                <a:solidFill>
                  <a:srgbClr val="9933ff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2209680" y="1447920"/>
            <a:ext cx="609840" cy="22860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715000" y="1447920"/>
            <a:ext cx="990720" cy="38088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1752480"/>
            <a:ext cx="3352680" cy="685800"/>
          </a:xfrm>
          <a:prstGeom prst="rect">
            <a:avLst/>
          </a:prstGeom>
          <a:solidFill>
            <a:srgbClr val="cc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Плазма кров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343400" y="1828800"/>
            <a:ext cx="4495680" cy="6858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Форменные элемен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38080" y="2438280"/>
            <a:ext cx="0" cy="175284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666880" y="2438280"/>
            <a:ext cx="0" cy="182880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800600" y="2514600"/>
            <a:ext cx="0" cy="220968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229600" y="2514600"/>
            <a:ext cx="0" cy="213372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3520" y="4191120"/>
            <a:ext cx="761760" cy="10083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4267080"/>
            <a:ext cx="762120" cy="10083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343400" y="4724280"/>
            <a:ext cx="762120" cy="10083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19920" y="4800600"/>
            <a:ext cx="761760" cy="10083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848720" y="4648320"/>
            <a:ext cx="761760" cy="10083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1-11-06T07:53:32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