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BF9-6286-45E5-8D35-66FEB86F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61D-DF7D-4937-ACB0-EE9DEFCF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5DA-092A-499E-9640-65542B4E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A5E-27CB-4F30-872C-E9CCBC1B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0C31-67AD-4BC7-B1DC-32DC3566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B737-6347-453D-BF83-F24430B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54E4-B064-4073-910B-B73EB521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FE43-2497-4694-A0B2-1EE0C914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F87F-7F48-48E8-B796-1DCD954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CD14-CCDB-4F09-A1CE-424D239C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944C-1673-42A5-82D0-216AD2C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769-7CF7-4DCC-9C5D-9C9152A8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07E9-B69F-47FC-84F2-5C5CF821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5FF-AF91-434E-A114-448AA1AE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BEF5-474E-4EBC-A114-E15A2AF5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23BC-1855-413A-93AB-5BE8AF9D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EA40-F773-4A0A-839F-C2FBB2C8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F3C3-9306-4642-ADDA-EC154ED7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56B4-621E-474F-AA0B-B4EE846E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5BE9-9EAE-44E4-9E4A-554EE79B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02D3-A2FA-48D1-B7E6-7D963F22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EAD2-4840-470B-8FE1-8E1F8073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27A-4C60-4B15-A08B-09A4FF2B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1D5E-5BF6-44EB-B398-ED9DD56F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435A-9961-4964-805C-2526585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4126-A2CB-463D-8AC8-328895B3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B802-3142-4D33-9E16-1EF54F26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7C2B-9FB4-450B-96A3-DCA5E93B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3C22-C451-4B69-BB3A-A7632834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826C-6F20-410C-9C0F-9012A82F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D61E-891E-44AC-928C-F62B0AD8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9DB8-F0EF-4551-AB43-33E4C2A5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1704F-FBDF-4AFB-B717-F23E5D26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B28-5365-412C-B623-22AFCCC3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5C5A6-7F94-45D2-A80D-DD17FAA8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9AA4-EC93-47C6-B63F-03EC39A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1FA0A-453C-4225-95B2-CE6F3F2A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AD53E-4167-4565-906A-03FB368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25C1-A53D-42B0-A158-3A52B6DC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B9AA-C27E-4534-A047-31D62C21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4AFAD-C643-433C-A772-C553D489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F1E4-25F0-4738-9098-ED5CC11E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B1A8-E262-4370-B615-C1CEF3DE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57A-059D-4732-9B72-3742DA29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049-70DE-459B-A19C-5619A498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5D0-19DD-4E85-A64C-84919C3E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BA0-36F3-436F-AE3E-A8642582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D0F-61CF-47D5-B18C-39684E8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6C65-A6C2-4A47-A42E-9C7456BE306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8B96-F2B3-44CB-8675-6A759F8E08A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32AA-31DE-4C80-83F2-F6F0AD2981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E53D-B73E-40FD-8F42-516C965E2C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Внутренняя среда организма.</a:t>
            </a:r>
            <a:br>
              <a:rPr sz="6700"/>
            </a:br>
            <a:br>
              <a:rPr sz="6700"/>
            </a:b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Кровь, ее строение и значение</a:t>
            </a:r>
            <a:endParaRPr b="0" lang="en-US" sz="67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6386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ДАНИЛОВА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Times New Roman"/>
              </a:rPr>
              <a:t>Состав крови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Эритр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32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се эритроциты человека уложить рядом, то получиться лента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 ра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поясывающая земной шар по экват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считать число эритроцитов со скоростью 100 шт. в минуту, то для того, чтобы пересчитать их все потребуется почт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50 тысяч л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321600">
            <a:off x="1444320" y="34920"/>
            <a:ext cx="70120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ть только..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3760" y="990360"/>
            <a:ext cx="38098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Лейк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6137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.И. 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Свертывание крови </a:t>
            </a:r>
            <a:br>
              <a:rPr sz="4400"/>
            </a:b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(образование тромба)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20968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оци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пл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С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666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рменты плазмы (глобу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9625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ин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плазм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800600"/>
            <a:ext cx="2133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о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астворим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76920"/>
            <a:ext cx="1981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в виде ни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791320"/>
            <a:ext cx="2286000" cy="6426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р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тк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828800"/>
            <a:ext cx="0" cy="4572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191120"/>
            <a:ext cx="259092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200400"/>
            <a:ext cx="1067040" cy="7621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440" y="3124080"/>
            <a:ext cx="1066680" cy="9144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029200"/>
            <a:ext cx="243828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267080" y="4343400"/>
            <a:ext cx="152424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5257800"/>
            <a:ext cx="1447920" cy="5335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62160" y="6019920"/>
            <a:ext cx="990360" cy="30456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За 1 день</a:t>
            </a:r>
            <a:endParaRPr b="0" lang="en-US" sz="6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костный мозг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320 млрд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ритроци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За 1 секунду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,5 млн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Лабораторная работа № 3 </a:t>
            </a:r>
            <a:br>
              <a:rPr sz="4000"/>
            </a:b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Тема: «Сравнение крови человека с кровью лягушки»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епарате лягушки рассмотрите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е, в чем их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ритроциты и лейкоциты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препарат крови человека, найдите в поле зрения микроскопа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ти кровяные тельца в своих тетра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отличия эритроцитов человека от эритроцитов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ья кровь, человека или лягушки, перенесет в единицу времени больше кислорода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«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Кровь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ак зеркало отражает многое из того, что происходит в организме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»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А. Касси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Внутренняя среда -</a:t>
            </a:r>
            <a:r>
              <a:rPr b="1" i="1" lang="en-US" sz="5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ая система жидкостей – является естественным продолжением водной основы клет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66ff"/>
                </a:solidFill>
                <a:latin typeface="Times New Roman"/>
              </a:rPr>
              <a:t>Внутренняя среда организма</a:t>
            </a:r>
            <a:endParaRPr b="0" lang="en-US" sz="5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28800" y="1562040"/>
            <a:ext cx="5029200" cy="529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457200"/>
            <a:ext cx="8229600" cy="838080"/>
          </a:xfrm>
          <a:prstGeom prst="rect">
            <a:avLst/>
          </a:prstGeom>
          <a:solidFill>
            <a:srgbClr val="ffff99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Times New Roman"/>
              </a:rPr>
              <a:t>Компоненты и их рас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44792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1523880"/>
            <a:ext cx="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447920"/>
            <a:ext cx="0" cy="1447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286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124080"/>
            <a:ext cx="3048120" cy="9907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ка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895480"/>
            <a:ext cx="2666880" cy="7621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9718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09880"/>
            <a:ext cx="2361960" cy="1752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дц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овено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572000"/>
            <a:ext cx="2361960" cy="1295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657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4191120"/>
            <a:ext cx="2666880" cy="1676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мфа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Задание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ите данные, приведенные в таб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те состав морской воды и сыворотки кров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чему кровь называют «плененным мор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304920"/>
          <a:ext cx="8229600" cy="53895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Химический 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рская в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ыворотка кров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9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,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5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O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" y="5715000"/>
          <a:ext cx="8229600" cy="70020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руги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7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5400000">
            <a:off x="-1105200" y="28573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Функции крови</a:t>
            </a:r>
            <a:endParaRPr b="0" i="1" lang="en-US" sz="2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2438280"/>
            <a:ext cx="0" cy="2362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Monotype Corsiva"/>
              </a:rPr>
              <a:t>КРОВЬ</a:t>
            </a:r>
            <a:r>
              <a:rPr b="1" i="1" lang="en-US" sz="4800" spc="-1" strike="noStrike">
                <a:solidFill>
                  <a:srgbClr val="99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1447920"/>
            <a:ext cx="609840" cy="228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447920"/>
            <a:ext cx="990720" cy="3808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33526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лазма к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828800"/>
            <a:ext cx="4495680" cy="685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ормен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0" cy="17528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438280"/>
            <a:ext cx="0" cy="1828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514600"/>
            <a:ext cx="0" cy="2133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1911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2670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7242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480060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46483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1-06T07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