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539-FD9D-4FF5-91F6-217EFBD9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277-08C2-4D40-BE2C-97A0954D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995-611A-4559-8C8D-4CD7ED8B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04D-8FBD-4C42-9D1F-C110392F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A0D8-8187-4ED1-BE0F-26B5FE9E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B9A1-C688-4BB2-B442-01372565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EEA2-4956-41DE-A861-10A756B8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C48-E7AE-4188-991C-23596993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ACA2-4993-4D17-A19C-E441BE06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F653-787C-4777-961C-DDBC0DB9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5E1A-BCDE-4099-B5BA-46FA4EE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A87-480F-4179-9A96-B423A949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6970-B50F-4ACE-864B-A2BAD96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3DB7-CC11-444E-A784-70BF8AE0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1E03-FD0C-4F05-A4E8-5CD10342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5BE4-C703-4708-B328-4D7FB4FC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9A58-2B87-4F4E-B5AA-AD10BCBD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62F7-536D-4C99-9756-E55F7C94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B9E5-C931-411D-90E9-3C3B6254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BDDC-3BBF-4419-BF77-877B75B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39E6-3147-42BC-9EF6-AE8880FA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A803-D0EA-4113-94D1-B41ED78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C9B-A824-483C-9329-3556AEDA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942E-5139-450E-9345-1FEF2E96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7AFB-CEE4-4EE3-BA03-68EBB51D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E593-344F-4D1D-AB92-E1F9D167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5A40-0A6F-4775-9E3C-45298E8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BC1C-FE6E-4997-9B50-BD48657E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CC0B-99FC-4CE5-8AF5-D2FF118A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7CAC-B8B8-46B5-BECE-8EF2C734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E965-7172-442C-BE9F-F92DF245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77E7-D542-449D-8363-579915BC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791B6-97FE-4A67-BE07-12CE2F2B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2F4-B8C5-4F3D-B18B-68964004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A3BCD-A7B6-488C-98A9-6014BD28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6EF6-33C6-4B48-8B75-9B12EF5D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1A04A-3799-450A-A5D5-2B34D464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F1089-A919-47EE-92D5-E31E865B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4E97-155A-45C1-B600-587DD17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B2EC-F3B6-4EA4-81BB-D5EE3EB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A957-A7BF-4663-B0D1-996F031F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8D74-4517-4EB2-809B-AD00D1AE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6099-E5F0-46FD-9D9A-86EA7CAD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989-88BF-4062-84B5-BB3065D9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112-EE50-412E-B2AC-12860BB9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C7F-D2D8-41DA-89B3-5F640B8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0C8-E2AD-415F-92F6-4A8DE0A5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F61-512D-4179-B6EC-B54FD20C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C0A-8F4B-4910-A46B-E9AD8F65ED6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DC98-A1FF-4EAE-94B1-4D50DDDCA19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6102-F428-44D4-9B5C-A37068AF0D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DFCB-35A5-4476-B1FC-40FBE299FD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Внутренняя среда организма.</a:t>
            </a:r>
            <a:br>
              <a:rPr sz="6700"/>
            </a:br>
            <a:br>
              <a:rPr sz="6700"/>
            </a:b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Кровь, ее строение и значение</a:t>
            </a:r>
            <a:endParaRPr b="0" lang="en-US" sz="67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6386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ДАНИЛОВА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Times New Roman"/>
              </a:rPr>
              <a:t>Состав крови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Эритр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32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се эритроциты человека уложить рядом, то получиться лента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 ра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поясывающая земной шар по экват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считать число эритроцитов со скоростью 100 шт. в минуту, то для того, чтобы пересчитать их все потребуется почт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50 тысяч л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321600">
            <a:off x="1444320" y="34920"/>
            <a:ext cx="70120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ть только..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3760" y="990360"/>
            <a:ext cx="38098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Лейк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6137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.И. 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Свертывание крови </a:t>
            </a:r>
            <a:br>
              <a:rPr sz="4400"/>
            </a:b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(образование тромба)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20968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оци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пл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С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666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рменты плазмы (глобу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9625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ин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плазм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800600"/>
            <a:ext cx="2133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о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астворим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76920"/>
            <a:ext cx="1981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в виде ни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791320"/>
            <a:ext cx="2286000" cy="6426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р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тк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828800"/>
            <a:ext cx="0" cy="4572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191120"/>
            <a:ext cx="259092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200400"/>
            <a:ext cx="1067040" cy="7621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440" y="3124080"/>
            <a:ext cx="1066680" cy="9144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029200"/>
            <a:ext cx="243828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267080" y="4343400"/>
            <a:ext cx="152424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5257800"/>
            <a:ext cx="1447920" cy="5335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62160" y="6019920"/>
            <a:ext cx="990360" cy="30456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За 1 день</a:t>
            </a:r>
            <a:endParaRPr b="0" lang="en-US" sz="6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костный мозг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320 млрд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ритроци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За 1 секунду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,5 млн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Лабораторная работа № 3 </a:t>
            </a:r>
            <a:br>
              <a:rPr sz="4000"/>
            </a:b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Тема: «Сравнение крови человека с кровью лягушки»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епарате лягушки рассмотрите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е, в чем их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ритроциты и лейкоциты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препарат крови человека, найдите в поле зрения микроскопа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ти кровяные тельца в своих тетра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отличия эритроцитов человека от эритроцитов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ья кровь, человека или лягушки, перенесет в единицу времени больше кислорода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«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Кровь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ак зеркало отражает многое из того, что происходит в организме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»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А. Касси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Внутренняя среда -</a:t>
            </a:r>
            <a:r>
              <a:rPr b="1" i="1" lang="en-US" sz="5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ая система жидкостей – является естественным продолжением водной основы клет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66ff"/>
                </a:solidFill>
                <a:latin typeface="Times New Roman"/>
              </a:rPr>
              <a:t>Внутренняя среда организма</a:t>
            </a:r>
            <a:endParaRPr b="0" lang="en-US" sz="5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28800" y="1562040"/>
            <a:ext cx="5029200" cy="529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457200"/>
            <a:ext cx="8229600" cy="838080"/>
          </a:xfrm>
          <a:prstGeom prst="rect">
            <a:avLst/>
          </a:prstGeom>
          <a:solidFill>
            <a:srgbClr val="ffff99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Times New Roman"/>
              </a:rPr>
              <a:t>Компоненты и их рас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44792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1523880"/>
            <a:ext cx="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447920"/>
            <a:ext cx="0" cy="1447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286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124080"/>
            <a:ext cx="3048120" cy="9907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ка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895480"/>
            <a:ext cx="2666880" cy="7621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9718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09880"/>
            <a:ext cx="2361960" cy="1752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дц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овено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572000"/>
            <a:ext cx="2361960" cy="1295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657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4191120"/>
            <a:ext cx="2666880" cy="1676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мфа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Задание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ите данные, приведенные в таб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те состав морской воды и сыворотки кров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чему кровь называют «плененным мор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304920"/>
          <a:ext cx="8229600" cy="53895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Химический 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рская в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ыворотка кров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9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,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5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O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" y="5715000"/>
          <a:ext cx="8229600" cy="70020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руги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7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5400000">
            <a:off x="-1105200" y="28573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Функции крови</a:t>
            </a:r>
            <a:endParaRPr b="0" i="1" lang="en-US" sz="2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2438280"/>
            <a:ext cx="0" cy="2362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Monotype Corsiva"/>
              </a:rPr>
              <a:t>КРОВЬ</a:t>
            </a:r>
            <a:r>
              <a:rPr b="1" i="1" lang="en-US" sz="4800" spc="-1" strike="noStrike">
                <a:solidFill>
                  <a:srgbClr val="99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1447920"/>
            <a:ext cx="609840" cy="228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447920"/>
            <a:ext cx="990720" cy="3808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33526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лазма к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828800"/>
            <a:ext cx="4495680" cy="685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ормен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0" cy="17528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438280"/>
            <a:ext cx="0" cy="1828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514600"/>
            <a:ext cx="0" cy="2133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1911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2670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7242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480060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46483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1-06T07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