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608-D50B-48B3-B5C0-1BFCB577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56D-DFDD-430B-85C9-13BB839E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BC8-BCB7-483A-9C79-A9C80887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2BA-B71C-4DAC-8C7F-65666BB0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7D5-488F-45F6-97C5-DBC6BE7A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D32-9C0F-4CA7-8A77-F7C794B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859-F35C-4B00-957E-B62899A3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321-0701-45DF-938E-28743071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C8C-F54D-49C5-9333-F988D1FD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C07-5B2D-4796-941E-F4F2EB43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6B1-DD58-424B-93DF-0D718051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C67-3C65-4D73-94BB-D70FD4B5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22A5-E206-4DF0-89AC-700AEB462D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илова О.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У БРединская СОШ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476280"/>
          <a:ext cx="8280000" cy="6048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множь эти числа. Произведение будет указывать увеличение, которое в данный момент дает микроско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нашего примера это 10 х 20 = 20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ереводишь объектив или меняешь окуляр (на изображенном микроскопе его можно плавно поворачивать, изменяя 10 на 20), то, соответственно, меняется и увели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 об этом! Важно указывать увеличение, когда работаешь над объек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работ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 световым микроско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против левого плеча на расстоянии 5 - 10 см от края ст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рительную трубку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ьца на предметный столик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ьце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освещения, комфортного для глаза: не «бьющего», но и не «мутного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5092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напротив отверстия в нем готовый препарат. Зажмите предметное стекло зажимам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После работы уберите микроскоп в футляр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15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т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ш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узнать, какое увеличение д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29040" y="1628640"/>
            <a:ext cx="31813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9079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овые микроскопы с двумя линз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и изобретены в 16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7 веке голландец Антони ван Левенгук сконструировал боле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ющий увеличение до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 20 веке был изобретен электро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вающий изображ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есятки и сотни тысяч раз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94" name="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User</cp:lastModifiedBy>
  <dcterms:modified xsi:type="dcterms:W3CDTF">2011-11-06T10:32:00Z</dcterms:modified>
  <cp:revision>68</cp:revision>
  <dc:subject/>
  <dc:title>Устройство увеличительных приборов и  правила работы с ними.</dc:title>
</cp:coreProperties>
</file>