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795-A1CD-4230-AEE9-DAEBB4C5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F26-A3AD-4149-9951-88B0CBAE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7D8-5B32-4A64-86E3-C3C3EE46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972-0C95-4830-81FA-BC99CCAA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A82D-FEA3-4D51-9091-B82715A0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3319-4B73-4F13-A25C-BF5F9374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A62-3B63-4B5F-8D33-C13E8099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D2D1-56F4-4069-8F4E-2BB269B6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0B4-43EF-49C7-906F-A79543D1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BD57-9C5B-44B2-9AFC-739451F9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FED7-970C-444F-BBF3-E89C796C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036-CD42-4A79-81A4-7F1B458F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975F-8833-4CC2-A224-BE2D84D2C4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Устройство увеличительных приборов и 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правила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 работы с ним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88000" y="5661000"/>
            <a:ext cx="35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Данилова О.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ОУ БРединская СОШ№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2627280" cy="4105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42920" y="907560"/>
            <a:ext cx="3886200" cy="28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Что можно увидеть в электронный микроскоп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6524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50920" y="333360"/>
          <a:ext cx="8713800" cy="612000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30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ление яйцеклет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льник ири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42920" y="4076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148360" y="40053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95280" y="476280"/>
          <a:ext cx="8280000" cy="6048000"/>
        </p:xfrm>
        <a:graphic>
          <a:graphicData uri="http://schemas.openxmlformats.org/drawingml/2006/table">
            <a:tbl>
              <a:tblPr/>
              <a:tblGrid>
                <a:gridCol w="4140000"/>
                <a:gridCol w="4140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з мухи (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ник (1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волнистого попугая (10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хоед на пере попугая (6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43657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11280" y="476280"/>
          <a:ext cx="7993080" cy="6048360"/>
        </p:xfrm>
        <a:graphic>
          <a:graphicData uri="http://schemas.openxmlformats.org/drawingml/2006/table">
            <a:tbl>
              <a:tblPr/>
              <a:tblGrid>
                <a:gridCol w="3997080"/>
                <a:gridCol w="3996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ок зверобоя (10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пче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бабо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птицы (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16360" y="400860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88000" y="1052640"/>
            <a:ext cx="3097080" cy="2315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11280" y="3956040"/>
            <a:ext cx="3313080" cy="2478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множь эти числа. Произведение будет указывать увеличение, которое в данный момент дает микроско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я нашего примера это 10 х 20 = 200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ереводишь объектив или меняешь окуляр (на изображенном микроскопе его можно плавно поворачивать, изменяя 10 на 20), то, соответственно, меняется и увелич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мни об этом! Важно указывать увеличение, когда работаешь над объект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авила работы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о световым микроскоп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тавьте микроскоп штативом к себе против левого плеча на расстоянии 5 - 10 см от края стол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рительную трубку опустите вниз н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-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м от предметного столи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правьте свет при помощи  подвижного зеркальца на предметный столик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ращайте зеркальце осторожно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мотрите при этом в окуляр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биваясь освещения, комфортного для глаза: не «бьющего», но и не «мутного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250920"/>
            <a:ext cx="88394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оложите на предметный столик напротив отверстия в нем готовый препарат. Зажмите предметное стекло зажимами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В окуляр смотрите одним глазом, не закрывая и не зажмуривая другой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Глядя в окуляр, очень медленно при помощи винтов поднимайте зрительную трубку до тех пор, пока не будет четкого изображения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После работы уберите микроскоп в футляр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66920" y="40464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200" y="1668600"/>
            <a:ext cx="80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41588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Какие увеличительные приборы т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наешь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Что представляет собой лупа и како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еличение она дае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Как устроен микроскоп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. Как узнать, какое увеличение д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икроскоп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2880000" cy="3598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1125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п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чная и штатив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11253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етовой микроск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08560" y="111456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7840" y="22860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Внешний вид увеличительных прибо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8000" y="2505240"/>
            <a:ext cx="2879640" cy="359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56360" y="2505240"/>
            <a:ext cx="2879640" cy="3598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29040" y="1628640"/>
            <a:ext cx="3181320" cy="4969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71640" y="90792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0574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товые микроскопы с двумя линзам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ыли изобретены в 16 ве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17 веке голландец Антони ван Левенгук сконструировал боле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ершенны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кроскоп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ющий увеличение до 270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в 20 веке был изобретен электронны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кроскоп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вающий изображени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десятки и сотни тысяч раз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438280" cy="2127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684680" cy="6264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40160" y="44280"/>
            <a:ext cx="38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Ручная л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035760"/>
            <a:ext cx="435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92840" y="1752480"/>
            <a:ext cx="321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тель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екл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нз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35680" y="4794120"/>
            <a:ext cx="14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уч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28640" y="4572000"/>
            <a:ext cx="2438280" cy="512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59911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чная лупа дает увеличение  от 2 до 2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2628720" y="3044160"/>
            <a:ext cx="3159360" cy="587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2160" y="32814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109240" y="1857960"/>
            <a:ext cx="3485160" cy="4654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760" y="71280"/>
            <a:ext cx="4881600" cy="6526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580000" y="4428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Штатив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л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10160" y="413388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69480" y="472140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46800" y="2895480"/>
            <a:ext cx="30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6720" y="154296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400200" y="4508640"/>
            <a:ext cx="2035080" cy="2887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626920" y="3213000"/>
            <a:ext cx="2808360" cy="360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25440" y="5985000"/>
            <a:ext cx="43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тативная лупа увеличив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меты от 10 до 2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133720" y="1844640"/>
            <a:ext cx="3301920" cy="3650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268360" y="5084640"/>
            <a:ext cx="3184560" cy="304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1547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08000" y="-2700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Световой микроскоп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284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е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бражения предметов от 56 до 80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01800" y="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50040" y="76500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убу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18720" y="191628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ъектив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05400" y="285264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33120" y="400536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50040" y="465300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н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02160" y="57294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2720" y="6093000"/>
            <a:ext cx="25671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4221000"/>
            <a:ext cx="1655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5080" y="189000"/>
            <a:ext cx="11509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87640" y="1123920"/>
            <a:ext cx="1944720" cy="14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3357720"/>
            <a:ext cx="1871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5084640"/>
            <a:ext cx="25668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11280" y="2276280"/>
            <a:ext cx="2736720" cy="865440"/>
            <a:chOff x="611280" y="2276280"/>
            <a:chExt cx="2736720" cy="865440"/>
          </a:xfrm>
        </p:grpSpPr>
        <p:sp>
          <p:nvSpPr>
            <p:cNvPr id="94" name=""/>
            <p:cNvSpPr/>
            <p:nvPr/>
          </p:nvSpPr>
          <p:spPr>
            <a:xfrm>
              <a:off x="611280" y="2708280"/>
              <a:ext cx="23763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4360" y="2708280"/>
              <a:ext cx="2663640" cy="4334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11280" y="2276280"/>
              <a:ext cx="2376360" cy="4316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6040" y="26272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куля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6040" y="2639880"/>
            <a:ext cx="5079960" cy="410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бъектив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8T07:05:02Z</dcterms:created>
  <dc:creator> </dc:creator>
  <dc:description/>
  <dc:language>en-US</dc:language>
  <cp:lastModifiedBy>User</cp:lastModifiedBy>
  <dcterms:modified xsi:type="dcterms:W3CDTF">2011-11-06T10:32:00Z</dcterms:modified>
  <cp:revision>68</cp:revision>
  <dc:subject/>
  <dc:title>Устройство увеличительных приборов и  правила работы с ними.</dc:title>
</cp:coreProperties>
</file>