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6.jpeg" ContentType="image/jpeg"/>
  <Override PartName="/ppt/media/image5.wmf" ContentType="image/x-wmf"/>
  <Override PartName="/ppt/media/image12.jpeg" ContentType="image/jpeg"/>
  <Override PartName="/ppt/media/image7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496F-9531-4491-91CB-FAC7B1C92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D979-1C27-4888-A902-36B445501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6FDA-318A-437A-8B13-6797386AA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B3C9-C12F-4AC4-A2F1-20376A377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3A93-34FD-4F18-837E-AF3FA88AF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B49C-34B1-410F-841F-D2C0F8F23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54D0-C79D-4EB9-996C-2B11FFE3C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C588-2717-4D2C-9F19-3460A7D63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AA1A-1A8C-4395-B9CC-C40D27987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F5BE-FA20-47B0-8F12-F039596C8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24F8-0329-41F4-A905-413547B14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C7D3-D1E6-4F3B-AE0D-5D0FEB586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B93D1-5191-4AE5-82A0-2D16152DBC8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87280" y="184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33cc"/>
                </a:solidFill>
                <a:latin typeface="Times New Roman"/>
              </a:rPr>
              <a:t>Устройство увеличительных приборов и </a:t>
            </a:r>
            <a:br>
              <a:rPr sz="5400"/>
            </a:br>
            <a:r>
              <a:rPr b="1" lang="ru-RU" sz="5400" spc="-1" strike="noStrike">
                <a:solidFill>
                  <a:srgbClr val="3333cc"/>
                </a:solidFill>
                <a:latin typeface="Times New Roman"/>
              </a:rPr>
              <a:t>правила</a:t>
            </a:r>
            <a:br>
              <a:rPr sz="5400"/>
            </a:br>
            <a:r>
              <a:rPr b="1" lang="ru-RU" sz="5400" spc="-1" strike="noStrike">
                <a:solidFill>
                  <a:srgbClr val="3333cc"/>
                </a:solidFill>
                <a:latin typeface="Times New Roman"/>
              </a:rPr>
              <a:t> работы с ними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788000" y="5661000"/>
            <a:ext cx="352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Данилова О.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МОУ БРединская СОШ№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79280" y="2349360"/>
            <a:ext cx="2627280" cy="41054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" dur="1" fill="hold"/>
                                  <p:tgtEl>
                                    <p:spTgt spid="4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42920" y="907560"/>
            <a:ext cx="3886200" cy="28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Что можно увидеть в электронный микроскоп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4176720" cy="65246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"/>
          <p:cNvGraphicFramePr/>
          <p:nvPr/>
        </p:nvGraphicFramePr>
        <p:xfrm>
          <a:off x="250920" y="333360"/>
          <a:ext cx="8713800" cy="6120000"/>
        </p:xfrm>
        <a:graphic>
          <a:graphicData uri="http://schemas.openxmlformats.org/drawingml/2006/table">
            <a:tbl>
              <a:tblPr/>
              <a:tblGrid>
                <a:gridCol w="4357440"/>
                <a:gridCol w="4356360"/>
              </a:tblGrid>
              <a:tr h="306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обление яйцеклетк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невище папоротника орля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невище папоротника орляка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ыльник ирис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116000" y="1052640"/>
            <a:ext cx="2857680" cy="21430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5219640" y="981000"/>
            <a:ext cx="2857680" cy="21430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1042920" y="4076640"/>
            <a:ext cx="2857680" cy="21430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5148360" y="4005360"/>
            <a:ext cx="2857320" cy="21430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395280" y="476280"/>
          <a:ext cx="8280000" cy="6048000"/>
        </p:xfrm>
        <a:graphic>
          <a:graphicData uri="http://schemas.openxmlformats.org/drawingml/2006/table">
            <a:tbl>
              <a:tblPr/>
              <a:tblGrid>
                <a:gridCol w="4140000"/>
                <a:gridCol w="4140000"/>
              </a:tblGrid>
              <a:tr h="30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лаз мухи (6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лоник (10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ро волнистого попугая (10)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ухоед на пере попугая (60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68360" y="1268280"/>
            <a:ext cx="2857320" cy="21430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4716360" y="1268280"/>
            <a:ext cx="2857680" cy="21430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468360" y="4365720"/>
            <a:ext cx="2857320" cy="21430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4572000" y="4365720"/>
            <a:ext cx="2857680" cy="21430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611280" y="476280"/>
          <a:ext cx="7993080" cy="6048360"/>
        </p:xfrm>
        <a:graphic>
          <a:graphicData uri="http://schemas.openxmlformats.org/drawingml/2006/table">
            <a:tbl>
              <a:tblPr/>
              <a:tblGrid>
                <a:gridCol w="3997080"/>
                <a:gridCol w="3996000"/>
              </a:tblGrid>
              <a:tr h="30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Цветок зверобоя (10)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ыло пчел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2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ыло бабоч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ро птицы (6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755640" y="1125360"/>
            <a:ext cx="3024360" cy="22687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716360" y="4008600"/>
            <a:ext cx="3240360" cy="24303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4788000" y="1052640"/>
            <a:ext cx="3097080" cy="23158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611280" y="3956040"/>
            <a:ext cx="3313080" cy="24782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468360" y="4428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Как определить увеличение микроскопа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692280"/>
            <a:ext cx="9144000" cy="57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еремножь эти числа. Произведение будет указывать увеличение, которое в данный момент дает микроскоп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ля нашего примера это 10 х 20 = 200 раз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Если переводишь объектив или меняешь окуляр (на изображенном микроскопе его можно плавно поворачивать, изменяя 10 на 20), то, соответственно, меняется и увеличени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Помни об этом! Важно указывать увеличение, когда работаешь над объекто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Правила работы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со световым микроскопо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692280"/>
            <a:ext cx="9144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оставьте микроскоп штативом к себе против левого плеча на расстоянии 5 - 10 см от края стола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2.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Зрительную трубку опустите вниз на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1-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мм от предметного столика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3.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Направьте свет при помощи  подвижного зеркальца на предметный столик.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Вращайте зеркальце осторожно,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мотрите при этом в окуляр,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добиваясь освещения, комфортного для глаза: не «бьющего», но и не «мутного»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9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52280" y="250920"/>
            <a:ext cx="8839440" cy="63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4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Положите на предметный столик напротив отверстия в нем готовый препарат. Зажмите предметное стекло зажимами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0000"/>
                </a:solidFill>
                <a:latin typeface="Times New Roman"/>
              </a:rPr>
              <a:t>5.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 В окуляр смотрите одним глазом, не закрывая и не зажмуривая другой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0000"/>
                </a:solidFill>
                <a:latin typeface="Times New Roman"/>
              </a:rPr>
              <a:t>6.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 Глядя в окуляр, очень медленно при помощи винтов поднимайте зрительную трубку до тех пор, пока не будет четкого изображения.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0000"/>
                </a:solidFill>
                <a:latin typeface="Times New Roman"/>
              </a:rPr>
              <a:t>7.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 После работы уберите микроскоп в футляр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6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1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6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266920" y="404640"/>
            <a:ext cx="410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Проверь себя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03200" y="1668600"/>
            <a:ext cx="8055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80880" y="1415880"/>
            <a:ext cx="82296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1. Какие увеличительные приборы ты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знаешь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2. Что представляет собой лупа и какое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увеличение она дает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3. Как устроен микроскоп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4. Как узнать, какое увеличение дает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микроскоп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8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8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3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132000" y="3068640"/>
            <a:ext cx="2880000" cy="35989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24000" y="1125360"/>
            <a:ext cx="251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Луп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учная и штативна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48000" y="1125360"/>
            <a:ext cx="2666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ветовой микроско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208560" y="111456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Электронный микроско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77840" y="228600"/>
            <a:ext cx="885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Внешний вид увеличительных приборо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08000" y="2505240"/>
            <a:ext cx="2879640" cy="35971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156360" y="2505240"/>
            <a:ext cx="2879640" cy="35985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Электронный микроскоп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029040" y="1628640"/>
            <a:ext cx="3181320" cy="49690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771640" y="907920"/>
            <a:ext cx="60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Историческая справк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057400"/>
            <a:ext cx="9144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ветовые микроскопы с двумя линзами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были изобретены в 16 век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 17 веке голландец Антони ван Левенгук сконструировал более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овершенный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микроскоп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ающий увеличение до 270 раз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 в 20 веке был изобретен электронный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микроскоп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увеличивающий изображение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 десятки и сотни тысяч раз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28600" y="0"/>
            <a:ext cx="2438280" cy="21272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1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1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4684680" cy="62643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240160" y="44280"/>
            <a:ext cx="386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Ручная луп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62120" y="6035760"/>
            <a:ext cx="4359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892840" y="1752480"/>
            <a:ext cx="3216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увеличительно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текло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линза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935680" y="4794120"/>
            <a:ext cx="144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уч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 flipV="1">
            <a:off x="3428640" y="4572000"/>
            <a:ext cx="2438280" cy="51264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27640" y="5991120"/>
            <a:ext cx="46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учная лупа дает увеличение  от 2 до 20 раз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 flipV="1">
            <a:off x="2628720" y="3044160"/>
            <a:ext cx="3159360" cy="58716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942160" y="3281400"/>
            <a:ext cx="21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прав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 flipV="1">
            <a:off x="2109240" y="1857960"/>
            <a:ext cx="3485160" cy="46548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0760" y="71280"/>
            <a:ext cx="4881600" cy="65264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5580000" y="44280"/>
            <a:ext cx="352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Штативна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луп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510160" y="4133880"/>
            <a:ext cx="158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штати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69480" y="4721400"/>
            <a:ext cx="162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зеркал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446800" y="2895480"/>
            <a:ext cx="3085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редметны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толи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6720" y="1542960"/>
            <a:ext cx="149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куля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3400200" y="4508640"/>
            <a:ext cx="2035080" cy="28872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2626920" y="3213000"/>
            <a:ext cx="2808360" cy="36036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825440" y="5985000"/>
            <a:ext cx="435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Штативная лупа увеличивае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едметы от 10 до 25 раз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2133720" y="1844640"/>
            <a:ext cx="3301920" cy="36504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2268360" y="5084640"/>
            <a:ext cx="3184560" cy="30492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050920" y="0"/>
            <a:ext cx="415476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-108000" y="-27000"/>
            <a:ext cx="23036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Световой микроскоп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62848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величивае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зображения предметов от 56 до 800 раз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301800" y="0"/>
            <a:ext cx="149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куля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350040" y="765000"/>
            <a:ext cx="117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тубу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318720" y="1916280"/>
            <a:ext cx="221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бъектив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05400" y="285264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редметны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толи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333120" y="4005360"/>
            <a:ext cx="162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зеркал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350040" y="4653000"/>
            <a:ext cx="139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винт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302160" y="5729400"/>
            <a:ext cx="158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штати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12720" y="6093000"/>
            <a:ext cx="2567160" cy="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11280" y="4221000"/>
            <a:ext cx="1655640" cy="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645080" y="189000"/>
            <a:ext cx="1150920" cy="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2987640" y="1123920"/>
            <a:ext cx="1944720" cy="144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11280" y="3357720"/>
            <a:ext cx="1871640" cy="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11280" y="5084640"/>
            <a:ext cx="2566800" cy="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611280" y="2276280"/>
            <a:ext cx="2736720" cy="865440"/>
            <a:chOff x="611280" y="2276280"/>
            <a:chExt cx="2736720" cy="865440"/>
          </a:xfrm>
        </p:grpSpPr>
        <p:sp>
          <p:nvSpPr>
            <p:cNvPr id="94" name=""/>
            <p:cNvSpPr/>
            <p:nvPr/>
          </p:nvSpPr>
          <p:spPr>
            <a:xfrm>
              <a:off x="611280" y="2708280"/>
              <a:ext cx="2376360" cy="0"/>
            </a:xfrm>
            <a:prstGeom prst="line">
              <a:avLst/>
            </a:prstGeom>
            <a:ln w="7632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84360" y="2708280"/>
              <a:ext cx="2663640" cy="433440"/>
            </a:xfrm>
            <a:prstGeom prst="line">
              <a:avLst/>
            </a:prstGeom>
            <a:ln w="7632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611280" y="2276280"/>
              <a:ext cx="2376360" cy="431640"/>
            </a:xfrm>
            <a:prstGeom prst="line">
              <a:avLst/>
            </a:prstGeom>
            <a:ln w="7632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68360" y="4428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Как определить увеличение микроскопа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08000" y="765000"/>
            <a:ext cx="3587760" cy="59770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3956040" y="2627280"/>
            <a:ext cx="5079960" cy="41148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140360" y="1052640"/>
            <a:ext cx="475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смотри на число, указанное на окуляр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5579640" y="2060640"/>
            <a:ext cx="2737080" cy="237636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956040" y="2639880"/>
            <a:ext cx="5079960" cy="41022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08000" y="765000"/>
            <a:ext cx="3587760" cy="59770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468360" y="4428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Как определить увеличение микроскопа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140360" y="1052640"/>
            <a:ext cx="475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смотри на число, указанное на объектив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5579640" y="2060640"/>
            <a:ext cx="2737080" cy="237636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8T07:05:02Z</dcterms:created>
  <dc:creator> </dc:creator>
  <dc:description/>
  <dc:language>en-US</dc:language>
  <cp:lastModifiedBy>User</cp:lastModifiedBy>
  <dcterms:modified xsi:type="dcterms:W3CDTF">2011-11-06T10:32:00Z</dcterms:modified>
  <cp:revision>68</cp:revision>
  <dc:subject/>
  <dc:title>Устройство увеличительных приборов и  правила работы с ними.</dc:title>
</cp:coreProperties>
</file>