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4AEE-D091-4CFB-A5AD-A059A71DC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956B-62FA-49FD-A417-B25BB74F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ABC0-7877-4F42-A460-02ED5B9C5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AC81-7243-414D-ACC4-DCFCF0A9C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68B7-3245-4F2A-9EDB-AB3712F9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CE3E-7C55-441E-86AB-6464C171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46A4-E5E2-4AEC-BB28-66076987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A1B4-3C2B-4800-92EA-3C2FA000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2335-61FC-44B6-AB8E-60A4C9439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AEB9-1095-4DA9-988B-C76B42FD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150E-EBA3-4830-9F6A-529724BE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C332-D619-421B-AA46-83D2498E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D8ED-F631-4CCC-89E9-B90765A1F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Georgia"/>
              </a:rPr>
              <a:t>Презентация к уроку биологии в 8 классе</a:t>
            </a:r>
            <a:r>
              <a:rPr b="0" lang="en-US" sz="4400" spc="-1" strike="noStrike">
                <a:solidFill>
                  <a:srgbClr val="990033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Georgia"/>
              </a:rPr>
              <a:t>Разработа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Georgia"/>
              </a:rPr>
              <a:t>учитель химии и биологии Оболенской СОШ Серпуховского района Москов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Georgia"/>
              </a:rPr>
              <a:t>Киселева Елена Викто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Georgia"/>
              </a:rPr>
              <a:t>2011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cc"/>
                </a:solidFill>
                <a:latin typeface="Elephant"/>
                <a:ea typeface="Arial"/>
              </a:rPr>
              <a:t>§</a:t>
            </a:r>
            <a:r>
              <a:rPr b="1" i="1" lang="ru-RU" sz="3200" spc="-1" strike="noStrike">
                <a:solidFill>
                  <a:srgbClr val="9900cc"/>
                </a:solidFill>
                <a:latin typeface="Elephant"/>
                <a:ea typeface="Arial"/>
              </a:rPr>
              <a:t> 10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Elephant"/>
                <a:ea typeface="Arial"/>
              </a:rPr>
              <a:t>ответить на вопросы в конце параграф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Georgia"/>
              </a:rPr>
              <a:t>Используемая 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Georgia"/>
              </a:rPr>
              <a:t>Д.В.Колесов, Р.Д.Маш, И.Н.Беляев «Биология. Человек. Учебник для 8 класса» - М.: Дрофа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Georgia"/>
              </a:rPr>
              <a:t>Г.В.Чередникова «8 класс. Поурочные планы по учебнику Д.В.Колесова, Р.Д.Маша, И.Н.Беляева» - Волгоград: Учитель, 200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Georgia"/>
              </a:rPr>
              <a:t>Д.И.Мамонтов «Открытая биология. Мультимедийный курс» - М.: Физик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Bodoni MT Condensed"/>
              </a:rPr>
              <a:t>Тема урока:</a:t>
            </a:r>
            <a:r>
              <a:rPr b="1" lang="en-US" sz="4400" spc="-1" strike="noStrike">
                <a:solidFill>
                  <a:srgbClr val="000000"/>
                </a:solidFill>
                <a:latin typeface="Bodoni MT Condensed"/>
              </a:rPr>
              <a:t> </a:t>
            </a:r>
            <a:r>
              <a:rPr b="1" lang="en-US" sz="4400" spc="-1" strike="noStrike">
                <a:solidFill>
                  <a:srgbClr val="990033"/>
                </a:solidFill>
                <a:latin typeface="Bodoni MT Condensed"/>
              </a:rPr>
              <a:t>«</a:t>
            </a:r>
            <a:r>
              <a:rPr b="1" i="1" lang="en-US" sz="4400" spc="-1" strike="noStrike">
                <a:solidFill>
                  <a:srgbClr val="990033"/>
                </a:solidFill>
                <a:latin typeface="Bodoni MT Condensed"/>
              </a:rPr>
              <a:t>Значение опорно-двигательной системы, её состав. Строение костей</a:t>
            </a:r>
            <a:r>
              <a:rPr b="1" lang="en-US" sz="4400" spc="-1" strike="noStrike">
                <a:solidFill>
                  <a:srgbClr val="990033"/>
                </a:solidFill>
                <a:latin typeface="Bodoni MT Condensed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6840" y="26665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00cc"/>
                </a:solidFill>
                <a:uFillTx/>
                <a:latin typeface="Arial"/>
              </a:rPr>
              <a:t>Задачи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Узнать о строении и функциях опорно-двигательной сис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Познакомиться со строением к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Познакомиться с классификацией к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450"/>
                            </p:stCondLst>
                            <p:childTnLst>
                              <p:par>
                                <p:cTn id="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Georgia"/>
              </a:rPr>
              <a:t>Давайте вспомни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Georgia"/>
              </a:rPr>
              <a:t>Какие виды скелета у животных вам извест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Georgia"/>
              </a:rPr>
              <a:t>Назовите отделы внутреннего скел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Georgia"/>
              </a:rPr>
              <a:t>Назовите части осевого скелета, конечностей, поясов конеч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Georgia"/>
              </a:rPr>
              <a:t>В чем преимущество внутреннего скеле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Georgia"/>
              </a:rPr>
              <a:t>Каковы основные функции скеле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066680" y="1523880"/>
            <a:ext cx="72392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Bodoni MT Condensed"/>
              </a:rPr>
              <a:t>ОДС – костно-мышечн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Bodoni MT Condensed"/>
              </a:rPr>
              <a:t>ФУН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doni MT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doni MT Condensed"/>
              </a:rPr>
              <a:t>ОПОР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doni MT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doni MT Condensed"/>
              </a:rPr>
              <a:t>ЗАЩИТ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doni MT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doni MT Condensed"/>
              </a:rPr>
              <a:t>ДВИГАТЕ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038480" y="0"/>
            <a:ext cx="510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Monotype Corsiva"/>
              </a:rPr>
              <a:t>ХИМИЧЕСКИЙ  СОСТАВ  КОСТ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600200"/>
            <a:ext cx="3047760" cy="121932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Неорган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7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1600200"/>
            <a:ext cx="3048120" cy="121932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Орган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00600" y="4191120"/>
            <a:ext cx="1828800" cy="68580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Жи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91120"/>
            <a:ext cx="1447920" cy="91440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4191120"/>
            <a:ext cx="2514600" cy="144756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ли 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арбонаты – 1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Фосфаты – 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0" y="4114800"/>
            <a:ext cx="2133720" cy="144792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Друг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орган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838080" y="2819520"/>
            <a:ext cx="457200" cy="1295280"/>
          </a:xfrm>
          <a:prstGeom prst="line">
            <a:avLst/>
          </a:prstGeom>
          <a:ln w="31680">
            <a:solidFill>
              <a:srgbClr val="9900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2819520"/>
            <a:ext cx="457200" cy="1295280"/>
          </a:xfrm>
          <a:prstGeom prst="line">
            <a:avLst/>
          </a:prstGeom>
          <a:ln w="31680">
            <a:solidFill>
              <a:srgbClr val="9900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38880" y="2819520"/>
            <a:ext cx="533520" cy="1218960"/>
          </a:xfrm>
          <a:prstGeom prst="line">
            <a:avLst/>
          </a:prstGeom>
          <a:ln w="31680">
            <a:solidFill>
              <a:srgbClr val="9900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715000" y="2819520"/>
            <a:ext cx="380880" cy="1295280"/>
          </a:xfrm>
          <a:prstGeom prst="line">
            <a:avLst/>
          </a:prstGeom>
          <a:ln w="31680">
            <a:solidFill>
              <a:srgbClr val="9900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Georgia"/>
              </a:rPr>
              <a:t>Микроскопическое строение кос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38320" y="914400"/>
            <a:ext cx="3505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летки (остеоциты) погружены в твердое межклеточное вещество (костные пластинки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летки                        расположены концентрически-ми кругами (цилиндрами) вокруг кан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4286160" cy="2857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rcRect l="1781" t="3205" r="0" b="4006"/>
          <a:stretch/>
        </p:blipFill>
        <p:spPr>
          <a:xfrm>
            <a:off x="0" y="3581280"/>
            <a:ext cx="5943600" cy="3276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H="1">
            <a:off x="2743200" y="2590920"/>
            <a:ext cx="3124080" cy="152280"/>
          </a:xfrm>
          <a:prstGeom prst="line">
            <a:avLst/>
          </a:prstGeom>
          <a:ln w="666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3276360" y="5257440"/>
            <a:ext cx="2361960" cy="228600"/>
          </a:xfrm>
          <a:prstGeom prst="line">
            <a:avLst/>
          </a:prstGeom>
          <a:ln w="666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0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Georgia"/>
              </a:rPr>
              <a:t>Макроскопическое строение к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733920" y="106668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дкост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пактное вещество 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убчатое вещ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52280" y="990720"/>
            <a:ext cx="3382920" cy="5638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flipH="1">
            <a:off x="1752120" y="1600200"/>
            <a:ext cx="2133720" cy="26668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1676160" y="3276360"/>
            <a:ext cx="2057400" cy="5331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676520" y="2895480"/>
            <a:ext cx="2209680" cy="19814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5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Georgia"/>
              </a:rPr>
              <a:t>ВИДЫ КОС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2362320"/>
            <a:ext cx="289584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Трубчат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(конечнос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4120" y="2362320"/>
            <a:ext cx="3429000" cy="182880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Губча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(тела позвонк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груди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кости стоп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кист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71800" y="4876920"/>
            <a:ext cx="289548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Пло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(кости череп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лопаточн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85640" y="1066680"/>
            <a:ext cx="762120" cy="1219320"/>
          </a:xfrm>
          <a:prstGeom prst="line">
            <a:avLst/>
          </a:prstGeom>
          <a:ln w="507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572000" y="1295280"/>
            <a:ext cx="76320" cy="2971800"/>
          </a:xfrm>
          <a:prstGeom prst="line">
            <a:avLst/>
          </a:prstGeom>
          <a:ln w="507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248520" y="1066680"/>
            <a:ext cx="685800" cy="1219320"/>
          </a:xfrm>
          <a:prstGeom prst="line">
            <a:avLst/>
          </a:prstGeom>
          <a:ln w="507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1533600" cy="4724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019920" y="4191120"/>
            <a:ext cx="2971800" cy="2333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5715000" y="2286000"/>
            <a:ext cx="3162240" cy="4019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219320" y="1295280"/>
            <a:ext cx="6962760" cy="4038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2895480" y="1523880"/>
            <a:ext cx="358164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1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Monotype Corsiva"/>
              </a:rPr>
              <a:t>Ответим на 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За счет чего у костей достигается прочность, лёгкость, упруго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Почему межклеточное вещество костей тверд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Какие вы знаете к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За счет чего кость растет в длину и толщину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1-09-11T08:51:1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