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EEB-9358-40D2-8E17-9CA9DECF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9AB-EACF-44F0-8444-FAB50178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76F8-121F-4665-BC9D-F250C821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0650-075F-4F9E-8762-0F52D98F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772-7359-4C4C-AABD-BAFCDB09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46B3-C877-4C30-96EF-1249F30D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AB88-79B7-4357-BFFE-FA3DC021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0BA-5C04-492D-87E9-8216BD42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0C8E-44B0-43D1-8B89-2965F2E5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E4B-74EA-493B-BF15-C6915524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CBE-DDDE-4DFB-8C70-BF0643DD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82DB-D267-4AF8-AFE9-45FE078B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94AB-F6D9-4D77-B753-469E33517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Georgia"/>
              </a:rPr>
              <a:t>Презентация к уроку биологии в 8 классе</a:t>
            </a: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Разработ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учитель химии и биологии Оболенской СОШ Серпуховского района Моск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Киселева Елен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201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Elephant"/>
                <a:ea typeface="Arial"/>
              </a:rPr>
              <a:t>§</a:t>
            </a: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 1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ответить на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Используем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В.Колесов, Р.Д.Маш, И.Н.Беляев «Биология. Человек. Учебник для 8 класса» - М.: Дрофа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Г.В.Чередникова «8 класс. Поурочные планы по учебнику Д.В.Колесова, Р.Д.Маша, И.Н.Беляева» - Волгоград: Учитель,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И.Мамонтов «Открытая биология. Мультимедийный курс» - М.: Физи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Bodoni MT Condensed"/>
              </a:rPr>
              <a:t>Тема урока:</a:t>
            </a:r>
            <a:r>
              <a:rPr b="1" lang="en-US" sz="4400" spc="-1" strike="noStrike">
                <a:solidFill>
                  <a:srgbClr val="000000"/>
                </a:solidFill>
                <a:latin typeface="Bodoni MT Condensed"/>
              </a:rPr>
              <a:t> 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«</a:t>
            </a:r>
            <a:r>
              <a:rPr b="1" i="1" lang="en-US" sz="4400" spc="-1" strike="noStrike">
                <a:solidFill>
                  <a:srgbClr val="990033"/>
                </a:solidFill>
                <a:latin typeface="Bodoni MT Condensed"/>
              </a:rPr>
              <a:t>Значение опорно-двигательной системы, её состав. Строение костей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2666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Arial"/>
              </a:rPr>
              <a:t>Задач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Узнать о строении и функциях опорно-двигатель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о строением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 классификацией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45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Georgia"/>
              </a:rPr>
              <a:t>Давайте вспомн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ие виды скелета у животных вам извест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отделы внутреннего ске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части осевого скелета, конечностей, поясов конеч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В чем преимущество внутреннего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овы основные функции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Bodoni MT Condensed"/>
              </a:rPr>
              <a:t>ОДС – костно-мышеч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Bodoni MT Condensed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ОПОР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ЗАЩИ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ДВИГ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Monotype Corsiva"/>
              </a:rPr>
              <a:t>ХИМИЧЕСКИЙ  СОСТАВ  КОС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00200"/>
            <a:ext cx="304776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Не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1600200"/>
            <a:ext cx="304812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4191120"/>
            <a:ext cx="1828800" cy="6858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Жи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91120"/>
            <a:ext cx="144792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191120"/>
            <a:ext cx="25146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ли 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рбонаты – 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сфаты –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114800"/>
            <a:ext cx="2133720" cy="14479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Друг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380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2819520"/>
            <a:ext cx="533520" cy="121896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715000" y="2819520"/>
            <a:ext cx="38088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Georgia"/>
              </a:rPr>
              <a:t>Микроскопическое строение 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8320" y="914400"/>
            <a:ext cx="3505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(остеоциты) погружены в твердое межклеточное вещество (костные пластинки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                       расположены концентрически-ми кругами (цилиндрами) вокруг кан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1781" t="3205" r="0" b="4006"/>
          <a:stretch/>
        </p:blipFill>
        <p:spPr>
          <a:xfrm>
            <a:off x="0" y="3581280"/>
            <a:ext cx="5943600" cy="327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2743200" y="2590920"/>
            <a:ext cx="3124080" cy="15228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276360" y="5257440"/>
            <a:ext cx="2361960" cy="22860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Georgia"/>
              </a:rPr>
              <a:t>Макроскопическое строение 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33920" y="10666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кост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актное вещество 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чатое 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3382920" cy="563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1752120" y="1600200"/>
            <a:ext cx="2133720" cy="2666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676160" y="3276360"/>
            <a:ext cx="2057400" cy="533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676520" y="2895480"/>
            <a:ext cx="2209680" cy="1981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Georgia"/>
              </a:rPr>
              <a:t>ВИДЫ К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362320"/>
            <a:ext cx="289584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Трубча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(конеч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2362320"/>
            <a:ext cx="342900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убч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тела позвон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руд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ости стоп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ист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4876920"/>
            <a:ext cx="28954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ло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кости череп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лопаточ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85640" y="1066680"/>
            <a:ext cx="76212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572000" y="1295280"/>
            <a:ext cx="76320" cy="297180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1066680"/>
            <a:ext cx="68580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1533600" cy="4724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19920" y="4191120"/>
            <a:ext cx="2971800" cy="2333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715000" y="2286000"/>
            <a:ext cx="3162240" cy="4019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219320" y="1295280"/>
            <a:ext cx="6962760" cy="4038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895480" y="1523880"/>
            <a:ext cx="35816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Monotype Corsiva"/>
              </a:rPr>
              <a:t>Ответим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у костей достигается прочность, лёгкость, упруг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чему межклеточное вещество костей тверд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Какие вы знаете к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кость растет в длину и толщину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09-11T08:51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