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7045-33DC-4D4E-B4E2-5FB970FE5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63EA-227F-446F-B166-7AC084267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DACF-B5C1-4EA3-BC31-BFD41629D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E396-3380-49E6-9B27-A6C63155B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A4FF-8A53-4515-967B-6208E31B2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CE36-8CFC-472B-8EC8-C1040D49C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A825-DF96-4F77-9831-2B4487D91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A863-9CF6-4853-8830-3F3616F02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5009-7060-48F4-8AFA-CEA213130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CBF0-483B-4ED1-AE95-9FC387B0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1873-31B5-4506-A732-CE8E1F71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8398-F2A1-4FFD-A8B9-DFC6BCEC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7E806-4347-44A6-8B87-2DD72E53F4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Georgia"/>
              </a:rPr>
              <a:t>Презентация к уроку биологии в 8 классе</a:t>
            </a:r>
            <a:r>
              <a:rPr b="0" lang="en-US" sz="4400" spc="-1" strike="noStrike">
                <a:solidFill>
                  <a:srgbClr val="990033"/>
                </a:solidFill>
                <a:latin typeface="Georg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Georgia"/>
              </a:rPr>
              <a:t>Разработа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Georgia"/>
              </a:rPr>
              <a:t>учитель химии и биологии Оболенской СОШ Серпуховского района Москов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Georgia"/>
              </a:rPr>
              <a:t>Киселева Елена Викто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Georgia"/>
              </a:rPr>
              <a:t>2011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cc"/>
                </a:solidFill>
                <a:latin typeface="Elephant"/>
                <a:ea typeface="Arial"/>
              </a:rPr>
              <a:t>§</a:t>
            </a:r>
            <a:r>
              <a:rPr b="1" i="1" lang="ru-RU" sz="3200" spc="-1" strike="noStrike">
                <a:solidFill>
                  <a:srgbClr val="9900cc"/>
                </a:solidFill>
                <a:latin typeface="Elephant"/>
                <a:ea typeface="Arial"/>
              </a:rPr>
              <a:t> 10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cc"/>
                </a:solidFill>
                <a:latin typeface="Elephant"/>
                <a:ea typeface="Arial"/>
              </a:rPr>
              <a:t>ответить на вопросы в конце параграф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2000"/>
                            </p:stCondLst>
                            <p:childTnLst>
                              <p:par>
                                <p:cTn id="4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Georgia"/>
              </a:rPr>
              <a:t>Используемая литерату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Georgia"/>
              </a:rPr>
              <a:t>Д.В.Колесов, Р.Д.Маш, И.Н.Беляев «Биология. Человек. Учебник для 8 класса» - М.: Дрофа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Georgia"/>
              </a:rPr>
              <a:t>Г.В.Чередникова «8 класс. Поурочные планы по учебнику Д.В.Колесова, Р.Д.Маша, И.Н.Беляева» - Волгоград: Учитель, 200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Georgia"/>
              </a:rPr>
              <a:t>Д.И.Мамонтов «Открытая биология. Мультимедийный курс» - М.: Физик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Bodoni MT Condensed"/>
              </a:rPr>
              <a:t>Тема урока:</a:t>
            </a:r>
            <a:r>
              <a:rPr b="1" lang="en-US" sz="4400" spc="-1" strike="noStrike">
                <a:solidFill>
                  <a:srgbClr val="000000"/>
                </a:solidFill>
                <a:latin typeface="Bodoni MT Condensed"/>
              </a:rPr>
              <a:t> </a:t>
            </a:r>
            <a:r>
              <a:rPr b="1" lang="en-US" sz="4400" spc="-1" strike="noStrike">
                <a:solidFill>
                  <a:srgbClr val="990033"/>
                </a:solidFill>
                <a:latin typeface="Bodoni MT Condensed"/>
              </a:rPr>
              <a:t>«</a:t>
            </a:r>
            <a:r>
              <a:rPr b="1" i="1" lang="en-US" sz="4400" spc="-1" strike="noStrike">
                <a:solidFill>
                  <a:srgbClr val="990033"/>
                </a:solidFill>
                <a:latin typeface="Bodoni MT Condensed"/>
              </a:rPr>
              <a:t>Значение опорно-двигательной системы, её состав. Строение костей</a:t>
            </a:r>
            <a:r>
              <a:rPr b="1" lang="en-US" sz="4400" spc="-1" strike="noStrike">
                <a:solidFill>
                  <a:srgbClr val="990033"/>
                </a:solidFill>
                <a:latin typeface="Bodoni MT Condensed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6840" y="26665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00cc"/>
                </a:solidFill>
                <a:uFillTx/>
                <a:latin typeface="Arial"/>
              </a:rPr>
              <a:t>Задачи уро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Узнать о строении и функциях опорно-двигательной сист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Познакомиться со строением к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Познакомиться с классификацией к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450"/>
                            </p:stCondLst>
                            <p:childTnLst>
                              <p:par>
                                <p:cTn id="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Georgia"/>
              </a:rPr>
              <a:t>Давайте вспомни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381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Georgia"/>
              </a:rPr>
              <a:t>Какие виды скелета у животных вам извест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Georgia"/>
              </a:rPr>
              <a:t>Назовите отделы внутреннего скел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Georgia"/>
              </a:rPr>
              <a:t>Назовите части осевого скелета, конечностей, поясов конечн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Georgia"/>
              </a:rPr>
              <a:t>В чем преимущество внутреннего скеле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Georgia"/>
              </a:rPr>
              <a:t>Каковы основные функции скеле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066680" y="1523880"/>
            <a:ext cx="72392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Bodoni MT Condensed"/>
              </a:rPr>
              <a:t>ОДС – костно-мышечная сист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Bodoni MT Condensed"/>
              </a:rPr>
              <a:t>ФУНК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Bodoni MT Condens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Bodoni MT Condensed"/>
              </a:rPr>
              <a:t>ОПОР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Bodoni MT Condens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Bodoni MT Condensed"/>
              </a:rPr>
              <a:t>ЗАЩИТ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Bodoni MT Condens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Bodoni MT Condensed"/>
              </a:rPr>
              <a:t>ДВИГАТЕ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038480" y="0"/>
            <a:ext cx="510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Monotype Corsiva"/>
              </a:rPr>
              <a:t>ХИМИЧЕСКИЙ  СОСТАВ  КОСТ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1600200"/>
            <a:ext cx="3047760" cy="1219320"/>
          </a:xfrm>
          <a:prstGeom prst="rect">
            <a:avLst/>
          </a:prstGeom>
          <a:solidFill>
            <a:srgbClr val="ffff99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Неорганиче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Ве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7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181480" y="1600200"/>
            <a:ext cx="3048120" cy="1219320"/>
          </a:xfrm>
          <a:prstGeom prst="rect">
            <a:avLst/>
          </a:prstGeom>
          <a:solidFill>
            <a:srgbClr val="ffff99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Орган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ве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00600" y="4191120"/>
            <a:ext cx="1828800" cy="685800"/>
          </a:xfrm>
          <a:prstGeom prst="rect">
            <a:avLst/>
          </a:prstGeom>
          <a:solidFill>
            <a:srgbClr val="ffff99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Жи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91120"/>
            <a:ext cx="1447920" cy="914400"/>
          </a:xfrm>
          <a:prstGeom prst="rect">
            <a:avLst/>
          </a:prstGeom>
          <a:solidFill>
            <a:srgbClr val="ffff99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4191120"/>
            <a:ext cx="2514600" cy="1447560"/>
          </a:xfrm>
          <a:prstGeom prst="rect">
            <a:avLst/>
          </a:prstGeom>
          <a:solidFill>
            <a:srgbClr val="ffff99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оли С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арбонаты – 1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Фосфаты – 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0" y="4114800"/>
            <a:ext cx="2133720" cy="1447920"/>
          </a:xfrm>
          <a:prstGeom prst="rect">
            <a:avLst/>
          </a:prstGeom>
          <a:solidFill>
            <a:srgbClr val="ffff99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Друг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органиче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ве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838080" y="2819520"/>
            <a:ext cx="457200" cy="1295280"/>
          </a:xfrm>
          <a:prstGeom prst="line">
            <a:avLst/>
          </a:prstGeom>
          <a:ln w="31680">
            <a:solidFill>
              <a:srgbClr val="9900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66880" y="2819520"/>
            <a:ext cx="457200" cy="1295280"/>
          </a:xfrm>
          <a:prstGeom prst="line">
            <a:avLst/>
          </a:prstGeom>
          <a:ln w="31680">
            <a:solidFill>
              <a:srgbClr val="9900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238880" y="2819520"/>
            <a:ext cx="533520" cy="1218960"/>
          </a:xfrm>
          <a:prstGeom prst="line">
            <a:avLst/>
          </a:prstGeom>
          <a:ln w="31680">
            <a:solidFill>
              <a:srgbClr val="9900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5715000" y="2819520"/>
            <a:ext cx="380880" cy="1295280"/>
          </a:xfrm>
          <a:prstGeom prst="line">
            <a:avLst/>
          </a:prstGeom>
          <a:ln w="31680">
            <a:solidFill>
              <a:srgbClr val="9900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33"/>
                </a:solidFill>
                <a:latin typeface="Georgia"/>
              </a:rPr>
              <a:t>Микроскопическое строение кост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38320" y="914400"/>
            <a:ext cx="3505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Клетки (остеоциты) погружены в твердое межклеточное вещество (костные пластинки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            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Клетки                        расположены концентрически-ми кругами (цилиндрами) вокруг кана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04920" y="1295280"/>
            <a:ext cx="4286160" cy="2857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rcRect l="1781" t="3205" r="0" b="4006"/>
          <a:stretch/>
        </p:blipFill>
        <p:spPr>
          <a:xfrm>
            <a:off x="0" y="3581280"/>
            <a:ext cx="5943600" cy="3276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 flipH="1">
            <a:off x="2743200" y="2590920"/>
            <a:ext cx="3124080" cy="152280"/>
          </a:xfrm>
          <a:prstGeom prst="line">
            <a:avLst/>
          </a:prstGeom>
          <a:ln w="6660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3276360" y="5257440"/>
            <a:ext cx="2361960" cy="228600"/>
          </a:xfrm>
          <a:prstGeom prst="line">
            <a:avLst/>
          </a:prstGeom>
          <a:ln w="6660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0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33"/>
                </a:solidFill>
                <a:latin typeface="Georgia"/>
              </a:rPr>
              <a:t>Макроскопическое строение ко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733920" y="106668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дкостн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мпактное вещество к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убчатое вещ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52280" y="990720"/>
            <a:ext cx="3382920" cy="56386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 flipH="1">
            <a:off x="1752120" y="1600200"/>
            <a:ext cx="2133720" cy="26668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1676160" y="3276360"/>
            <a:ext cx="2057400" cy="5331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1676520" y="2895480"/>
            <a:ext cx="2209680" cy="198144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8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5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2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Georgia"/>
              </a:rPr>
              <a:t>ВИДЫ КОСТ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2362320"/>
            <a:ext cx="289584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Трубчат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(конечност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34120" y="2362320"/>
            <a:ext cx="3429000" cy="1828800"/>
          </a:xfrm>
          <a:prstGeom prst="rect">
            <a:avLst/>
          </a:prstGeom>
          <a:solidFill>
            <a:srgbClr val="ffff99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Губчат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(тела позвонк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груди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кости стоп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кист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71800" y="4876920"/>
            <a:ext cx="289548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Пло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(кости череп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лопаточна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85640" y="1066680"/>
            <a:ext cx="762120" cy="1219320"/>
          </a:xfrm>
          <a:prstGeom prst="line">
            <a:avLst/>
          </a:prstGeom>
          <a:ln w="507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4572000" y="1295280"/>
            <a:ext cx="76320" cy="2971800"/>
          </a:xfrm>
          <a:prstGeom prst="line">
            <a:avLst/>
          </a:prstGeom>
          <a:ln w="507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248520" y="1066680"/>
            <a:ext cx="685800" cy="1219320"/>
          </a:xfrm>
          <a:prstGeom prst="line">
            <a:avLst/>
          </a:prstGeom>
          <a:ln w="507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80880" y="1905120"/>
            <a:ext cx="1533600" cy="4724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019920" y="4191120"/>
            <a:ext cx="2971800" cy="23335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5715000" y="2286000"/>
            <a:ext cx="3162240" cy="40194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1219320" y="1295280"/>
            <a:ext cx="6962760" cy="40388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2895480" y="1523880"/>
            <a:ext cx="358164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1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2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5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6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Monotype Corsiva"/>
              </a:rPr>
              <a:t>Ответим на вопро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За счет чего у костей достигается прочность, лёгкость, упругос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Почему межклеточное вещество костей твердо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Какие вы знаете ко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За счет чего кость растет в длину и толщину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1-09-11T08:51:12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