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950C-329A-45FF-BFB8-52501C16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7C02-A9C0-42A3-83BF-3EC91B43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DD48-22CF-45A0-A849-ED9ECC18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B74-4672-4595-878D-216FAFCB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9D0F-63D8-41CD-A44E-35D1FB9A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CA00-14B1-4F79-B01E-CFB4170F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57D5-5AC0-4101-BF22-D6389D6D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5C5A-09FD-4D13-B455-C0CBBD3B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F97E-9A74-49F6-8953-88B523A6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CFE8-30D1-477E-A9E8-8E8E35A7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1722-D3EF-4E48-B988-D025688A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038B-F4B6-434F-9C16-C5E448A3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712C-CDAC-41E9-90B4-5EC63751F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Georgia"/>
              </a:rPr>
              <a:t>Презентация к уроку биологии в 8 классе</a:t>
            </a:r>
            <a:r>
              <a:rPr b="0" lang="en-US" sz="4400" spc="-1" strike="noStrike">
                <a:solidFill>
                  <a:srgbClr val="990033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Разработ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учитель химии и биологии Оболенской СОШ Серпуховского района Моск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Киселева Елен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2011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Elephant"/>
                <a:ea typeface="Arial"/>
              </a:rPr>
              <a:t>§</a:t>
            </a:r>
            <a:r>
              <a:rPr b="1" i="1" lang="ru-RU" sz="3200" spc="-1" strike="noStrike">
                <a:solidFill>
                  <a:srgbClr val="9900cc"/>
                </a:solidFill>
                <a:latin typeface="Elephant"/>
                <a:ea typeface="Arial"/>
              </a:rPr>
              <a:t> 1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Elephant"/>
                <a:ea typeface="Arial"/>
              </a:rPr>
              <a:t>ответить на вопросы в конце парагра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Georgia"/>
              </a:rPr>
              <a:t>Используем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Д.В.Колесов, Р.Д.Маш, И.Н.Беляев «Биология. Человек. Учебник для 8 класса» - М.: Дрофа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Г.В.Чередникова «8 класс. Поурочные планы по учебнику Д.В.Колесова, Р.Д.Маша, И.Н.Беляева» - Волгоград: Учитель,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Д.И.Мамонтов «Открытая биология. Мультимедийный курс» - М.: Физи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Bodoni MT Condensed"/>
              </a:rPr>
              <a:t>Тема урока:</a:t>
            </a:r>
            <a:r>
              <a:rPr b="1" lang="en-US" sz="4400" spc="-1" strike="noStrike">
                <a:solidFill>
                  <a:srgbClr val="000000"/>
                </a:solidFill>
                <a:latin typeface="Bodoni MT Condensed"/>
              </a:rPr>
              <a:t> </a:t>
            </a:r>
            <a:r>
              <a:rPr b="1" lang="en-US" sz="4400" spc="-1" strike="noStrike">
                <a:solidFill>
                  <a:srgbClr val="990033"/>
                </a:solidFill>
                <a:latin typeface="Bodoni MT Condensed"/>
              </a:rPr>
              <a:t>«</a:t>
            </a:r>
            <a:r>
              <a:rPr b="1" i="1" lang="en-US" sz="4400" spc="-1" strike="noStrike">
                <a:solidFill>
                  <a:srgbClr val="990033"/>
                </a:solidFill>
                <a:latin typeface="Bodoni MT Condensed"/>
              </a:rPr>
              <a:t>Значение опорно-двигательной системы, её состав. Строение костей</a:t>
            </a:r>
            <a:r>
              <a:rPr b="1" lang="en-US" sz="4400" spc="-1" strike="noStrike">
                <a:solidFill>
                  <a:srgbClr val="990033"/>
                </a:solidFill>
                <a:latin typeface="Bodoni MT Condensed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2666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Arial"/>
              </a:rPr>
              <a:t>Задач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Узнать о строении и функциях опорно-двигатель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знакомиться со строением к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знакомиться с классификацией к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45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Georgia"/>
              </a:rPr>
              <a:t>Давайте вспомн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Какие виды скелета у животных вам извест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Назовите отделы внутреннего скел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Назовите части осевого скелета, конечностей, поясов конеч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В чем преимущество внутреннего скел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Каковы основные функции скел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7239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Bodoni MT Condensed"/>
              </a:rPr>
              <a:t>ОДС – костно-мышеч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Bodoni MT Condensed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ОПОР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ЗАЩИ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ДВИГ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Monotype Corsiva"/>
              </a:rPr>
              <a:t>ХИМИЧЕСКИЙ  СОСТАВ  КОСТ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00200"/>
            <a:ext cx="304776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Не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1600200"/>
            <a:ext cx="304812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рг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4191120"/>
            <a:ext cx="1828800" cy="68580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Жи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91120"/>
            <a:ext cx="1447920" cy="91440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191120"/>
            <a:ext cx="251460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ли 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рбонаты – 1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осфаты – 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114800"/>
            <a:ext cx="2133720" cy="14479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Друг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838080" y="2819520"/>
            <a:ext cx="45720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819520"/>
            <a:ext cx="45720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2819520"/>
            <a:ext cx="533520" cy="121896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715000" y="2819520"/>
            <a:ext cx="38088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Georgia"/>
              </a:rPr>
              <a:t>Микроскопическое строение к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8320" y="914400"/>
            <a:ext cx="3505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етки (остеоциты) погружены в твердое межклеточное вещество (костные пластинки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етки                        расположены концентрически-ми кругами (цилиндрами) вокруг кан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1781" t="3205" r="0" b="4006"/>
          <a:stretch/>
        </p:blipFill>
        <p:spPr>
          <a:xfrm>
            <a:off x="0" y="3581280"/>
            <a:ext cx="5943600" cy="327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2743200" y="2590920"/>
            <a:ext cx="3124080" cy="152280"/>
          </a:xfrm>
          <a:prstGeom prst="line">
            <a:avLst/>
          </a:prstGeom>
          <a:ln w="66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276360" y="5257440"/>
            <a:ext cx="2361960" cy="228600"/>
          </a:xfrm>
          <a:prstGeom prst="line">
            <a:avLst/>
          </a:prstGeom>
          <a:ln w="66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Georgia"/>
              </a:rPr>
              <a:t>Макроскопическое строение к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33920" y="106668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кост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актное вещество 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бчатое 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3382920" cy="5638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1752120" y="1600200"/>
            <a:ext cx="2133720" cy="26668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1676160" y="3276360"/>
            <a:ext cx="2057400" cy="5331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676520" y="2895480"/>
            <a:ext cx="2209680" cy="1981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Georgia"/>
              </a:rPr>
              <a:t>ВИДЫ К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2362320"/>
            <a:ext cx="289584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Трубча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(конеч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2362320"/>
            <a:ext cx="342900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убч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тела позвон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руд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ости стоп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ист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4876920"/>
            <a:ext cx="289548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ло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кости череп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лопаточ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85640" y="1066680"/>
            <a:ext cx="762120" cy="12193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572000" y="1295280"/>
            <a:ext cx="76320" cy="297180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1066680"/>
            <a:ext cx="685800" cy="12193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1533600" cy="4724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19920" y="4191120"/>
            <a:ext cx="2971800" cy="2333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715000" y="2286000"/>
            <a:ext cx="3162240" cy="4019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219320" y="1295280"/>
            <a:ext cx="6962760" cy="4038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2895480" y="1523880"/>
            <a:ext cx="35816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Monotype Corsiva"/>
              </a:rPr>
              <a:t>Ответим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За счет чего у костей достигается прочность, лёгкость, упруг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чему межклеточное вещество костей тверд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Какие вы знаете к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За счет чего кость растет в длину и толщину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09-11T08:51:1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