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A03D5-D523-421B-9DEB-2C82516EC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D1F56-0BCC-47D2-A46F-8D5377BC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96522-64EC-4ED3-8AC8-AC1119E67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D7994-FAE8-4F73-8017-15FB803D2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4F76-720E-4C15-8759-C5598C473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027A-060B-45E7-9FEE-7AEF7095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CB1C-C04D-499E-B7C1-D753F824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FBC7-36CB-45BC-9EE0-7903E99C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208F-95B6-4443-84D3-781821F6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235D-9EC3-44DD-ABC8-683C64A3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46AC-8C77-44FA-869D-4D39DBA9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8A1FD-E83A-42D8-B08F-1691EFE6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3AF9-9499-4F99-A3FF-D9214E9E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8B48-05C1-4DE3-ADE4-BF989CEC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19F6-EC38-4FC4-9524-33BFF602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C58C-03D6-403C-9160-D64A558B5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69D1-01D2-47D2-B460-FE0FCF17E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4DCD7-057D-4E8D-A065-399B7C60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60AD3-6C53-4211-A3C0-3872578F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46283-14F8-4D20-A932-31BB077B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983E1-BEAD-4368-80BD-CD526D35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EFFC2-A8AC-4D96-8E97-1FF1AFED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1935F-A7F5-4FF4-B1BD-D24A4942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71BC3-EC46-430B-A632-B0B9C707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80B8-759F-404B-A960-B9798A8970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EDE2-BE21-41EF-AF6B-5320024061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ekines6.narod.ru/kn25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uppyclub.ru/Data/Images/Content/2009/09/12.09.2009/001/img003.jp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guppyclub.ru/Data/Images/Content/2009/09/12.09.2009/001/img003.jpg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Генетика. Законы Г. Менделя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очему мы похожи на своих родителей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втор: Широченко Н. 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 биологии ГОУ ЦО 1456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сква 201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торой закон Менделя        (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закон расщепл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3117960"/>
            <a:ext cx="7920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знаки данного организма детерминируются парами внутренних наследственных факт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одной гамете может быть представлен лишь один из каждой пары таких факт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ъясн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1773360"/>
            <a:ext cx="417492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ноти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набор наследственных факторов данного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еноти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набор проявлений различных признаков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лле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варианты проявления признака (бывают доминантные и рецессивн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омозиг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организм с одинаковыми аллелями по данному призна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терозиг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организм с разными аллелями по данному признаку. В гетерозиготе фенотипически проявляется доминантный алл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0704"/>
          <a:stretch/>
        </p:blipFill>
        <p:spPr>
          <a:xfrm>
            <a:off x="4503600" y="1557360"/>
            <a:ext cx="445464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ъясн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1773360"/>
            <a:ext cx="417492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ноти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набор наследственных факторов данного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еноти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набор проявлений различных признаков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лле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варианты проявления признака (бывают доминантные и рецессивн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омозиг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организм с одинаковыми аллелями по данному призна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терозиг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организм с разными аллелями по данному признаку. В гетерозиготе фенотипически проявляется доминантный алл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445464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Картинка 26 из 2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572000" y="914400"/>
            <a:ext cx="413064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Картинка 31 из 2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0"/>
            <a:ext cx="556272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Картинка 31 из 26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81080" y="0"/>
            <a:ext cx="556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50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 называется наука, изучающая наследственность и изменчивос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нетика - относительно молодая наука. Официальной датой ее рождения считается 1900г., когда Г. де Фриз в Голландии, К. Корренс в Германии и Э. Чермак в Австрии независимо друг от друга "переоткрыли" законы наследования признаков, установленные Г. Менделем еще в 1865 году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029200" y="1371600"/>
            <a:ext cx="347976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27704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" y="1096920"/>
            <a:ext cx="4813200" cy="5356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64000" y="395280"/>
            <a:ext cx="3529080" cy="62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егор Иоганн Менд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дил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2 июня 1822 г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семье крестьянина в небольшой деревушке Хинчинцы на территории современной Чехии, а тогда - Австрийской импе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843 го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ендель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ступил послушником в Августинский монастырь в Брюнне (ныне Брно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851 го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стоятель отправил его изучать естественные науки 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нский университе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 января 188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ода отца Грегора (Иоганна Менделя) не стало. Он похоронен в родном Брюнне. Слава как ученого пришла к Менделю уже после смер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172720" cy="59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1409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ыты Менд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ыты Менделя были тщательно продуманы. Свои исследования он начал с изучения закономерностей наследования всего лишь одной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ары альтернативных признаков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оногибридны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зывают скрещивание, при котором анализируется наследование одной пары альтернативных призна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лассическим примером моногибридного скрещивания является скрещивание сортов гороха с желтыми и зелеными семенами. При скрещивании растения с желтыми и зелеными семенами, все потомки име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елтые сем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ндель провел скрещив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95280" y="1916280"/>
            <a:ext cx="3240000" cy="2089080"/>
            <a:chOff x="395280" y="1916280"/>
            <a:chExt cx="3240000" cy="208908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1042920" y="2205000"/>
              <a:ext cx="195264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395280" y="1916280"/>
              <a:ext cx="32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орт гороха с желтыми семена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861080" y="1916280"/>
            <a:ext cx="3240000" cy="2170080"/>
            <a:chOff x="4861080" y="1916280"/>
            <a:chExt cx="3240000" cy="217008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5508720" y="2276640"/>
              <a:ext cx="1981080" cy="18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4861080" y="1916280"/>
              <a:ext cx="32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орт гороха с зелеными семена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066920" y="2060640"/>
            <a:ext cx="360720" cy="358560"/>
            <a:chOff x="4066920" y="2060640"/>
            <a:chExt cx="360720" cy="358560"/>
          </a:xfrm>
        </p:grpSpPr>
        <p:sp>
          <p:nvSpPr>
            <p:cNvPr id="124" name=""/>
            <p:cNvSpPr/>
            <p:nvPr/>
          </p:nvSpPr>
          <p:spPr>
            <a:xfrm>
              <a:off x="4067280" y="2060640"/>
              <a:ext cx="36036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4066920" y="2060640"/>
              <a:ext cx="36036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08000" y="1989000"/>
            <a:ext cx="7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11640" y="3286080"/>
            <a:ext cx="0" cy="863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8000" y="5308560"/>
            <a:ext cx="1008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276720" y="4508640"/>
            <a:ext cx="5254560" cy="1800000"/>
            <a:chOff x="3276720" y="4508640"/>
            <a:chExt cx="5254560" cy="1800000"/>
          </a:xfrm>
        </p:grpSpPr>
        <p:pic>
          <p:nvPicPr>
            <p:cNvPr id="130" name="" descr=""/>
            <p:cNvPicPr/>
            <p:nvPr/>
          </p:nvPicPr>
          <p:blipFill>
            <a:blip r:embed="rId3"/>
            <a:stretch/>
          </p:blipFill>
          <p:spPr>
            <a:xfrm>
              <a:off x="3276720" y="4508640"/>
              <a:ext cx="195264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5651640" y="5033880"/>
              <a:ext cx="2879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 первом поколении были только растения с желтыми семенами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вило единообраз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1989000"/>
            <a:ext cx="799308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В моногибридном скрещивании первое поколение потомков являетс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единообразны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ая окраска семян является доминантной желтая или зелена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отомстве произошло расщепл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\4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желтые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се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\4 </a:t>
            </a:r>
            <a:r>
              <a:rPr b="0" i="1" lang="en-US" sz="2400" spc="-1" strike="noStrike">
                <a:solidFill>
                  <a:srgbClr val="33cc33"/>
                </a:solidFill>
                <a:latin typeface="Arial"/>
              </a:rPr>
              <a:t>зеленые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се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скрещивании гибридов первого поколения друг с другом, Мендель обнаружил, что в потомстве появляетс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асщепл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2205000"/>
            <a:ext cx="1008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211280" y="2276640"/>
            <a:ext cx="360720" cy="358560"/>
            <a:chOff x="4211280" y="2276640"/>
            <a:chExt cx="360720" cy="358560"/>
          </a:xfrm>
        </p:grpSpPr>
        <p:sp>
          <p:nvSpPr>
            <p:cNvPr id="137" name=""/>
            <p:cNvSpPr/>
            <p:nvPr/>
          </p:nvSpPr>
          <p:spPr>
            <a:xfrm>
              <a:off x="4211640" y="2276640"/>
              <a:ext cx="36036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211280" y="2276640"/>
              <a:ext cx="36036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763640" y="1700280"/>
            <a:ext cx="1584360" cy="1460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435640" y="1700280"/>
            <a:ext cx="1584360" cy="14605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427640" y="2997360"/>
            <a:ext cx="0" cy="86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68360" y="4941720"/>
            <a:ext cx="1008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067280" y="5477040"/>
            <a:ext cx="1225440" cy="1118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4068720" y="4149720"/>
            <a:ext cx="1224000" cy="1128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492360" y="4365720"/>
            <a:ext cx="64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0000"/>
                </a:solidFill>
                <a:latin typeface="Arial Black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/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Black"/>
              </a:rPr>
              <a:t>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92360" y="5589720"/>
            <a:ext cx="64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0000"/>
                </a:solidFill>
                <a:latin typeface="Arial Black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/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84720" y="4508640"/>
            <a:ext cx="28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и четверти семян имели доминантное проявление признака, а четверть семян – рецессив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2720" y="45752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9272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68360" y="765000"/>
            <a:ext cx="806436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ндель предложил следующую гипотезу для объяснения этих результа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 предположил, что каждое проявление признака определяетс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аследственными фактора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овые клетки содержат только один наследственный фактор, то есть они "чисты" (не содержат второго наследственного фактор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Гипотеза «чистоты гамет»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следственные факторы при образовании гибридов не смешиваются, а сохраняются в неизменном ви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21:08:50Z</dcterms:created>
  <dc:creator>Ura</dc:creator>
  <dc:description/>
  <dc:language>en-US</dc:language>
  <cp:lastModifiedBy>Василий</cp:lastModifiedBy>
  <dcterms:modified xsi:type="dcterms:W3CDTF">2011-10-02T09:29:38Z</dcterms:modified>
  <cp:revision>55</cp:revision>
  <dc:subject/>
  <dc:title>Генетика</dc:title>
</cp:coreProperties>
</file>