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C581C-26BC-4BBC-9688-938FDCD8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8520-9328-4456-AB8B-3C3F041D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06DB-765C-428B-9AAE-515C06BE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C80C-A042-421A-8A2A-A6B7C202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C99A-C441-47F3-96B2-54CC8788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7041-0C21-40CA-8FEE-2F4EE91E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BCC0-1629-4633-881F-AD3E827B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5866-E00C-41EF-B2CC-B144AAE9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19FF-9B31-4C03-9910-17EE6B82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D297-7676-4C3C-87FC-A3BF3A0F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B7C2-DD4D-4068-9988-93AEA49E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EFB5-9138-4513-9A98-B194B00C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D966-5395-422C-9757-A22A414A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D33E-FA18-4D2D-945F-704DBA4B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E611-39F2-4482-952D-439CB81D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9950-65C9-4773-8385-D0C17103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8DD6-9E11-40F3-A002-44F06547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AF29-9D4F-4012-A412-89137AEF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982D-A9D9-4DF0-8FBB-4F137B90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1A73-F848-4E74-809E-12F773C9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DA3E-143F-4A78-B2B1-A477B61C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BCC08-1533-4CD8-8E1F-BFE48B5C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20C7-5710-4CA2-9BA5-ECB1AD21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0D800-8308-412F-BB08-9D7297B3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4576-AABD-4AF4-9374-CA1E688F85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BCD4-4A74-4BCA-B608-31D2A87EA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ekines6.narod.ru/kn2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uppyclub.ru/Data/Images/Content/2009/09/12.09.2009/001/img00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guppyclub.ru/Data/Images/Content/2009/09/12.09.2009/001/img003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Генетика. Законы Г. Менделя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мы похожи на своих родителей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: Широченко Н. 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биологии ГОУ ЦО 1456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торой закон Менделя        (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закон расщепл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3117960"/>
            <a:ext cx="7920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знаки данного организма детерминируются парами внутренних наследственны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одной гамете может быть представлен лишь один из каждой пары таких ф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0704"/>
          <a:stretch/>
        </p:blipFill>
        <p:spPr>
          <a:xfrm>
            <a:off x="4503600" y="1557360"/>
            <a:ext cx="4454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ъяс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73360"/>
            <a:ext cx="417492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наследственных факторов данного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еноти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набор проявлений различных признаков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л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варианты проявления признака (бывают доминантные и рецессивн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м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одинаковыми аллелями по данному призна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терозиго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рганизм с разными аллелями по данному признаку. В гетерозиготе фенотипически проявляется доминантный алл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44546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Картинка 26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30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Картинка 31 из 2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Картинка 31 из 2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50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называется наука, изучающая наследственность и изменчивост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ка - относительно молодая наука. Официальной датой ее рождения считается 1900г., когда Г. де Фриз в Голландии, К. Корренс в Германии и Э. Чермак в Австрии независимо друг от друга "переоткрыли" законы наследования признаков, установленные Г. Менделем еще в 1865 год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47976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77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096920"/>
            <a:ext cx="4813200" cy="5356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64000" y="395280"/>
            <a:ext cx="352908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егор Иоганн Менд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л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2 июня 1822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емье крестьянина в небольшой деревушке Хинчинцы на территории современной Чехии, а тогда - Австрийской импе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4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дел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упил послушником в Августинский монастырь в Брюнне (ныне Брно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851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стоятель отправил его изучать естественные науки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ский университ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января 188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да отца Грегора (Иоганна Менделя) не стало. Он похоронен в родном Брюнне. Слава как ученого пришла к Менделю уже после сме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7272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1409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ыты Менд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ыты Менделя были тщательно продуманы. Свои исследования он начал с изучения закономерностей наследования всего лишь од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ары альтернативных признаков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ногибридн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зывают скрещивание, при котором анализируется наследование одной пары альтернативных призна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ассическим примером моногибридного скрещивания является скрещивание сортов гороха с желтыми и зелеными семенами. При скрещивании растения с желтыми и зелеными семенами, все потомки име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елтые с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ндель провел скрещив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95280" y="1916280"/>
            <a:ext cx="3240000" cy="2089080"/>
            <a:chOff x="395280" y="1916280"/>
            <a:chExt cx="3240000" cy="2089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042920" y="2205000"/>
              <a:ext cx="195264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52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желт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861080" y="1916280"/>
            <a:ext cx="3240000" cy="2170080"/>
            <a:chOff x="4861080" y="1916280"/>
            <a:chExt cx="3240000" cy="217008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508720" y="2276640"/>
              <a:ext cx="1981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61080" y="191628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орт гороха с зелеными семена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066920" y="2060640"/>
            <a:ext cx="360720" cy="358560"/>
            <a:chOff x="4066920" y="2060640"/>
            <a:chExt cx="360720" cy="358560"/>
          </a:xfrm>
        </p:grpSpPr>
        <p:sp>
          <p:nvSpPr>
            <p:cNvPr id="124" name=""/>
            <p:cNvSpPr/>
            <p:nvPr/>
          </p:nvSpPr>
          <p:spPr>
            <a:xfrm>
              <a:off x="406728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066920" y="2060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8000" y="198900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328608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530856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76720" y="4508640"/>
            <a:ext cx="5254560" cy="1800000"/>
            <a:chOff x="3276720" y="4508640"/>
            <a:chExt cx="5254560" cy="1800000"/>
          </a:xfrm>
        </p:grpSpPr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3276720" y="4508640"/>
              <a:ext cx="195264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651640" y="5033880"/>
              <a:ext cx="2879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первом поколении были только растения с желтыми семе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о единообра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989000"/>
            <a:ext cx="7993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В моногибридном скрещивании первое поколение потомков 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единообраз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окраска семян является доминантной желтая или зелен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томстве произошло расщепл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\4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желт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\4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зелены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с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крещивании гибридов первого поколения друг с другом, Мендель обнаружил, что в потомстве появ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щеп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2205000"/>
            <a:ext cx="1008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11280" y="2276640"/>
            <a:ext cx="360720" cy="358560"/>
            <a:chOff x="4211280" y="2276640"/>
            <a:chExt cx="360720" cy="358560"/>
          </a:xfrm>
        </p:grpSpPr>
        <p:sp>
          <p:nvSpPr>
            <p:cNvPr id="137" name=""/>
            <p:cNvSpPr/>
            <p:nvPr/>
          </p:nvSpPr>
          <p:spPr>
            <a:xfrm>
              <a:off x="421164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211280" y="2276640"/>
              <a:ext cx="360360" cy="358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1584360" cy="1460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1584360" cy="146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2997360"/>
            <a:ext cx="0" cy="86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68360" y="4941720"/>
            <a:ext cx="1008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67280" y="5477040"/>
            <a:ext cx="1225440" cy="1118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068720" y="4149720"/>
            <a:ext cx="1224000" cy="1128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360" y="4365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5589720"/>
            <a:ext cx="6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Black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Black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4720" y="4508640"/>
            <a:ext cx="28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 четверти семян имели доминантное проявление признака, а четверть семян – рецессив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57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2720" y="587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68360" y="76500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ндель предложил следующую гипотезу для объяснения этих результа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предположил, что каждое проявление признака определяе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следственными фактора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овые клетки содержат только один наследственный фактор, то есть они "чисты" (не содержат второго наследственного фактор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Гипотеза «чистоты гамет»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ледственные факторы при образовании гибридов не смешиваются, а сохраняются в неизменном ви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21:08:50Z</dcterms:created>
  <dc:creator>Ura</dc:creator>
  <dc:description/>
  <dc:language>en-US</dc:language>
  <cp:lastModifiedBy>Василий</cp:lastModifiedBy>
  <dcterms:modified xsi:type="dcterms:W3CDTF">2011-10-02T09:29:38Z</dcterms:modified>
  <cp:revision>55</cp:revision>
  <dc:subject/>
  <dc:title>Генетика</dc:title>
</cp:coreProperties>
</file>