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5.jpeg" ContentType="image/jpeg"/>
  <Override PartName="/ppt/media/image14.png" ContentType="image/png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10.png" ContentType="image/png"/>
  <Override PartName="/ppt/media/image6.jpeg" ContentType="image/jpeg"/>
  <Override PartName="/ppt/media/image8.png" ContentType="image/png"/>
  <Override PartName="/ppt/media/image7.jpeg" ContentType="image/jpe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854A26-74D2-43DB-89A3-5D34DFFE8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4E395E-97E2-4AEE-AE2D-615E3F4EE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0B4DF2-5400-4D81-96EC-C0AB8BBDB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B57AE0-641B-421A-9A8F-DF1985809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77CE5-B01C-43CD-9701-FBA484162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FD8FA-445D-4CA7-8497-7E49E38AD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5EC7D-4AEC-4CA0-A547-314F31798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E4D60-3B25-45FC-86BE-FDC2E5358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5EEAA-D5F5-4C5B-A60B-DB7336F3A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F7BA5-BC92-4F1D-B876-A3815EBDE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7CEF2-4AD0-4B07-BD88-8B29F33B5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395FC6-BBF1-44AD-9F51-27625061E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80DAE-6C26-4A1A-8792-36228191C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957A4-6A0A-4731-B61E-9926D7190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0575C-B11F-4372-B00A-45884CC83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60733-6C60-40A4-A118-2253B4983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6BE2D-17FC-4A47-BA9F-61BF01C57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065D6B-66A7-4E86-BF35-5F8CB0781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6E6A54-19A7-4388-A838-1A8E45566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B7CE94-B3F4-4784-B204-90CAB8953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1D991D-DD7E-4935-B447-85605AE7E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3EB0D5-99ED-4B7D-8F5F-EF788E706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269202-FC78-4DD6-8F79-16BAD3B69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E4E515-B357-4AFF-A55B-8787D1BD2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4580C-D511-420E-B138-B3A877A1399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6DBE5-BA1D-4CDA-B776-1DF48D2AF58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pekines6.narod.ru/kn25.jpg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guppyclub.ru/Data/Images/Content/2009/09/12.09.2009/001/img003.jpg" TargetMode="External"/><Relationship Id="rId2" Type="http://schemas.openxmlformats.org/officeDocument/2006/relationships/image" Target="../media/image13.jpeg"/><Relationship Id="rId3" Type="http://schemas.openxmlformats.org/officeDocument/2006/relationships/hyperlink" Target="http://www.guppyclub.ru/Data/Images/Content/2009/09/12.09.2009/001/img003.jpg" TargetMode="External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Генетика. Законы Г. Менделя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Почему мы похожи на своих родителей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втор: Широченко Н. Н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читель биологии ГОУ ЦО 1456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осква 2010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Второй закон Менделя        (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закон расщепления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84360" y="3117960"/>
            <a:ext cx="792000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ризнаки данного организма детерминируются парами внутренних наследственных фактор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 одной гамете может быть представлен лишь один из каждой пары таких фактор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бъясне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4000" y="1773360"/>
            <a:ext cx="4174920" cy="45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Генотип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 набор наследственных факторов данного организ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Фенотип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 набор проявлений различных признаков организ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ллел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 варианты проявления признака (бывают доминантные и рецессивны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Гомозигот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 организм с одинаковыми аллелями по данному признак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Гетерозигот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 организм с разными аллелями по данному признаку. В гетерозиготе фенотипически проявляется доминантный алл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10704"/>
          <a:stretch/>
        </p:blipFill>
        <p:spPr>
          <a:xfrm>
            <a:off x="4503600" y="1557360"/>
            <a:ext cx="4454640" cy="49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бъясне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24000" y="1773360"/>
            <a:ext cx="4174920" cy="45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Генотип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 набор наследственных факторов данного организ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Фенотип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 набор проявлений различных признаков организ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ллел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 варианты проявления признака (бывают доминантные и рецессивны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Гомозигот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 организм с одинаковыми аллелями по данному признак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Гетерозигот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 организм с разными аллелями по данному признаку. В гетерозиготе фенотипически проявляется доминантный алл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4356000" y="692280"/>
            <a:ext cx="4454640" cy="556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Картинка 26 из 26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260280"/>
            <a:ext cx="914400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00720" cy="685800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4572000" y="914400"/>
            <a:ext cx="413064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Картинка 31 из 26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981080" y="0"/>
            <a:ext cx="5562720" cy="685800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Картинка 31 из 262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981080" y="0"/>
            <a:ext cx="5562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1905120" y="0"/>
            <a:ext cx="5508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Как называется наука, изучающая наследственность и изменчивость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енетика - относительно молодая наука. Официальной датой ее рождения считается 1900г., когда Г. де Фриз в Голландии, К. Корренс в Германии и Э. Чермак в Австрии независимо друг от друга "переоткрыли" законы наследования признаков, установленные Г. Менделем еще в 1865 году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029200" y="1371600"/>
            <a:ext cx="3479760" cy="528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914400" y="990720"/>
            <a:ext cx="7277040" cy="52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324000" y="1096920"/>
            <a:ext cx="4813200" cy="535644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5364000" y="395280"/>
            <a:ext cx="3529080" cy="628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регор Иоганн Мендел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одилс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2 июня 1822 год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 семье крестьянина в небольшой деревушке Хинчинцы на территории современной Чехии, а тогда - Австрийской импер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1843 году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Мендель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оступил послушником в Августинский монастырь в Брюнне (ныне Брно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1851 году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настоятель отправил его изучать естественные науки в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енский университет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6 января 1884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года отца Грегора (Иоганна Менделя) не стало. Он похоронен в родном Брюнне. Слава как ученого пришла к Менделю уже после смер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39640" y="404640"/>
            <a:ext cx="8172720" cy="596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41409" fill="hold"/>
                                        <p:tgtEl>
                                          <p:spTgt spid="1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1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пыты Мендел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пыты Менделя были тщательно продуманы. Свои исследования он начал с изучения закономерностей наследования всего лишь одной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ары альтернативных признаков.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Моногибридны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называют скрещивание, при котором анализируется наследование одной пары альтернативных признак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лассическим примером моногибридного скрещивания является скрещивание сортов гороха с желтыми и зелеными семенами. При скрещивании растения с желтыми и зелеными семенами, все потомки имели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желтые семен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Мендель провел скрещивани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395280" y="1916280"/>
            <a:ext cx="3240000" cy="2089080"/>
            <a:chOff x="395280" y="1916280"/>
            <a:chExt cx="3240000" cy="2089080"/>
          </a:xfrm>
        </p:grpSpPr>
        <p:pic>
          <p:nvPicPr>
            <p:cNvPr id="118" name="" descr=""/>
            <p:cNvPicPr/>
            <p:nvPr/>
          </p:nvPicPr>
          <p:blipFill>
            <a:blip r:embed="rId1"/>
            <a:stretch/>
          </p:blipFill>
          <p:spPr>
            <a:xfrm>
              <a:off x="1042920" y="2205000"/>
              <a:ext cx="1952640" cy="180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"/>
            <p:cNvSpPr/>
            <p:nvPr/>
          </p:nvSpPr>
          <p:spPr>
            <a:xfrm>
              <a:off x="395280" y="1916280"/>
              <a:ext cx="3240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Сорт гороха с желтыми семенам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4861080" y="1916280"/>
            <a:ext cx="3240000" cy="2170080"/>
            <a:chOff x="4861080" y="1916280"/>
            <a:chExt cx="3240000" cy="2170080"/>
          </a:xfrm>
        </p:grpSpPr>
        <p:pic>
          <p:nvPicPr>
            <p:cNvPr id="121" name="" descr=""/>
            <p:cNvPicPr/>
            <p:nvPr/>
          </p:nvPicPr>
          <p:blipFill>
            <a:blip r:embed="rId2"/>
            <a:stretch/>
          </p:blipFill>
          <p:spPr>
            <a:xfrm>
              <a:off x="5508720" y="2276640"/>
              <a:ext cx="1981080" cy="180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"/>
            <p:cNvSpPr/>
            <p:nvPr/>
          </p:nvSpPr>
          <p:spPr>
            <a:xfrm>
              <a:off x="4861080" y="1916280"/>
              <a:ext cx="3240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Сорт гороха с зелеными семенам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4066920" y="2060640"/>
            <a:ext cx="360720" cy="358560"/>
            <a:chOff x="4066920" y="2060640"/>
            <a:chExt cx="360720" cy="358560"/>
          </a:xfrm>
        </p:grpSpPr>
        <p:sp>
          <p:nvSpPr>
            <p:cNvPr id="124" name=""/>
            <p:cNvSpPr/>
            <p:nvPr/>
          </p:nvSpPr>
          <p:spPr>
            <a:xfrm>
              <a:off x="4067280" y="2060640"/>
              <a:ext cx="360360" cy="3585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 flipH="1">
              <a:off x="4066920" y="2060640"/>
              <a:ext cx="360360" cy="3585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108000" y="1989000"/>
            <a:ext cx="75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211640" y="3286080"/>
            <a:ext cx="0" cy="863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08000" y="5308560"/>
            <a:ext cx="10080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 Black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3276720" y="4508640"/>
            <a:ext cx="5254560" cy="1800000"/>
            <a:chOff x="3276720" y="4508640"/>
            <a:chExt cx="5254560" cy="1800000"/>
          </a:xfrm>
        </p:grpSpPr>
        <p:pic>
          <p:nvPicPr>
            <p:cNvPr id="130" name="" descr=""/>
            <p:cNvPicPr/>
            <p:nvPr/>
          </p:nvPicPr>
          <p:blipFill>
            <a:blip r:embed="rId3"/>
            <a:stretch/>
          </p:blipFill>
          <p:spPr>
            <a:xfrm>
              <a:off x="3276720" y="4508640"/>
              <a:ext cx="1952640" cy="180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"/>
            <p:cNvSpPr/>
            <p:nvPr/>
          </p:nvSpPr>
          <p:spPr>
            <a:xfrm>
              <a:off x="5651640" y="5033880"/>
              <a:ext cx="28796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В первом поколении были только растения с желтыми семенами!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равило единообраз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11280" y="1989000"/>
            <a:ext cx="7993080" cy="39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«В моногибридном скрещивании первое поколение потомков является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единообразным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акая окраска семян является доминантной желтая или зелена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потомстве произошло расщеплен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3\4 </a:t>
            </a: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желтые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семе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1\4 </a:t>
            </a:r>
            <a:r>
              <a:rPr b="0" i="1" lang="en-US" sz="2400" spc="-1" strike="noStrike">
                <a:solidFill>
                  <a:srgbClr val="33cc33"/>
                </a:solidFill>
                <a:latin typeface="Arial"/>
              </a:rPr>
              <a:t>зеленые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семе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 скрещивании гибридов первого поколения друг с другом, Мендель обнаружил, что в потомстве появляется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расщеплени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50920" y="2205000"/>
            <a:ext cx="10080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 Black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4211280" y="2276640"/>
            <a:ext cx="360720" cy="358560"/>
            <a:chOff x="4211280" y="2276640"/>
            <a:chExt cx="360720" cy="358560"/>
          </a:xfrm>
        </p:grpSpPr>
        <p:sp>
          <p:nvSpPr>
            <p:cNvPr id="137" name=""/>
            <p:cNvSpPr/>
            <p:nvPr/>
          </p:nvSpPr>
          <p:spPr>
            <a:xfrm>
              <a:off x="4211640" y="2276640"/>
              <a:ext cx="360360" cy="3585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>
              <a:off x="4211280" y="2276640"/>
              <a:ext cx="360360" cy="3585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763640" y="1700280"/>
            <a:ext cx="1584360" cy="14605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5435640" y="1700280"/>
            <a:ext cx="1584360" cy="146052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427640" y="2997360"/>
            <a:ext cx="0" cy="8632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268360" y="4941720"/>
            <a:ext cx="100836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</a:t>
            </a:r>
            <a:r>
              <a:rPr b="0" lang="ru-RU" sz="3600" spc="-1" strike="noStrike" baseline="-25000">
                <a:solidFill>
                  <a:srgbClr val="000000"/>
                </a:solidFill>
                <a:latin typeface="Arial Black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4067280" y="5477040"/>
            <a:ext cx="1225440" cy="111888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4068720" y="4149720"/>
            <a:ext cx="1224000" cy="112860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3492360" y="4365720"/>
            <a:ext cx="648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baseline="30000">
                <a:solidFill>
                  <a:srgbClr val="000000"/>
                </a:solidFill>
                <a:latin typeface="Arial Black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/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 Black"/>
              </a:rPr>
              <a:t>4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492360" y="5589720"/>
            <a:ext cx="648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baseline="30000">
                <a:solidFill>
                  <a:srgbClr val="000000"/>
                </a:solidFill>
                <a:latin typeface="Arial Black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/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 Black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084720" y="4508640"/>
            <a:ext cx="2880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ри четверти семян имели доминантное проявление признака, а четверть семян – рецессивно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292720" y="457524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292720" y="587700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468360" y="765000"/>
            <a:ext cx="806436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ендель предложил следующую гипотезу для объяснения этих результато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н предположил, что каждое проявление признака определяется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наследственными факторам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ловые клетки содержат только один наследственный фактор, то есть они "чисты" (не содержат второго наследственного фактора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Гипотеза «чистоты гамет»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следственные факторы при образовании гибридов не смешиваются, а сохраняются в неизменном вид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5T21:08:50Z</dcterms:created>
  <dc:creator>Ura</dc:creator>
  <dc:description/>
  <dc:language>en-US</dc:language>
  <cp:lastModifiedBy>Василий</cp:lastModifiedBy>
  <dcterms:modified xsi:type="dcterms:W3CDTF">2011-10-02T09:29:38Z</dcterms:modified>
  <cp:revision>55</cp:revision>
  <dc:subject/>
  <dc:title>Генетика</dc:title>
</cp:coreProperties>
</file>