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93C63-18C6-4E99-BDC5-399EF47F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FE71E-E8DC-4884-A4FB-C82352A9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69345-F23B-4DFA-977F-3B2968F78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F7416-9059-4A63-8539-70D9F9B62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0450-1E56-4DD2-B7BF-93ABFA94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E697-9827-4489-BE96-3DAF7986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9E51-4B42-4702-9E11-EE7DAB08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20B7-9B3A-4B8E-A488-B5C3BE88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F0F1-2004-4B55-A0A3-D8DD787F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4262-1B19-46E5-9041-20338A2A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6708-7DFE-47A0-8C82-E878072B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B8841-0174-4CA6-9AF6-498E0047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55FA-480C-457F-BEB6-583038BE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CE44-6284-4DA0-80EF-574A6762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0AC8-4E91-4867-B5BD-AD4827A5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A277-128A-4AF2-A84C-9A074755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CC54-2402-4513-B34D-14FE6028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F7E80-EAD3-4824-BEED-F6275AA2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C9182-CAE2-404A-8DAF-258974A2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A721E-7189-4B9E-B3A0-06C90AB5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DD440-F278-453E-A280-9347330E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2A4DD-860D-4452-9BEF-73F4D719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A64AB-8DE9-47DF-BEDB-A8250C95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8011B-C185-472E-9FA3-0A287640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72A5-8BE2-4662-9842-85689A65B3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58F0-8BC7-4DEF-B1A8-3BB974D42F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ekines6.narod.ru/kn25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uppyclub.ru/Data/Images/Content/2009/09/12.09.2009/001/img003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guppyclub.ru/Data/Images/Content/2009/09/12.09.2009/001/img003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Генетика. Законы Г. Менделя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очему мы похожи на своих родителей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р: Широченко Н. 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биологии ГОУ ЦО 1456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сква 20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торой закон Менделя        (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закон расщепл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3117960"/>
            <a:ext cx="7920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знаки данного организма детерминируются парами внутренних наследственных фак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одной гамете может быть представлен лишь один из каждой пары таких фак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ъясн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1773360"/>
            <a:ext cx="41749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наследственных факторов данного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проявлений различных признаков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л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варианты проявления признака (бывают доминантные и рецессив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м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одинаковыми аллелями по данному призна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тер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разными аллелями по данному признаку. В гетерозиготе фенотипически проявляется доминантный алл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0704"/>
          <a:stretch/>
        </p:blipFill>
        <p:spPr>
          <a:xfrm>
            <a:off x="4503600" y="1557360"/>
            <a:ext cx="44546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ъясн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773360"/>
            <a:ext cx="41749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наследственных факторов данного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проявлений различных признаков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л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варианты проявления признака (бывают доминантные и рецессив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м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одинаковыми аллелями по данному призна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тер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разными аллелями по данному признаку. В гетерозиготе фенотипически проявляется доминантный алл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445464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Картинка 26 из 2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41306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Картинка 31 из 2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0"/>
            <a:ext cx="556272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Картинка 31 из 26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81080" y="0"/>
            <a:ext cx="556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50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называется наука, изучающая наследственность и изменчивос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етика - относительно молодая наука. Официальной датой ее рождения считается 1900г., когда Г. де Фриз в Голландии, К. Корренс в Германии и Э. Чермак в Австрии независимо друг от друга "переоткрыли" законы наследования признаков, установленные Г. Менделем еще в 1865 году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47976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27704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096920"/>
            <a:ext cx="4813200" cy="5356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64000" y="395280"/>
            <a:ext cx="3529080" cy="62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егор Иоганн Менд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л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2 июня 1822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семье крестьянина в небольшой деревушке Хинчинцы на территории современной Чехии, а тогда - Австрийской импе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843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ндел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ступил послушником в Августинский монастырь в Брюнне (ныне Брно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851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стоятель отправил его изучать естественные науки 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нский университе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 января 188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да отца Грегора (Иоганна Менделя) не стало. Он похоронен в родном Брюнне. Слава как ученого пришла к Менделю уже после смер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72720" cy="59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140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ыты Менд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ыты Менделя были тщательно продуманы. Свои исследования он начал с изучения закономерностей наследования всего лишь одно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ры альтернативных признаков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ногибридны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зывают скрещивание, при котором анализируется наследование одной пары альтернативных призна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лассическим примером моногибридного скрещивания является скрещивание сортов гороха с желтыми и зелеными семенами. При скрещивании растения с желтыми и зелеными семенами, все потомки име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елтые сем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ндель провел скрещив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95280" y="1916280"/>
            <a:ext cx="3240000" cy="2089080"/>
            <a:chOff x="395280" y="1916280"/>
            <a:chExt cx="3240000" cy="208908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1042920" y="2205000"/>
              <a:ext cx="195264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95280" y="191628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орт гороха с желтыми семен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861080" y="1916280"/>
            <a:ext cx="3240000" cy="2170080"/>
            <a:chOff x="4861080" y="1916280"/>
            <a:chExt cx="3240000" cy="217008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5508720" y="2276640"/>
              <a:ext cx="198108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861080" y="191628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орт гороха с зелеными семен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066920" y="2060640"/>
            <a:ext cx="360720" cy="358560"/>
            <a:chOff x="4066920" y="2060640"/>
            <a:chExt cx="360720" cy="358560"/>
          </a:xfrm>
        </p:grpSpPr>
        <p:sp>
          <p:nvSpPr>
            <p:cNvPr id="124" name=""/>
            <p:cNvSpPr/>
            <p:nvPr/>
          </p:nvSpPr>
          <p:spPr>
            <a:xfrm>
              <a:off x="4067280" y="2060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4066920" y="2060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08000" y="1989000"/>
            <a:ext cx="7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328608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5308560"/>
            <a:ext cx="1008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276720" y="4508640"/>
            <a:ext cx="5254560" cy="1800000"/>
            <a:chOff x="3276720" y="4508640"/>
            <a:chExt cx="5254560" cy="1800000"/>
          </a:xfrm>
        </p:grpSpPr>
        <p:pic>
          <p:nvPicPr>
            <p:cNvPr id="130" name="" descr=""/>
            <p:cNvPicPr/>
            <p:nvPr/>
          </p:nvPicPr>
          <p:blipFill>
            <a:blip r:embed="rId3"/>
            <a:stretch/>
          </p:blipFill>
          <p:spPr>
            <a:xfrm>
              <a:off x="3276720" y="4508640"/>
              <a:ext cx="195264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5651640" y="5033880"/>
              <a:ext cx="2879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 первом поколении были только растения с желтыми семенами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о единообраз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989000"/>
            <a:ext cx="79930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В моногибридном скрещивании первое поколение потомков являе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единообразны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ая окраска семян является доминантной желтая или зелена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отомстве произошло расщепл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\4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желты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се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\4 </a:t>
            </a:r>
            <a:r>
              <a:rPr b="0" i="1" lang="en-US" sz="2400" spc="-1" strike="noStrike">
                <a:solidFill>
                  <a:srgbClr val="33cc33"/>
                </a:solidFill>
                <a:latin typeface="Arial"/>
              </a:rPr>
              <a:t>зелены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се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скрещивании гибридов первого поколения друг с другом, Мендель обнаружил, что в потомстве появляе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сщепл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2205000"/>
            <a:ext cx="1008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211280" y="2276640"/>
            <a:ext cx="360720" cy="358560"/>
            <a:chOff x="4211280" y="2276640"/>
            <a:chExt cx="360720" cy="358560"/>
          </a:xfrm>
        </p:grpSpPr>
        <p:sp>
          <p:nvSpPr>
            <p:cNvPr id="137" name=""/>
            <p:cNvSpPr/>
            <p:nvPr/>
          </p:nvSpPr>
          <p:spPr>
            <a:xfrm>
              <a:off x="4211640" y="2276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211280" y="2276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1584360" cy="1460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435640" y="1700280"/>
            <a:ext cx="1584360" cy="1460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427640" y="2997360"/>
            <a:ext cx="0" cy="86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68360" y="4941720"/>
            <a:ext cx="1008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067280" y="5477040"/>
            <a:ext cx="1225440" cy="1118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068720" y="4149720"/>
            <a:ext cx="1224000" cy="1128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492360" y="4365720"/>
            <a:ext cx="6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Arial Black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/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Black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5589720"/>
            <a:ext cx="6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/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4720" y="4508640"/>
            <a:ext cx="28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и четверти семян имели доминантное проявление признака, а четверть семян – рецессив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2720" y="4575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9272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68360" y="765000"/>
            <a:ext cx="80643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ндель предложил следующую гипотезу для объяснения этих результа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 предположил, что каждое проявление признака определяе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следственными фактора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вые клетки содержат только один наследственный фактор, то есть они "чисты" (не содержат второго наследственного фактор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Гипотеза «чистоты гамет»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следственные факторы при образовании гибридов не смешиваются, а сохраняются в неизменном ви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21:08:50Z</dcterms:created>
  <dc:creator>Ura</dc:creator>
  <dc:description/>
  <dc:language>en-US</dc:language>
  <cp:lastModifiedBy>Василий</cp:lastModifiedBy>
  <dcterms:modified xsi:type="dcterms:W3CDTF">2011-10-02T09:29:38Z</dcterms:modified>
  <cp:revision>55</cp:revision>
  <dc:subject/>
  <dc:title>Генетика</dc:title>
</cp:coreProperties>
</file>