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E9811-2E11-4C19-9803-8C9595DD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68E7-A51C-40C3-AD1C-13B436E7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5A2C-885C-4F7C-9765-8623C0CA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E65A-11AF-4D6D-81EA-ABAB3D1C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0F64-EDB6-4A43-86BE-61D7DACF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4E27-B72F-4601-9AE7-FAE9DD0B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F429-9F2F-40E7-AE8D-9684EE05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9314-012A-4AF8-82FC-2FB08A70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012B-3288-4A89-B9CC-3D8AFCB0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845E-3AAB-4019-A3EA-B822FDEF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2559-3F24-4791-A41D-52E2B395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1CAA-BC79-4C0D-9C3C-DC22C3F3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7D21-DA98-41B8-833B-7FB4D1E2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EC50-3958-4427-A5AA-69C23F59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1537-0677-4270-8A33-D8596A62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AD57-622E-4C23-9DE1-6F0C3534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DAB9-7E3A-4603-B5B3-11AA28FB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812F1-6C1B-4943-8DBD-915EBF96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FDFE-A0FE-44AB-8F44-D4F4DEF4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947A-E800-4624-B0D7-B078025A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D111-44B1-4666-B8B6-9F100E56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C3A9-654C-492D-B056-87241B80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3312-23E8-4D0B-9682-14BB17CF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B286F-3F16-49E1-8F17-75C85131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6971-9C8A-4CE0-9C40-F0357750ED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728C-7456-473A-B1E1-4FC76E465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uppyclub.ru/Data/Images/Content/2009/09/12.09.2009/001/img00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uppyclub.ru/Data/Images/Content/2009/09/12.09.2009/001/img0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нетика. Законы Г. Мендел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мы похожи на своих родителе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ироченко Н. 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биологии ГОУ ЦО 145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закон Менделя      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кон расщеп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1796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ки данного организма детерминируются парами внутренних наследстве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дной гамете может быть представлен лишь один из каждой пары таки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454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Картинка 31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31 из 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наследственность и изменч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ка - относительно молодая наука. Официальной датой ее рождения считается 1900г., когда Г. де Фриз в Голландии, К. Корренс в Германии и Э. Чермак в Австрии независимо друг от друга "переоткрыли" законы наследования признаков, установленные Г. Менделем еще в 1865 год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797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395280"/>
            <a:ext cx="3529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января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отца Грегора (Иоганна Менделя) не стало. Он похоронен в родном Брюнне. Слава как ученого пришла к Менделю уже после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727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Менделя были тщательно продуманы. Свои исследования он начал с изучения закономерностей наследования всего лишь од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ы альтернативных признак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огибрид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 скрещивание, при котором анализируется наследование одной пары альтернативны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ческим примером моногибридного скрещивания является скрещивание сортов гороха с желтыми и зелеными семенами. При скрещивании растения с желтыми и зелеными семенами, все потомки им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тые с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ндель провел скрещ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24" name="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единооб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\4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\4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крещивании гибридов первого поколения друг с другом, Мендель обнаружил, что в потомстве по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37" name="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76500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дель предложил следующую гипотезу для объяснения эти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дположил, что каждое проявление признака опреде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ледстве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 клетки содержат только один наследственный фактор, то есть они "чисты" (не содержат второго наследственного факт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потеза «чистоты гамет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едственные факторы при образовании гибридов не смешиваются, а сохраняются в неизмен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Василий</cp:lastModifiedBy>
  <dcterms:modified xsi:type="dcterms:W3CDTF">2011-10-02T09:29:38Z</dcterms:modified>
  <cp:revision>55</cp:revision>
  <dc:subject/>
  <dc:title>Генетика</dc:title>
</cp:coreProperties>
</file>