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94FD5-3254-495F-91F2-55C9DB48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000A8-8739-42AC-BAC6-A3251201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0A746-B535-426C-9437-CAB1E0FD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E9F11-D2AD-4305-9FC1-51665681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7F5D-9933-437C-BAD1-40811D06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4529-0344-404C-A869-7C4A6E45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EB02-01A6-4A07-AFEE-ABC218D9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7AE3-02CC-49AF-A553-7ACC34BA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4C85-AA7B-4AF2-8FCE-036558CD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FE31-A80B-4D2D-A74F-974C73F8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4C5E-01E7-4F18-8333-A9C5A0C2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C27EC-5B5A-4717-A111-2A6369CA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73D9-DEC8-4821-BF7F-ECFE04C3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09F8-64E9-4BFB-B116-052303DC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EBB6-3D07-477D-8E4F-6E4B8199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4F88-561A-4134-BA36-F96FE739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D234-61AA-47A1-9897-A10FE367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C09D7-2E06-4074-A81D-8FA5AEBC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B36C1-CB8E-457E-A40D-BE0AF634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54F22-EB99-40D7-8458-B12BC023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4733B-50C4-4E32-9971-B52B6791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92E01-B229-4C62-951C-387BE3B9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9B44B-CED7-41C0-81DA-DB49B222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D9632-7A06-4FE3-997B-CEB91315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B3CA-B84A-4201-BE06-FF4AD13F01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EFA1-B4D0-413D-9617-E711CA5489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ekines6.narod.ru/kn25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uppyclub.ru/Data/Images/Content/2009/09/12.09.2009/001/img003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guppyclub.ru/Data/Images/Content/2009/09/12.09.2009/001/img003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Генетика. Законы Г. Менделя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чему мы похожи на своих родителей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: Широченко Н. 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биологии ГОУ ЦО 1456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сква 2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торой закон Менделя        (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закон расщепл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3117960"/>
            <a:ext cx="7920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знаки данного организма детерминируются парами внутренних наследственных ф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дной гамете может быть представлен лишь один из каждой пары таких ф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ъясн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773360"/>
            <a:ext cx="41749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наследственных факторов данного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проявлений различных признаков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л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арианты проявления признака (бывают доминантные и рецессив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м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одинаковыми аллелями по данному призна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тер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разными аллелями по данному признаку. В гетерозиготе фенотипически проявляется доминантный алл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0704"/>
          <a:stretch/>
        </p:blipFill>
        <p:spPr>
          <a:xfrm>
            <a:off x="4503600" y="1557360"/>
            <a:ext cx="44546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ъясн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773360"/>
            <a:ext cx="41749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наследственных факторов данного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проявлений различных признаков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л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арианты проявления признака (бывают доминантные и рецессив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м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одинаковыми аллелями по данному призна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тер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разными аллелями по данному признаку. В гетерозиготе фенотипически проявляется доминантный алл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445464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Картинка 26 из 2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1306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Картинка 31 из 2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Картинка 31 из 26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50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называется наука, изучающая наследственность и изменчивос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тика - относительно молодая наука. Официальной датой ее рождения считается 1900г., когда Г. де Фриз в Голландии, К. Корренс в Германии и Э. Чермак в Австрии независимо друг от друга "переоткрыли" законы наследования признаков, установленные Г. Менделем еще в 1865 год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47976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2770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096920"/>
            <a:ext cx="4813200" cy="5356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64000" y="395280"/>
            <a:ext cx="352908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егор Иоганн Менд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л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2 июня 1822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емье крестьянина в небольшой деревушке Хинчинцы на территории современной Чехии, а тогда - Австрийской импе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43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ндел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тупил послушником в Августинский монастырь в Брюнне (ныне Брно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51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стоятель отправил его изучать естественные науки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нский университ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января 188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а отца Грегора (Иоганна Менделя) не стало. Он похоронен в родном Брюнне. Слава как ученого пришла к Менделю уже после смер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7272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140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ыты Менд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ыты Менделя были тщательно продуманы. Свои исследования он начал с изучения закономерностей наследования всего лишь одно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ры альтернативных признаков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ногибридн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зывают скрещивание, при котором анализируется наследование одной пары альтернативных призна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ассическим примером моногибридного скрещивания является скрещивание сортов гороха с желтыми и зелеными семенами. При скрещивании растения с желтыми и зелеными семенами, все потомки име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елтые сем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ндель провел скрещив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95280" y="1916280"/>
            <a:ext cx="3240000" cy="2089080"/>
            <a:chOff x="395280" y="1916280"/>
            <a:chExt cx="3240000" cy="208908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1042920" y="2205000"/>
              <a:ext cx="19526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95280" y="191628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орт гороха с желтыми семен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861080" y="1916280"/>
            <a:ext cx="3240000" cy="2170080"/>
            <a:chOff x="4861080" y="1916280"/>
            <a:chExt cx="3240000" cy="217008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5508720" y="2276640"/>
              <a:ext cx="198108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861080" y="191628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орт гороха с зелеными семен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066920" y="2060640"/>
            <a:ext cx="360720" cy="358560"/>
            <a:chOff x="4066920" y="2060640"/>
            <a:chExt cx="360720" cy="358560"/>
          </a:xfrm>
        </p:grpSpPr>
        <p:sp>
          <p:nvSpPr>
            <p:cNvPr id="124" name=""/>
            <p:cNvSpPr/>
            <p:nvPr/>
          </p:nvSpPr>
          <p:spPr>
            <a:xfrm>
              <a:off x="4067280" y="2060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066920" y="2060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08000" y="1989000"/>
            <a:ext cx="7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328608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5308560"/>
            <a:ext cx="100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276720" y="4508640"/>
            <a:ext cx="5254560" cy="1800000"/>
            <a:chOff x="3276720" y="4508640"/>
            <a:chExt cx="5254560" cy="1800000"/>
          </a:xfrm>
        </p:grpSpPr>
        <p:pic>
          <p:nvPicPr>
            <p:cNvPr id="130" name="" descr=""/>
            <p:cNvPicPr/>
            <p:nvPr/>
          </p:nvPicPr>
          <p:blipFill>
            <a:blip r:embed="rId3"/>
            <a:stretch/>
          </p:blipFill>
          <p:spPr>
            <a:xfrm>
              <a:off x="3276720" y="4508640"/>
              <a:ext cx="19526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651640" y="5033880"/>
              <a:ext cx="287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 первом поколении были только растения с желтыми семенами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о единообра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989000"/>
            <a:ext cx="79930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В моногибридном скрещивании первое поколение потомков яв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единообразны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ая окраска семян является доминантной желтая или зелен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отомстве произошло расщеп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\4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желты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с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\4 </a:t>
            </a: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зелены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с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скрещивании гибридов первого поколения друг с другом, Мендель обнаружил, что в потомстве появ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сщепл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2205000"/>
            <a:ext cx="100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211280" y="2276640"/>
            <a:ext cx="360720" cy="358560"/>
            <a:chOff x="4211280" y="2276640"/>
            <a:chExt cx="360720" cy="358560"/>
          </a:xfrm>
        </p:grpSpPr>
        <p:sp>
          <p:nvSpPr>
            <p:cNvPr id="137" name=""/>
            <p:cNvSpPr/>
            <p:nvPr/>
          </p:nvSpPr>
          <p:spPr>
            <a:xfrm>
              <a:off x="4211640" y="2276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211280" y="2276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1584360" cy="1460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1584360" cy="1460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2997360"/>
            <a:ext cx="0" cy="86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4941720"/>
            <a:ext cx="1008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67280" y="5477040"/>
            <a:ext cx="1225440" cy="1118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068720" y="4149720"/>
            <a:ext cx="1224000" cy="1128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92360" y="436572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 Black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Black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558972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4720" y="4508640"/>
            <a:ext cx="28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и четверти семян имели доминантное проявление признака, а четверть семян – рецессив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457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9272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8360" y="765000"/>
            <a:ext cx="80643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ндель предложил следующую гипотезу для объяснения этих результа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предположил, что каждое проявление признака опреде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следственными фактор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вые клетки содержат только один наследственный фактор, то есть они "чисты" (не содержат второго наследственного фактор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ипотеза «чистоты гамет»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ледственные факторы при образовании гибридов не смешиваются, а сохраняются в неизменном ви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1:08:50Z</dcterms:created>
  <dc:creator>Ura</dc:creator>
  <dc:description/>
  <dc:language>en-US</dc:language>
  <cp:lastModifiedBy>Василий</cp:lastModifiedBy>
  <dcterms:modified xsi:type="dcterms:W3CDTF">2011-10-02T09:29:38Z</dcterms:modified>
  <cp:revision>55</cp:revision>
  <dc:subject/>
  <dc:title>Генетика</dc:title>
</cp:coreProperties>
</file>