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B76C9-19D5-4A26-92F9-324DAF71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59A73-68B5-4712-AFBE-42DC69E4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52469-DE93-4DAC-9680-3A621ECD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DF2A6-3AF3-4289-A199-6843D7A4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5BE4-D326-420F-A710-671F3846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E647-6A02-4D6C-A893-B8C593AA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372F-DC42-4D61-B03A-885C35EF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FD16-A884-4C68-866E-F12D33E6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A324-9B93-4583-936A-49442DCF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1945-07A9-4D2F-9CEA-DE43E97D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A074-185B-48FC-B5E1-78DB8DDB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5219E-C0D9-41B1-A0A8-B6F55C9E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ACA8-411E-465F-94CB-A276162D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DB45-13DD-438E-9180-5759EEFB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7C1D-73F1-47CC-B887-E3610A02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E500-16FE-471F-AA2E-59139BB8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0224-1EE5-4EAA-89D5-8AB59953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9BC5F-7077-4090-A354-A2A308A3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8A374-F969-46AE-8BA4-A2DA2874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06115-2D47-41A6-BE3D-F7068990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9567B-B772-485E-8461-B33F7C4C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90DDE-C2AF-4B06-B236-088D5364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D42F3-253D-4611-8E51-E544095C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9FAB4-780E-42CF-B21A-33F0CDFF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5308-56E5-40FA-8C6B-BD6D8621E4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C798-B693-414A-9340-F2A7CC9C3D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ekines6.narod.ru/kn2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uppyclub.ru/Data/Images/Content/2009/09/12.09.2009/001/img003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guppyclub.ru/Data/Images/Content/2009/09/12.09.2009/001/img003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Генетика. Законы Г. Мендел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чему мы похожи на своих родителей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: Широченко Н. 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биологии ГОУ ЦО 1456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сква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торой закон Менделя        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закон расщеп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3117960"/>
            <a:ext cx="7920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знаки данного организма детерминируются парами внутренних наследственны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дной гамете может быть представлен лишь один из каждой пары таки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0704"/>
          <a:stretch/>
        </p:blipFill>
        <p:spPr>
          <a:xfrm>
            <a:off x="4503600" y="1557360"/>
            <a:ext cx="4454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44546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Картинка 26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1306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Картинка 31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Картинка 31 из 26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называется наука, изучающая наследственность и изменчив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тика - относительно молодая наука. Официальной датой ее рождения считается 1900г., когда Г. де Фриз в Голландии, К. Корренс в Германии и Э. Чермак в Австрии независимо друг от друга "переоткрыли" законы наследования признаков, установленные Г. Менделем еще в 1865 год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47976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770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096920"/>
            <a:ext cx="4813200" cy="5356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64000" y="395280"/>
            <a:ext cx="352908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егор Иоганн Менд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2 июня 1822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емье крестьянина в небольшой деревушке Хинчинцы на территории современной Чехии, а тогда - Австрийской импе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43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дел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упил послушником в Августинский монастырь в Брюнне (ныне Брно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51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стоятель отправил его изучать естественные науки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ский университ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января 188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а отца Грегора (Иоганна Менделя) не стало. Он похоронен в родном Брюнне. Слава как ученого пришла к Менделю уже после сме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7272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40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ыты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ыты Менделя были тщательно продуманы. Свои исследования он начал с изучения закономерностей наследования всего лишь одн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ры альтернативных признаков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ногибрид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зывают скрещивание, при котором анализируется наследование одной пары альтернативных призна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ическим примером моногибридного скрещивания является скрещивание сортов гороха с желтыми и зелеными семенами. При скрещивании растения с желтыми и зелеными семенами, все потомки име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лтые сем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ндель провел скрещив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5280" y="1916280"/>
            <a:ext cx="3240000" cy="2089080"/>
            <a:chOff x="395280" y="1916280"/>
            <a:chExt cx="3240000" cy="208908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042920" y="2205000"/>
              <a:ext cx="19526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52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желт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861080" y="1916280"/>
            <a:ext cx="3240000" cy="2170080"/>
            <a:chOff x="4861080" y="1916280"/>
            <a:chExt cx="3240000" cy="217008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5508720" y="2276640"/>
              <a:ext cx="19810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8610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зелен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066920" y="2060640"/>
            <a:ext cx="360720" cy="358560"/>
            <a:chOff x="4066920" y="2060640"/>
            <a:chExt cx="360720" cy="358560"/>
          </a:xfrm>
        </p:grpSpPr>
        <p:sp>
          <p:nvSpPr>
            <p:cNvPr id="124" name=""/>
            <p:cNvSpPr/>
            <p:nvPr/>
          </p:nvSpPr>
          <p:spPr>
            <a:xfrm>
              <a:off x="406728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06692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08000" y="198900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328608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530856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76720" y="4508640"/>
            <a:ext cx="5254560" cy="1800000"/>
            <a:chOff x="3276720" y="4508640"/>
            <a:chExt cx="5254560" cy="1800000"/>
          </a:xfrm>
        </p:grpSpPr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3276720" y="4508640"/>
              <a:ext cx="19526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651640" y="5033880"/>
              <a:ext cx="28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первом поколении были только растения с желтыми семенам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о единообр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7993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В моногибридном скрещивании первое поколение потомков 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динообразн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окраска семян является доминантной желтая или зелен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томстве произошло расщеп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\4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желт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\4 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зелен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крещивании гибридов первого поколения друг с другом, Мендель обнаружил, что в потомстве по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щеп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20500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211280" y="2276640"/>
            <a:ext cx="360720" cy="358560"/>
            <a:chOff x="4211280" y="2276640"/>
            <a:chExt cx="360720" cy="358560"/>
          </a:xfrm>
        </p:grpSpPr>
        <p:sp>
          <p:nvSpPr>
            <p:cNvPr id="137" name=""/>
            <p:cNvSpPr/>
            <p:nvPr/>
          </p:nvSpPr>
          <p:spPr>
            <a:xfrm>
              <a:off x="421164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21128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1584360" cy="1460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1584360" cy="1460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2997360"/>
            <a:ext cx="0" cy="86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941720"/>
            <a:ext cx="1008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67280" y="5477040"/>
            <a:ext cx="1225440" cy="1118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068720" y="4149720"/>
            <a:ext cx="1224000" cy="11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92360" y="4365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5589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4720" y="4508640"/>
            <a:ext cx="28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и четверти семян имели доминантное проявление признака, а четверть семян – рецессив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57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9272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765000"/>
            <a:ext cx="8064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ндель предложил следующую гипотезу для объяснения этих результа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предположил, что каждое проявление признака опреде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следственными фактор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 клетки содержат только один наследственный фактор, то есть они "чисты" (не содержат второго наследственного фактор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ипотеза «чистоты гамет»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ледственные факторы при образовании гибридов не смешиваются, а сохраняются в неизменном ви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1:08:50Z</dcterms:created>
  <dc:creator>Ura</dc:creator>
  <dc:description/>
  <dc:language>en-US</dc:language>
  <cp:lastModifiedBy>Василий</cp:lastModifiedBy>
  <dcterms:modified xsi:type="dcterms:W3CDTF">2011-10-02T09:29:38Z</dcterms:modified>
  <cp:revision>55</cp:revision>
  <dc:subject/>
  <dc:title>Генетика</dc:title>
</cp:coreProperties>
</file>