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00FD6-23B3-4746-90DB-68F40FA8B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9DB4F-014C-4783-BCC2-B7D16650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399CB-BBD3-45A3-A1DE-E3F72997B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591DB-1114-4520-B3D9-E3E59094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1E64-BC57-4D62-9E4F-452EE9740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8C4C-DBC0-44E3-A9FC-4FFC3CDD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1A4C-3D67-43C2-BA3E-A87C9ABD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A7B6-ABC3-44B3-938B-CD16C7CA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034D-E74F-4C72-88BE-7250FF75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5710-A88F-4DEC-94F2-0C58F11E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22BA-A1F1-45B0-8337-8910C671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65BEF-C7E3-4A31-AB6B-564A7EB9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299F-D45B-42E0-897A-47A2A862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3131-CA05-4263-BC8A-31E46C2B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4232-680A-4C43-BEAF-0BD90807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8EF4-B466-4AE3-A59E-16A79E2DD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DE00-76C5-4012-BFED-7823CF70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D48FB-2124-4BE6-89C4-3F687878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0DA71-DBF7-4D5E-A88B-C6029555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63ACC-89A5-417E-830D-46A8E2FF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B9F08-437E-40E7-AC2D-8CB686A3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057B6-5885-4557-A604-119CB29D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5D1DE-9E4E-4D84-AB51-8A2F220F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33680-17EA-43EB-B714-E614B4AC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5F34-65E3-420B-82B6-C69F2F17E5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5CA8-A863-49BE-A69C-ECF30F427C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ekines6.narod.ru/kn25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uppyclub.ru/Data/Images/Content/2009/09/12.09.2009/001/img003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guppyclub.ru/Data/Images/Content/2009/09/12.09.2009/001/img003.jp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Генетика. Законы Г. Менделя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очему мы похожи на своих родителей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тор: Широченко Н. 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биологии ГОУ ЦО 1456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сква 20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торой закон Менделя        (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закон расщепл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3117960"/>
            <a:ext cx="7920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знаки данного организма детерминируются парами внутренних наследственных факт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одной гамете может быть представлен лишь один из каждой пары таких факт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ъясн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1773360"/>
            <a:ext cx="417492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наследственных факторов данного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проявлений различных признаков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л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варианты проявления признака (бывают доминантные и рецессив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ом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одинаковыми аллелями по данному призна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тер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разными аллелями по данному признаку. В гетерозиготе фенотипически проявляется доминантный алл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0704"/>
          <a:stretch/>
        </p:blipFill>
        <p:spPr>
          <a:xfrm>
            <a:off x="4503600" y="1557360"/>
            <a:ext cx="445464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ъясн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773360"/>
            <a:ext cx="417492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наследственных факторов данного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проявлений различных признаков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л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варианты проявления признака (бывают доминантные и рецессив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ом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одинаковыми аллелями по данному призна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тер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разными аллелями по данному признаку. В гетерозиготе фенотипически проявляется доминантный алл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445464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Картинка 26 из 2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572000" y="914400"/>
            <a:ext cx="413064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Картинка 31 из 2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0"/>
            <a:ext cx="556272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Картинка 31 из 26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81080" y="0"/>
            <a:ext cx="556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50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называется наука, изучающая наследственность и изменчивос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етика - относительно молодая наука. Официальной датой ее рождения считается 1900г., когда Г. де Фриз в Голландии, К. Корренс в Германии и Э. Чермак в Австрии независимо друг от друга "переоткрыли" законы наследования признаков, установленные Г. Менделем еще в 1865 году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347976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27704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1096920"/>
            <a:ext cx="4813200" cy="5356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64000" y="395280"/>
            <a:ext cx="3529080" cy="62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егор Иоганн Менд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л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2 июня 1822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семье крестьянина в небольшой деревушке Хинчинцы на территории современной Чехии, а тогда - Австрийской импе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843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ендел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ступил послушником в Августинский монастырь в Брюнне (ныне Брно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851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стоятель отправил его изучать естественные науки 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нский университе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 января 188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да отца Грегора (Иоганна Менделя) не стало. Он похоронен в родном Брюнне. Слава как ученого пришла к Менделю уже после смер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72720" cy="59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1409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ыты Менд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ыты Менделя были тщательно продуманы. Свои исследования он начал с изучения закономерностей наследования всего лишь одно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ары альтернативных признаков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ногибридны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зывают скрещивание, при котором анализируется наследование одной пары альтернативных призна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лассическим примером моногибридного скрещивания является скрещивание сортов гороха с желтыми и зелеными семенами. При скрещивании растения с желтыми и зелеными семенами, все потомки име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елтые сем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ндель провел скрещив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95280" y="1916280"/>
            <a:ext cx="3240000" cy="2089080"/>
            <a:chOff x="395280" y="1916280"/>
            <a:chExt cx="3240000" cy="208908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1042920" y="2205000"/>
              <a:ext cx="195264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95280" y="1916280"/>
              <a:ext cx="32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орт гороха с желтыми семен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861080" y="1916280"/>
            <a:ext cx="3240000" cy="2170080"/>
            <a:chOff x="4861080" y="1916280"/>
            <a:chExt cx="3240000" cy="217008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5508720" y="2276640"/>
              <a:ext cx="198108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861080" y="1916280"/>
              <a:ext cx="32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орт гороха с зелеными семен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066920" y="2060640"/>
            <a:ext cx="360720" cy="358560"/>
            <a:chOff x="4066920" y="2060640"/>
            <a:chExt cx="360720" cy="358560"/>
          </a:xfrm>
        </p:grpSpPr>
        <p:sp>
          <p:nvSpPr>
            <p:cNvPr id="124" name=""/>
            <p:cNvSpPr/>
            <p:nvPr/>
          </p:nvSpPr>
          <p:spPr>
            <a:xfrm>
              <a:off x="4067280" y="2060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4066920" y="2060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08000" y="1989000"/>
            <a:ext cx="7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11640" y="328608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00" y="5308560"/>
            <a:ext cx="1008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276720" y="4508640"/>
            <a:ext cx="5254560" cy="1800000"/>
            <a:chOff x="3276720" y="4508640"/>
            <a:chExt cx="5254560" cy="1800000"/>
          </a:xfrm>
        </p:grpSpPr>
        <p:pic>
          <p:nvPicPr>
            <p:cNvPr id="130" name="" descr=""/>
            <p:cNvPicPr/>
            <p:nvPr/>
          </p:nvPicPr>
          <p:blipFill>
            <a:blip r:embed="rId3"/>
            <a:stretch/>
          </p:blipFill>
          <p:spPr>
            <a:xfrm>
              <a:off x="3276720" y="4508640"/>
              <a:ext cx="195264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5651640" y="5033880"/>
              <a:ext cx="2879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 первом поколении были только растения с желтыми семенами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ило единообраз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989000"/>
            <a:ext cx="79930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В моногибридном скрещивании первое поколение потомков являе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единообразны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ая окраска семян является доминантной желтая или зелена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отомстве произошло расщепл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\4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желтые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се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\4 </a:t>
            </a:r>
            <a:r>
              <a:rPr b="0" i="1" lang="en-US" sz="2400" spc="-1" strike="noStrike">
                <a:solidFill>
                  <a:srgbClr val="33cc33"/>
                </a:solidFill>
                <a:latin typeface="Arial"/>
              </a:rPr>
              <a:t>зеленые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се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скрещивании гибридов первого поколения друг с другом, Мендель обнаружил, что в потомстве появляе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асщепл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2205000"/>
            <a:ext cx="1008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211280" y="2276640"/>
            <a:ext cx="360720" cy="358560"/>
            <a:chOff x="4211280" y="2276640"/>
            <a:chExt cx="360720" cy="358560"/>
          </a:xfrm>
        </p:grpSpPr>
        <p:sp>
          <p:nvSpPr>
            <p:cNvPr id="137" name=""/>
            <p:cNvSpPr/>
            <p:nvPr/>
          </p:nvSpPr>
          <p:spPr>
            <a:xfrm>
              <a:off x="4211640" y="2276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211280" y="2276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1584360" cy="1460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435640" y="1700280"/>
            <a:ext cx="1584360" cy="1460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427640" y="2997360"/>
            <a:ext cx="0" cy="86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68360" y="4941720"/>
            <a:ext cx="1008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067280" y="5477040"/>
            <a:ext cx="1225440" cy="1118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068720" y="4149720"/>
            <a:ext cx="1224000" cy="1128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492360" y="4365720"/>
            <a:ext cx="6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Arial Black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/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Black"/>
              </a:rPr>
              <a:t>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5589720"/>
            <a:ext cx="6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Arial Black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/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4720" y="4508640"/>
            <a:ext cx="28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и четверти семян имели доминантное проявление признака, а четверть семян – рецессив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2720" y="4575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9272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68360" y="765000"/>
            <a:ext cx="806436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ндель предложил следующую гипотезу для объяснения этих результа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 предположил, что каждое проявление признака определяе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следственными фактора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овые клетки содержат только один наследственный фактор, то есть они "чисты" (не содержат второго наследственного фактор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Гипотеза «чистоты гамет»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следственные факторы при образовании гибридов не смешиваются, а сохраняются в неизменном ви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21:08:50Z</dcterms:created>
  <dc:creator>Ura</dc:creator>
  <dc:description/>
  <dc:language>en-US</dc:language>
  <cp:lastModifiedBy>Василий</cp:lastModifiedBy>
  <dcterms:modified xsi:type="dcterms:W3CDTF">2011-10-02T09:29:38Z</dcterms:modified>
  <cp:revision>55</cp:revision>
  <dc:subject/>
  <dc:title>Генетика</dc:title>
</cp:coreProperties>
</file>