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15E8B-E7E7-47C5-A252-36E684E5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1FD5A-C088-4884-8DA5-E991AC71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50C18-E1F3-4FE2-9364-13448966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A3EB4-FA5E-4419-9237-C2B4934B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31D1-2D9B-46FE-B794-84F93EF4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8BB8-9975-48BF-923F-77F61453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7F13-317F-4165-8667-6ACF89A0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36A0-E2E5-4FAD-8147-152D7A27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35B4-B679-4F1B-B247-84358B9C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5E8B-3932-43F4-A755-34CF9D9B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F05D-2665-4B35-AC67-B6A8A237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9648E-7C90-4639-B591-4B6C3409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A130-3392-4442-8642-F18E1321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F7B2-9E5B-4BAE-89C8-81482F6D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3D03-778F-42EB-BE3C-6DE7B29C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E1D2-DE59-4B49-A857-16642181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9B61-9BC3-43B9-9426-FDE0B5F5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58B44-D05E-4753-879F-95DD3B90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E0CCD-AE06-4EEB-854C-42DE3140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6A9A6-6547-4D2A-A17D-402D1AE7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5D0DA-342C-446B-ABDA-C3B9E23E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788A9-804E-4B02-AB5E-EB6C012F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BF3AC-30BD-470E-9D2A-3859CA9A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6185F-967F-4B73-9CA7-1B093378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9F80-CBDC-4A75-877A-66D8C56995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4BBF-CA5E-4DB2-9290-F0D8713E6C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ekines6.narod.ru/kn25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uppyclub.ru/Data/Images/Content/2009/09/12.09.2009/001/img003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guppyclub.ru/Data/Images/Content/2009/09/12.09.2009/001/img003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Генетика. Законы Г. Менделя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чему мы похожи на своих родителей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: Широченко Н. 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биологии ГОУ ЦО 1456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сква 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торой закон Менделя        (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закон расщепл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3117960"/>
            <a:ext cx="7920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знаки данного организма детерминируются парами внутренних наследственны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дной гамете может быть представлен лишь один из каждой пары таки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яс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0704"/>
          <a:stretch/>
        </p:blipFill>
        <p:spPr>
          <a:xfrm>
            <a:off x="4503600" y="1557360"/>
            <a:ext cx="44546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яс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44546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Картинка 26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1306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Картинка 31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Картинка 31 из 26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называется наука, изучающая наследственность и изменчив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тика - относительно молодая наука. Официальной датой ее рождения считается 1900г., когда Г. де Фриз в Голландии, К. Корренс в Германии и Э. Чермак в Австрии независимо друг от друга "переоткрыли" законы наследования признаков, установленные Г. Менделем еще в 1865 год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47976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2770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096920"/>
            <a:ext cx="4813200" cy="5356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64000" y="395280"/>
            <a:ext cx="352908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егор Иоганн Менд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л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2 июня 1822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емье крестьянина в небольшой деревушке Хинчинцы на территории современной Чехии, а тогда - Австрийской импе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43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дел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тупил послушником в Августинский монастырь в Брюнне (ныне Брно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51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стоятель отправил его изучать естественные науки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ский университ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января 188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а отца Грегора (Иоганна Менделя) не стало. Он похоронен в родном Брюнне. Слава как ученого пришла к Менделю уже после смер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7272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40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ыты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ыты Менделя были тщательно продуманы. Свои исследования он начал с изучения закономерностей наследования всего лишь одно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ры альтернативных признаков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ногибридн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зывают скрещивание, при котором анализируется наследование одной пары альтернативных призна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ассическим примером моногибридного скрещивания является скрещивание сортов гороха с желтыми и зелеными семенами. При скрещивании растения с желтыми и зелеными семенами, все потомки име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елтые сем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ндель провел скрещив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95280" y="1916280"/>
            <a:ext cx="3240000" cy="2089080"/>
            <a:chOff x="395280" y="1916280"/>
            <a:chExt cx="3240000" cy="208908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042920" y="2205000"/>
              <a:ext cx="19526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952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рт гороха с желтыми семен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861080" y="1916280"/>
            <a:ext cx="3240000" cy="2170080"/>
            <a:chOff x="4861080" y="1916280"/>
            <a:chExt cx="3240000" cy="217008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5508720" y="2276640"/>
              <a:ext cx="198108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8610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рт гороха с зелеными семен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066920" y="2060640"/>
            <a:ext cx="360720" cy="358560"/>
            <a:chOff x="4066920" y="2060640"/>
            <a:chExt cx="360720" cy="358560"/>
          </a:xfrm>
        </p:grpSpPr>
        <p:sp>
          <p:nvSpPr>
            <p:cNvPr id="124" name=""/>
            <p:cNvSpPr/>
            <p:nvPr/>
          </p:nvSpPr>
          <p:spPr>
            <a:xfrm>
              <a:off x="4067280" y="2060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066920" y="2060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08000" y="198900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328608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530856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276720" y="4508640"/>
            <a:ext cx="5254560" cy="1800000"/>
            <a:chOff x="3276720" y="4508640"/>
            <a:chExt cx="5254560" cy="1800000"/>
          </a:xfrm>
        </p:grpSpPr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3276720" y="4508640"/>
              <a:ext cx="19526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651640" y="5033880"/>
              <a:ext cx="287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первом поколении были только растения с желтыми семенами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о единообра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7993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В моногибридном скрещивании первое поколение потомков яв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единообразны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я окраска семян является доминантной желтая или зелен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томстве произошло расщеп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\4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желт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\4 </a:t>
            </a: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зелен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скрещивании гибридов первого поколения друг с другом, Мендель обнаружил, что в потомстве появ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щепл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220500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211280" y="2276640"/>
            <a:ext cx="360720" cy="358560"/>
            <a:chOff x="4211280" y="2276640"/>
            <a:chExt cx="360720" cy="358560"/>
          </a:xfrm>
        </p:grpSpPr>
        <p:sp>
          <p:nvSpPr>
            <p:cNvPr id="137" name=""/>
            <p:cNvSpPr/>
            <p:nvPr/>
          </p:nvSpPr>
          <p:spPr>
            <a:xfrm>
              <a:off x="4211640" y="2276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211280" y="2276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1584360" cy="1460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1584360" cy="1460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2997360"/>
            <a:ext cx="0" cy="86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4941720"/>
            <a:ext cx="1008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67280" y="5477040"/>
            <a:ext cx="1225440" cy="1118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068720" y="4149720"/>
            <a:ext cx="1224000" cy="1128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92360" y="4365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Black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5589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4720" y="4508640"/>
            <a:ext cx="28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и четверти семян имели доминантное проявление признака, а четверть семян – рецессив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457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9272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765000"/>
            <a:ext cx="80643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ндель предложил следующую гипотезу для объяснения этих результа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предположил, что каждое проявление признака опреде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следственными фактор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 клетки содержат только один наследственный фактор, то есть они "чисты" (не содержат второго наследственного фактор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ипотеза «чистоты гамет»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ледственные факторы при образовании гибридов не смешиваются, а сохраняются в неизменном ви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1:08:50Z</dcterms:created>
  <dc:creator>Ura</dc:creator>
  <dc:description/>
  <dc:language>en-US</dc:language>
  <cp:lastModifiedBy>Василий</cp:lastModifiedBy>
  <dcterms:modified xsi:type="dcterms:W3CDTF">2011-10-02T09:29:38Z</dcterms:modified>
  <cp:revision>55</cp:revision>
  <dc:subject/>
  <dc:title>Генетика</dc:title>
</cp:coreProperties>
</file>